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91F-D003-4DE1-AB27-A07F89E2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55F-6445-41CB-AA36-AD353338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917-0DD7-40DC-80E0-8F761C70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37A-A956-4995-89B0-BB9123D9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970-F11A-4AA5-ADEA-F90111A6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601F-6308-4154-9ABD-477E80D2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66C-954E-4C3A-9EA6-42A14AF8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3B0-FD69-45CF-9656-868E7652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6F1F-9C74-4702-B69C-BE997139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5BB-EB42-4163-A11C-63F6854A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0EB-D349-4D2F-9BEA-6EE4A7BD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4F1-895A-469B-9F50-AE579448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304920" y="6095880"/>
          <a:ext cx="1311120" cy="3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6095880"/>
                    <a:ext cx="131112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7058160" y="6474960"/>
            <a:ext cx="15523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M. Kowalski, Sha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2C28455-720C-4537-A7D2-8D57AD8D8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C Frame Formats for 802.11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ohn M. Kowal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p Laboratories U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mas, Washingt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360) 817-75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owalskj@sharplabs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roposed Coding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33720" y="4419360"/>
            <a:ext cx="5486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=initialization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V= integrity check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 coding assu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1981080"/>
          <a:ext cx="7543800" cy="204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543800" cy="20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Coding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codes, e.g., RS(204, 188) work well, but are do not have small least common multiples of 4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s that are multiples of 48 work well with MPEG-2,  DVD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any fixed number on which the group agrees, e.g., RS(64,48)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ormat has benefits for aggregated MPDU’s  with TS packets: higher layers can selectively r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er code sizes for smaller PDU sizes can improve channel effici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V applications, delayed ACK/unacknowledged service 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can be met at high data rates, (higher MDSL), where they would be used any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ould prefer this ASAP (i.e., in the MAC), but we want to make sure any potential issues are addre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off of Where Coding i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ing Issues with 802.11a 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Co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an outer code option with the 802.11e/802.11a PHY woul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ly expand the market for 802.11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existing infrastructure networks to perform more reliab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competition from other wireless home network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ate delay/jitter management for Q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e less than 1 frame (PSDU) error in 10 hours ( or P[error] &lt; 1.15X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-9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1000 octet packets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nimal overhe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 compatible with OFDM  symbol siz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 consistent with 802.11/802.11a SIFS timing ru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 friendly to known AV forma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 friendly to any aggregation proposa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off of Where Coding is Done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12193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219320"/>
          <a:ext cx="8477280" cy="48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47728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off of Where Coding is Don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33360" y="1739880"/>
          <a:ext cx="8477280" cy="33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739880"/>
                    <a:ext cx="84772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8839080" y="1752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47960" y="22971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440" y="5130720"/>
            <a:ext cx="711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P[PLCP Header Failure]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3.15 X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4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t specified MDSL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 6 Mbps.  At higher rates, (due to higher MDS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falls of drasticall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off of Where Coding is Don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33360" y="1739880"/>
          <a:ext cx="8477280" cy="33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739880"/>
                    <a:ext cx="84772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8839080" y="17524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ing Issues in 802.11A 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1a,  aMACProcessingDelay &lt;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to 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trol field and address field to decide whether to A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be done before PHY-RXEnd.ind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done in time to issue PHY-TXStart.request for ACK so that beginning of ACK preamble reaches transmit antenna within ±10% of SIFS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ing Issues in 802.11A 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: it may not be feasible to use a decoder that decodes within aMACProcessingD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 we can use  delayed ACK/Unacknowledged fram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his be used in enhanced DC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18:41:50Z</dcterms:created>
  <dc:creator>John Kowalski</dc:creator>
  <dc:description/>
  <dc:language>en-US</dc:language>
  <cp:lastModifiedBy>Harry Worstell</cp:lastModifiedBy>
  <cp:lastPrinted>2000-11-03T23:58:34Z</cp:lastPrinted>
  <dcterms:modified xsi:type="dcterms:W3CDTF">2000-11-06T19:06:54Z</dcterms:modified>
  <cp:revision>13</cp:revision>
  <dc:subject/>
  <dc:title>Frame FEC Formats for 802.11a</dc:title>
</cp:coreProperties>
</file>