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F572-681A-4916-8E08-5AEBD45B2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4F65-C85F-4B80-AB44-71C798905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CE72-EB53-4060-A8CC-836A8E898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5EC1-9F87-41CB-A558-8C618D7CF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8F86-833C-447A-90B1-AB1DE9DF6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6026-0C1A-4F79-9A12-A6A6098E4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8792-011A-492C-926A-362CC43DB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2493-E9A2-4B28-81EE-3CB9D79A0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F7CA-1A3E-46F8-940D-05E059BD5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48B6-4B4F-4A48-8D45-D509E88D7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650D-86CA-466E-B938-52DDF808D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72C7-C74E-40D5-88A9-BE2BDFF77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1e5b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E582F-CABC-4D59-B4EA-6D12849E4E13}" type="datetime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44520" y="6319440"/>
            <a:ext cx="3584520" cy="2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IEEE802.1 LinkSec July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Allyn Romanow, Cisco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DA3A9-022E-4D05-AAC7-356D7B19ACA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4267080"/>
          </a:xfrm>
          <a:prstGeom prst="rect">
            <a:avLst/>
          </a:prstGeom>
          <a:solidFill>
            <a:srgbClr val="faf8ac"/>
          </a:solidFill>
          <a:ln w="3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ilding a MACsec Draf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yn Romanow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EEE802.1 LinkSec July 200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1e5b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solidFill>
            <a:srgbClr val="faf8ac"/>
          </a:solidFill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eneral comme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ook at sections of the docu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e where various issues can go in the do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swer ques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9022-EF1D-4F1D-A17F-EAC8F4606D6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20838D-0606-4E9E-8F3D-37CBB4F7F48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1e5b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af8ac"/>
          </a:solidFill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llow same pattern as other 802.1 standar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efulness of having a template to organize contribu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CBED7E-39DF-419A-817E-CAAF7B859A1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160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1e5b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utline – go over general flow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solidFill>
            <a:srgbClr val="faf8ac"/>
          </a:solidFill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Reference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Abbreviations, Conformanc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ure support of the MAC Service- </a:t>
            </a:r>
            <a:r>
              <a:rPr b="0" i="1" lang="en-US" sz="2800" spc="-1" strike="noStrike">
                <a:solidFill>
                  <a:srgbClr val="3333cc"/>
                </a:solidFill>
                <a:latin typeface="Comic Sans MS"/>
              </a:rPr>
              <a:t>what’s the point here, servi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inciples of Secure Network Operation- </a:t>
            </a:r>
            <a:r>
              <a:rPr b="0" i="1" lang="en-US" sz="2800" spc="-1" strike="noStrike">
                <a:solidFill>
                  <a:srgbClr val="3333cc"/>
                </a:solidFill>
                <a:latin typeface="Comic Sans MS"/>
              </a:rPr>
              <a:t>how does this fit, what happe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inciples of MAC Security Entity operation- </a:t>
            </a:r>
            <a:r>
              <a:rPr b="0" i="1" lang="en-US" sz="2800" spc="-1" strike="noStrike">
                <a:solidFill>
                  <a:srgbClr val="3333cc"/>
                </a:solidFill>
                <a:latin typeface="Comic Sans MS"/>
              </a:rPr>
              <a:t>details of the solution, how it happe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13AC31-E757-4C51-A3B5-2DBF2426897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563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1e5b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solidFill>
            <a:srgbClr val="faf8ac"/>
          </a:solidFill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C Security Protocol (MACsec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coding of MACsec PDUs - </a:t>
            </a:r>
            <a:r>
              <a:rPr b="0" i="1" lang="en-US" sz="3200" spc="-1" strike="noStrike">
                <a:solidFill>
                  <a:srgbClr val="3333cc"/>
                </a:solidFill>
                <a:latin typeface="Comic Sans MS"/>
              </a:rPr>
              <a:t>boilerpla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nagement of MAC Secur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nagement Protocol - </a:t>
            </a:r>
            <a:r>
              <a:rPr b="0" i="1" lang="en-US" sz="3200" spc="-1" strike="noStrike">
                <a:solidFill>
                  <a:srgbClr val="3333cc"/>
                </a:solidFill>
                <a:latin typeface="Comic Sans MS"/>
              </a:rPr>
              <a:t>boilerpla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nex A PICS - </a:t>
            </a:r>
            <a:r>
              <a:rPr b="0" i="1" lang="en-US" sz="3200" spc="-1" strike="noStrike">
                <a:solidFill>
                  <a:srgbClr val="3333cc"/>
                </a:solidFill>
                <a:latin typeface="Comic Sans MS"/>
              </a:rPr>
              <a:t>boilerpla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nex Y Bibliograph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ther Annexes – </a:t>
            </a:r>
            <a:r>
              <a:rPr b="0" i="1" lang="en-US" sz="3200" spc="-1" strike="noStrike">
                <a:solidFill>
                  <a:srgbClr val="3333cc"/>
                </a:solidFill>
                <a:latin typeface="Comic Sans MS"/>
              </a:rPr>
              <a:t>context, explana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nex Z Informative Commentary – </a:t>
            </a:r>
            <a:r>
              <a:rPr b="0" i="1" lang="en-US" sz="3200" spc="-1" strike="noStrike">
                <a:solidFill>
                  <a:srgbClr val="3333cc"/>
                </a:solidFill>
                <a:latin typeface="Comic Sans MS"/>
              </a:rPr>
              <a:t>history, unresolved issu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2C80D4-2AFA-42CD-9DD6-EFEC744FD75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1e5b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ere some issues g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solidFill>
            <a:srgbClr val="faf8ac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cope – 1.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quirements – some in cl01, full discussion in annex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uthentication – in another document, with pointer in ch. 6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ultipoint - ch. 7 Principles of Network Oper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ultihop – ch. 7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0DE108-02FF-40FA-9134-2D3B5575C4A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8T19:57:02Z</dcterms:created>
  <dc:creator>Allyn Romanow (allyn)</dc:creator>
  <dc:description/>
  <dc:language>en-US</dc:language>
  <cp:lastModifiedBy>Allyn Romanow (allyn)</cp:lastModifiedBy>
  <dcterms:modified xsi:type="dcterms:W3CDTF">2003-07-21T21:14:43Z</dcterms:modified>
  <cp:revision>17</cp:revision>
  <dc:subject/>
  <dc:title>Toward a MACsec Draft</dc:title>
</cp:coreProperties>
</file>