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7CFB-9916-4AD3-B030-A10C394D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C048-75D9-47E2-BC4D-ADE98378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ECAD-10BB-4A75-8170-07EF862F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D60C-68C7-4AFB-8D88-8FE9A1DD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0F3F-04EC-4883-8BA2-F915C29F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8033-D4F0-4D10-A5AA-7419EDA6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3049-E3CC-4A3C-9B8F-8C59B867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E658-CB49-4B60-8DA8-ECEE0CD5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9E36-2953-4748-9ED2-A15DA6E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FA79-E43A-4B28-B596-4EDCA34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6ABA-CEFD-4EA1-8F29-67EB7FA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EE54-A0D5-4539-9321-524D4CA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FF4D53-C0FD-4580-B31E-5F0AA687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05320" y="228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.: IEEE 802.11-03/492r0-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uthentication layer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ecur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67AB-CE8A-4F99-B989-6561CD6C01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parties authenticate to each other within a single authent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uthentication process may be called ‘mutual’ and still the following issues are undef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one or both identities ex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ly one identity is exchanged, is the other identity implied by knowledge of a symmetric ke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/are the identities exchange sec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wo identities are securely exchanged, are they protected with one or two k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wo identities, is there one identity exchange, two intertwined exchanges, or two serial or parallel ex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59E9-F6C4-4BF6-A4FD-B8896678D9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the applicability of ‘Mutual Authentication’ to authentication algorithms and how they act on Identity b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lows and channels are silent on mut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ity is NOT established by a bi-directional or coupled unidirectiona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to delineate the requirement of mutual authentication for a system, like in 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5DB6-271F-4E89-BC62-67800F48C0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features that further typify a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both identities explicitly included within the algorithm or is one implicit as in 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of the identities not bound to its key, but protected with the other party’s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76FE-5395-4B01-A9BD-1CF46065E3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rminology would be appropriate to describe a particular mutual authentic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, 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Un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, Un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xplicit means identity is included in the protocol and Secure means the identity is cryptographicl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CA95-FF57-4623-BA21-ACDE451AE2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Assoc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A is a set of policy and key(s) used to prot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ccessful authentication creates a unique SA for the two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w authentication creates a new, unique,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 is used to group all the information related to the authentication so that everything can be properly protected within the party and deleted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A can be bi-directional or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keying material in bi-drectional, separate keying material in uni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69FB-5263-4D21-9949-435F32DF16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has grown beyond a small component of security to a self-standing pillar of secure system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lithic authentication systems are being replaced by componentiz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layered model fo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s, channels, algorithms, and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taxonomy fo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ffort is limited to two-par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A30F-0D00-4597-93C5-CB0FC69F8B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uthentic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authentication systems these layers are not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nnel is frequently not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vent of the channel (e.g. EAP) that makes this well defined model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1828800"/>
            <a:ext cx="7773840" cy="2133360"/>
            <a:chOff x="685800" y="1828800"/>
            <a:chExt cx="7773840" cy="2133360"/>
          </a:xfrm>
        </p:grpSpPr>
        <p:sp>
          <p:nvSpPr>
            <p:cNvPr id="52" name=""/>
            <p:cNvSpPr/>
            <p:nvPr/>
          </p:nvSpPr>
          <p:spPr>
            <a:xfrm>
              <a:off x="685800" y="3429000"/>
              <a:ext cx="77724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hentication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2895480"/>
              <a:ext cx="7772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hentication Channel [optional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1960"/>
              <a:ext cx="25909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720" y="2361960"/>
              <a:ext cx="25905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67280" y="2361960"/>
              <a:ext cx="25909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1828800"/>
              <a:ext cx="19461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31960" y="1828800"/>
              <a:ext cx="194652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8480" y="1828800"/>
              <a:ext cx="19461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21400" y="1828800"/>
              <a:ext cx="193824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62DA-2E41-46E1-8D51-92CC1D9035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 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grou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irectional, Bi-directional, Coupled uni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irectional has two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-directional as a single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both the Initiator 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s directional reversal and race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unidirectional that both must complete before the authentication is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race condition and direction re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E09A-4CBB-4775-960C-0A322728DF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directional Versus Bi-dire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irectional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cut 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from smaller Initiator state machin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party may ini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‘emulate’ unidirectional through rol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d unidirectional NOT equivalent to bi-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9066-BBA4-49C5-B11D-2E66E48A5F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ing Ident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on d'êt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stablishing Id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ies are established by a cryptograph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s can be based on Symmetric or Asymmetric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06E0-1EAF-4090-B147-9B008DDA2E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ure of Cryptographic B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 has the key, but no proof of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y is tied to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B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o 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ames to 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o A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E159-89AB-4885-B319-56012A1EB9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bindings in an authentication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designed algorithm will maximize the trust for each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an authentic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dentity with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a singl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keys in a nes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2358-0019-402D-9077-43C5C93F14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uthentication algorithm mux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further the development and use of good authentica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893B-5DBC-49D2-8AED-A4081FDAAF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0:05:06Z</dcterms:created>
  <dc:creator>Robert Moskowitz</dc:creator>
  <dc:description/>
  <dc:language>en-US</dc:language>
  <cp:lastModifiedBy>Dolors Sala</cp:lastModifiedBy>
  <cp:lastPrinted>2000-08-12T19:25:02Z</cp:lastPrinted>
  <dcterms:modified xsi:type="dcterms:W3CDTF">2003-07-21T20:12:55Z</dcterms:modified>
  <cp:revision>18</cp:revision>
  <dc:subject/>
  <dc:title>An Authentication layering model</dc:title>
</cp:coreProperties>
</file>