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9B4-CA7A-4685-8D08-717CC234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A42-10B2-410B-8737-36EBD85E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84B-BCED-4A15-B74C-40626A07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4BD-3CA6-42B0-A18D-52459776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BB7-7826-4FDD-B8DB-9CD56224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468-C09E-43A2-9E4C-80530DA7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636-7529-47C9-80DD-1D55B790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AE7-4745-4239-80E2-AA6BED08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E3A-1D6D-4824-B865-25240E46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328-A8EE-431D-8B4F-8DD313A6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525-81CF-432C-B6B7-7D75C5BF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85F-C37C-4F85-BF77-2B4B0380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166680"/>
            <a:ext cx="7905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.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0800" y="6474960"/>
            <a:ext cx="13096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Johnston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944E8E1-9F57-4856-B795-E3873EC88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861080" y="396000"/>
            <a:ext cx="360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802_Handoff_Linksec_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010280" y="685800"/>
            <a:ext cx="1828800" cy="17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vid.johnston@ieee.org" TargetMode="External"/><Relationship Id="rId2" Type="http://schemas.openxmlformats.org/officeDocument/2006/relationships/hyperlink" Target="mailto:dj.johnston@intel.co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 Handof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kSec Handoff Issu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Johns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avid.johnston@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j.johnston@inte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F12-7763-4C6E-AC47-6D27BB5FD90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locking behavior of 802.1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allows access to the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access to all LSAPs above the LLC except for EAPoL until authentication h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only MAC signalling and EAP available prior to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takes advantage of the common MSDU transport capability of different 802 netwo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chanism applicable to diverse 802 network types could not be codified in existing MAC signaling or 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urrent 802 authentication practice impacts on the transfer of handoff related information prior to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16B-7B0B-4678-80FE-518D2C59D7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 – auth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to attempting to authenticate, the mobile node may want to know whether it is worth the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AP support my L3 network nee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I have a payment method, auth protocol, subscription that will work on the candidate 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y QoS needs be m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ould be nice for the conduit for this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not be blocked prior to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applicable to diverse 802 network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122-E1AE-42F7-8F42-95B22F6A52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tending the auth model be extended to support Hand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set of pre authentication unblocked things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sign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P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sign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P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 sensitive handoff relat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AC8-2ABC-4347-92CA-88FA5E90B9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the unblocked fork of 802.1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3048120"/>
            <a:ext cx="1219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2971800"/>
            <a:ext cx="411480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2209680"/>
            <a:ext cx="129528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P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514600"/>
            <a:ext cx="3049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514600"/>
            <a:ext cx="30456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2514600"/>
            <a:ext cx="3049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7339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523520" y="45720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4876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53341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952880" y="365724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53341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209680"/>
            <a:ext cx="228600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en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off Informatio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col/nego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514600"/>
            <a:ext cx="3049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D39-01B1-41E5-A628-4445BA780E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: One requi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make it impossible for the definition of the distribution of media independent handoff decision data prior to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mobile nodes to handoff based on goo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mobile nodes to choose who they should bother authenticating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427-87FD-4ED2-83B8-6D8AD717BE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 of 802 Handoff ECSG Launched, May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day –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 –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–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Attendance – 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 Separate organizations repres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A29-6741-41D1-BFAB-AAA19A9141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i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Johnston, 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uctant Recording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Lin, 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, volunteer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7AC-DDBE-48A9-B2F8-C1625C4A2F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possibility of specifying a common handoff framework application to 802 standards, wired and wi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placement of work (In a new working group or 802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ed to draft a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1B6-DEA7-48BA-B082-2967766E6D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scope and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work with all MACs and PH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unnecessary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802.y (where x could equal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n 8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ow to address Authentication an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the PAR? Coordinated with Link Securit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a framework that 802 MACs can ado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SAP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B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E2F-E7C9-4FDF-9791-76ABD61733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t is 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not proposed to implement a protocol for hand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at the link layer. What are we handing of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re problem cannot be solved at lay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is is not a handoff standar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DF0-E61A-4F50-8F9F-79762D5173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 interfaced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ked Laptop with 802.3, 802.11 and 802.16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IP session being used for VoIP and web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top und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make a timely decision to switch to 802.11 and attach to a suitable 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traffic should suffer minimum inter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top moves out of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make a timely decision to switch to 802.16e and choice a suitable 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traffic should suffer minimum inter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DCA-4400-4824-9262-3CBCE3F301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t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is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ing good handoff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off decision data with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ing appropriately to L3 handoff capable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 trig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ed and Wi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3 to 802.[11/15/16] are important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78D-7A63-43BF-B9FA-C31DA4F7D6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ery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implified Anatomy of a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hing somewhere up the stack agrees, in its own way to handoff from one place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Mobile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tly, down at the link layer, an attachment switches from one place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-authentication-authorization in one of several possible orders and flav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by picking a new attachment point for an interface, or picking a new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4CB-D64B-466B-AC8A-B6743118C3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22:03:28Z</dcterms:created>
  <dc:creator>David Johnston</dc:creator>
  <dc:description/>
  <cp:keywords>802 handoff PAR architecture ECSG</cp:keywords>
  <dc:language>en-US</dc:language>
  <cp:lastModifiedBy>Dolors Sala</cp:lastModifiedBy>
  <cp:lastPrinted>1998-02-10T13:28:06Z</cp:lastPrinted>
  <dcterms:modified xsi:type="dcterms:W3CDTF">2003-07-21T20:10:38Z</dcterms:modified>
  <cp:revision>114</cp:revision>
  <dc:subject>802 Handoff</dc:subject>
  <dc:title>Architectural Elements of an 802 Handoff Solu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1612339</vt:r8>
  </property>
  <property fmtid="{D5CDD505-2E9C-101B-9397-08002B2CF9AE}" pid="3" name="_AuthorEmail">
    <vt:lpwstr>dj.johnston@intel.com</vt:lpwstr>
  </property>
  <property fmtid="{D5CDD505-2E9C-101B-9397-08002B2CF9AE}" pid="4" name="_AuthorEmailDisplayName">
    <vt:lpwstr>Johnston, Dj</vt:lpwstr>
  </property>
  <property fmtid="{D5CDD505-2E9C-101B-9397-08002B2CF9AE}" pid="5" name="_EmailSubject">
    <vt:lpwstr>[LinkSec] Linksec meeting material and schedule</vt:lpwstr>
  </property>
</Properties>
</file>