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75600" y="7102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26B5DB-CCC1-4B2B-A314-3BA0AB68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nkSe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39440" y="4191120"/>
            <a:ext cx="86072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ly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kSec Security Association is bound to the MAC addresses of interfaces on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dge device this is its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d in filtering rules and relating keys to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es of Bridges never appear in forwarded dat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sents a challenge on shar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P MACs are in the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Network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EE 802 network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link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-Provider, Inter-Provider, Subscriber to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hentication alway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lps limit mis-us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cts mis-w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cy and Integrity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 Bridge (802.1ad)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data private from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bridge managemen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ubscribers to one physical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802.3ah and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, trusted links across hostil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6800" indent="-1875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 is 802.1ad Provider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multi-party Adhoc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rty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2 bridges on 802.3 with device ignorant of which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d by deployment methodology not provisions in Link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link model per network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twork component (or node) has N points of connection to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= 1 is the degenerat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all links as ephem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manent links” are just long-lived ephemer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s change state as soon as link i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nature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nds of the link control the authentication process, even though one side starts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eers SHOULD be mutually authenticated (this is a function of a higher level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nd may force a role of Initiator or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should never be a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peers start authentication at the same time, one is gracefully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yer Signalling of Link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for Handoff between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rect support of Handoff mechanisms in LinkSec.  I.E. Transparency to handoff at lay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dentiality of Data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ity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specific media management frames not carried in data frames (e.g. 802.11 DISASSOC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ally only accept control packets from authenticated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6058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-by-hop model for Link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where provider bridges facilitate virtual links between subscriber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‘owns’ the network.  A Provider may be the Corporate IT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s ‘use’ the network.  E.G. a corporate employee or a paying cust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in security refers to 2 or more links appearing as a single link to the end devices with the intermediate bridges being transparent to the 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ec delineates link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link (Provider/Subscri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link (Subscriber over Prov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the colle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, Provider link interfaces, and Provider Authentication Servers (and related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to protect the Provider network from attack and mis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vider IEEE 802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ttachmen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ly controlled by Provider and Subscr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nfidentiality (privacy and integ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Defini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urposes here, a Network refers to Layer 2 infrastructure and Layer 3 provision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an entity in its own right that needs to be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of a network need various level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52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910880" y="4051440"/>
            <a:ext cx="15631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he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op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58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695760" y="4385880"/>
            <a:ext cx="0" cy="839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65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69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72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98960" y="5181480"/>
            <a:ext cx="1025280" cy="494280"/>
            <a:chOff x="3198960" y="5181480"/>
            <a:chExt cx="1025280" cy="494280"/>
          </a:xfrm>
        </p:grpSpPr>
        <p:sp>
          <p:nvSpPr>
            <p:cNvPr id="75" name=""/>
            <p:cNvSpPr/>
            <p:nvPr/>
          </p:nvSpPr>
          <p:spPr>
            <a:xfrm>
              <a:off x="3316320" y="524808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8960" y="518148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78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s Compon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xisting trust between Authentication Serv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Trus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Attached devices an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2 attached devices in specific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85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90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96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100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103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106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5600" y="2286000"/>
            <a:ext cx="1243080" cy="494280"/>
            <a:chOff x="3045600" y="2286000"/>
            <a:chExt cx="1243080" cy="494280"/>
          </a:xfrm>
        </p:grpSpPr>
        <p:sp>
          <p:nvSpPr>
            <p:cNvPr id="109" name=""/>
            <p:cNvSpPr/>
            <p:nvPr/>
          </p:nvSpPr>
          <p:spPr>
            <a:xfrm>
              <a:off x="3163680" y="2352600"/>
              <a:ext cx="70632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5600" y="2286000"/>
              <a:ext cx="1243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" name=""/>
          <p:cNvCxnSpPr>
            <a:stCxn id="110" idx="2"/>
            <a:endCxn id="97" idx="0"/>
          </p:cNvCxnSpPr>
          <p:nvPr/>
        </p:nvCxnSpPr>
        <p:spPr>
          <a:xfrm flipH="1" rot="16200000">
            <a:off x="3259080" y="3185640"/>
            <a:ext cx="1032480" cy="216720"/>
          </a:xfrm>
          <a:prstGeom prst="curvedConnector5">
            <a:avLst>
              <a:gd name="adj1" fmla="val 49982"/>
              <a:gd name="adj2" fmla="val 49916"/>
              <a:gd name="adj3" fmla="val 4998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endCxn id="107" idx="0"/>
          </p:cNvCxnSpPr>
          <p:nvPr/>
        </p:nvCxnSpPr>
        <p:spPr>
          <a:xfrm flipH="1" rot="16200000">
            <a:off x="3302640" y="3249360"/>
            <a:ext cx="1981800" cy="664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98" idx="0"/>
            <a:endCxn id="107" idx="1"/>
          </p:cNvCxnSpPr>
          <p:nvPr/>
        </p:nvCxnSpPr>
        <p:spPr>
          <a:xfrm flipH="1" rot="16200000">
            <a:off x="3814920" y="4518720"/>
            <a:ext cx="432720" cy="167040"/>
          </a:xfrm>
          <a:prstGeom prst="curvedConnector5">
            <a:avLst>
              <a:gd name="adj1" fmla="val 21648"/>
              <a:gd name="adj2" fmla="val -26565"/>
              <a:gd name="adj3" fmla="val 2164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660480" y="19051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ed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91120" y="220968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2133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5760" y="52578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4724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 rot="5400000">
            <a:off x="1256400" y="2933640"/>
            <a:ext cx="2363040" cy="1981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flipH="1">
            <a:off x="3352320" y="21337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23880" y="3276360"/>
            <a:ext cx="914400" cy="190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200040" y="3276720"/>
            <a:ext cx="1143000" cy="1371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19520" y="33526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ney, no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1983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, no provisioning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and cross-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tercept function of deployment, no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to Network Attachm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Subscriber (i.e. link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b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ists to service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ec exists to protect subscribers from other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 th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 of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Subscriber assumes no attack from Provider, but Provider assumes attack from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arged for rea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eer systems control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can initiat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lay an equal role in controlling the authent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ystem may take control of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based on link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2134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802.1ad Provider Bridge might always be the Responder, even if it initiated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Moskowitz</dc:creator>
  <dc:description/>
  <dc:language>en-US</dc:language>
  <cp:lastModifiedBy>Dolors Sala</cp:lastModifiedBy>
  <dcterms:modified xsi:type="dcterms:W3CDTF">2003-07-21T14:16:52Z</dcterms:modified>
  <cp:revision>22</cp:revision>
  <dc:subject/>
  <dc:title>LinkSec Architecture</dc:title>
</cp:coreProperties>
</file>