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3517B-DC84-4CDC-A343-51116EEC7A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31852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713400"/>
            <a:ext cx="831852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D916-B8AC-4696-9802-FC609F17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3280" y="121932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71340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3280" y="371340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A342-B3FC-4874-9353-800465C1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67840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3200" y="1219320"/>
            <a:ext cx="267840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219320"/>
            <a:ext cx="267840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713400"/>
            <a:ext cx="267840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3200" y="3713400"/>
            <a:ext cx="267840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713400"/>
            <a:ext cx="267840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BFF29-E1BC-4ACA-B6E1-2C7AFADD8E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3185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spcAft>
                <a:spcPts val="601"/>
              </a:spcAft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721DD-0F80-40C3-A6EA-744BF8C8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318520" cy="4775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FDC9-0062-471A-8161-67E920F9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59360" cy="4775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3280" y="1219320"/>
            <a:ext cx="4059360" cy="4775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439B-3392-4134-B33A-2BCB1FB6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B36D6-3110-42B0-9D9D-8519BFF4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71000"/>
            <a:ext cx="8305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spcAft>
                <a:spcPts val="601"/>
              </a:spcAft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C153-6112-4C21-94FF-634B4EC3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1219320"/>
            <a:ext cx="4059360" cy="4775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71340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CA13-07E5-42D1-9F1B-CCBD79CF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59360" cy="4775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3280" y="121932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3280" y="371340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59A2D-A6EA-42F6-A604-9E45E3BF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3280" y="121932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713400"/>
            <a:ext cx="831852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C49A-7335-4F27-8B40-BE2C2FFD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318520" cy="4775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88000"/>
          </a:bodyPr>
          <a:p>
            <a:pPr marL="226080" indent="-226080">
              <a:spcBef>
                <a:spcPts val="2999"/>
              </a:spcBef>
              <a:spcAft>
                <a:spcPts val="601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240" indent="-181440">
              <a:spcBef>
                <a:spcPts val="2999"/>
              </a:spcBef>
              <a:spcAft>
                <a:spcPts val="601"/>
              </a:spcAft>
              <a:buClr>
                <a:srgbClr val="fc0128"/>
              </a:buClr>
              <a:buSzPct val="120000"/>
              <a:buFont typeface="Arial"/>
              <a:buChar char="–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5400" indent="-181800">
              <a:spcBef>
                <a:spcPts val="2999"/>
              </a:spcBef>
              <a:spcAft>
                <a:spcPts val="601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22200" indent="-135360">
              <a:spcBef>
                <a:spcPts val="29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35360">
              <a:spcBef>
                <a:spcPts val="29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35360">
              <a:spcBef>
                <a:spcPts val="29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35360">
              <a:spcBef>
                <a:spcPts val="29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066680"/>
            <a:ext cx="8305560" cy="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12/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2A3F-20D7-4754-9C66-BE73487795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172200"/>
            <a:ext cx="8305920" cy="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43480" y="62485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9725-E403-435C-8359-8FD7A49C999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Arial Black"/>
              </a:rPr>
              <a:t>LinkSec Objectives</a:t>
            </a: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318520" cy="4775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80880" indent="0">
              <a:spcBef>
                <a:spcPts val="2500"/>
              </a:spcBef>
              <a:spcAft>
                <a:spcPts val="499"/>
              </a:spcAft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nd/or specif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001"/>
              </a:spcBef>
              <a:spcAft>
                <a:spcPts val="400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unified security architecture (high prio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001"/>
              </a:spcBef>
              <a:spcAft>
                <a:spcPts val="400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ridge-transparent secure data exchange mechanism (high prio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001"/>
              </a:spcBef>
              <a:spcAft>
                <a:spcPts val="400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ine the service interface to see if it requires extension to support security services (high prio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001"/>
              </a:spcBef>
              <a:spcAft>
                <a:spcPts val="400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authentication protocol (high prio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001"/>
              </a:spcBef>
              <a:spcAft>
                <a:spcPts val="400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key management protocol (high prio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001"/>
              </a:spcBef>
              <a:spcAft>
                <a:spcPts val="400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link security mechanism for 802.3 (including ptp, sharedmedia, and PON) networks if additional MAC-specific functionality is needed (high prio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001"/>
              </a:spcBef>
              <a:spcAft>
                <a:spcPts val="400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discovery protocol (low prio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19:46:39Z</dcterms:created>
  <dc:creator>Dolors Sala</dc:creator>
  <dc:description/>
  <dc:language>en-US</dc:language>
  <cp:lastModifiedBy>Dolors Sala</cp:lastModifiedBy>
  <cp:lastPrinted>2000-02-07T20:00:00Z</cp:lastPrinted>
  <dcterms:modified xsi:type="dcterms:W3CDTF">2003-06-03T21:10:27Z</dcterms:modified>
  <cp:revision>486</cp:revision>
  <dc:subject/>
  <dc:title>Sample Title, 36pt Arial Black  </dc:title>
</cp:coreProperties>
</file>