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F36A-80F5-49A9-8803-3758D1C2C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243F-BB21-46B2-A9B4-73844452A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79360" y="303120"/>
            <a:ext cx="4494240" cy="3370320"/>
          </a:xfrm>
          <a:prstGeom prst="rect">
            <a:avLst/>
          </a:prstGeom>
          <a:ln w="0">
            <a:noFill/>
          </a:ln>
        </p:spPr>
      </p:sp>
      <p:sp>
        <p:nvSpPr>
          <p:cNvPr id="101" name=""/>
          <p:cNvSpPr/>
          <p:nvPr/>
        </p:nvSpPr>
        <p:spPr>
          <a:xfrm>
            <a:off x="503280" y="4221000"/>
            <a:ext cx="58500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9972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911052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60" y="3700800"/>
            <a:ext cx="911052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9972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444564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990360"/>
            <a:ext cx="444564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-360" y="3700800"/>
            <a:ext cx="444564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3700800"/>
            <a:ext cx="444564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9972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293328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79800" y="990360"/>
            <a:ext cx="293328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60320" y="990360"/>
            <a:ext cx="293328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-360" y="3700800"/>
            <a:ext cx="293328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79800" y="3700800"/>
            <a:ext cx="293328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60320" y="3700800"/>
            <a:ext cx="293328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9972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-360" y="990360"/>
            <a:ext cx="9110520" cy="51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9972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9110520" cy="518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9972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4445640" cy="518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990360"/>
            <a:ext cx="4445640" cy="518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9972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099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9972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444564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990360"/>
            <a:ext cx="4445640" cy="518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-360" y="3700800"/>
            <a:ext cx="444564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9972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4445640" cy="518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990360"/>
            <a:ext cx="444564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3700800"/>
            <a:ext cx="444564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9972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444564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990360"/>
            <a:ext cx="444564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-360" y="3700800"/>
            <a:ext cx="911052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676160" y="6440400"/>
            <a:ext cx="5638680" cy="4176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  <a:defRPr b="0" lang="en-US" sz="1300" spc="-1" strike="noStrike">
                <a:solidFill>
                  <a:srgbClr val="000099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Comic Sans MS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1440" y="-3240"/>
            <a:ext cx="9145440" cy="9763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9099720" cy="9302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-360" y="990360"/>
            <a:ext cx="9110520" cy="518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111240" indent="-111240"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lvl="1" marL="336600" indent="-111240">
              <a:spcBef>
                <a:spcPts val="624"/>
              </a:spcBef>
              <a:buClr>
                <a:srgbClr val="006666"/>
              </a:buClr>
              <a:buSzPct val="80000"/>
              <a:buFont typeface="Wingdings" charset="2"/>
              <a:buChar char="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lvl="2" marL="565200" indent="-114480">
              <a:spcBef>
                <a:spcPts val="624"/>
              </a:spcBef>
              <a:buClr>
                <a:srgbClr val="003399"/>
              </a:buClr>
              <a:buSzPct val="80000"/>
              <a:buFont typeface="Wingdings" charset="2"/>
              <a:buChar char="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lvl="3" marL="792000" indent="-112680">
              <a:spcBef>
                <a:spcPts val="624"/>
              </a:spcBef>
              <a:buClr>
                <a:srgbClr val="3366cc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lvl="4" marL="1117440" indent="-210960">
              <a:spcBef>
                <a:spcPts val="624"/>
              </a:spcBef>
              <a:buClr>
                <a:srgbClr val="006666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lvl="5" marL="1117440" indent="-2109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lvl="6" marL="1117440" indent="-2109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432480"/>
            <a:ext cx="7924680" cy="0"/>
          </a:xfrm>
          <a:prstGeom prst="line">
            <a:avLst/>
          </a:prstGeom>
          <a:ln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2840" y="648180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Comic Sans MS"/>
              </a:rPr>
              <a:t>www.ggf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061480" y="5527800"/>
            <a:ext cx="183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263080" y="5867280"/>
            <a:ext cx="880920" cy="99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jwdct@technologist.co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3657600"/>
            <a:ext cx="792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OGSA SEC WG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[OGSA= Open Grid Services Architectur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-chairs: </a:t>
            </a: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Nataraj Nagaratnam, </a:t>
            </a:r>
            <a:r>
              <a:rPr b="1" lang="en-US" sz="1900" spc="-1" strike="noStrike">
                <a:solidFill>
                  <a:srgbClr val="006666"/>
                </a:solidFill>
                <a:latin typeface="Arial"/>
              </a:rPr>
              <a:t>IBM, US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Marty Humphre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900" spc="-1" strike="noStrike">
                <a:solidFill>
                  <a:srgbClr val="006666"/>
                </a:solidFill>
                <a:latin typeface="Arial"/>
              </a:rPr>
              <a:t>University of Virginia, US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GGF9 WG session: Oct 7, 2003, Chicago, Illino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GF OGSA SEC WG History &amp; Stat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1143000"/>
            <a:ext cx="62485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esentation Edited and Modifi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lan J Weissber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ata Communications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ajwdct@technologis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99720" cy="9302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 Services Security Progress Since GGF6 (Oct 2002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9110520" cy="518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476280" indent="-476280"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Dec 18, 2002: WS-Policy, WS-PolicyAttachment,  WS-PolicyAssertions, WS-SecurityPolicy, WS-Trust, WS-SecureConversation from IBM-MSF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lvl="1" marL="644400" indent="-419040">
              <a:spcBef>
                <a:spcPts val="550"/>
              </a:spcBef>
              <a:buClr>
                <a:srgbClr val="006666"/>
              </a:buClr>
              <a:buSzPct val="80000"/>
              <a:buFont typeface="Wingdings" charset="2"/>
              <a:buChar char="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Arial"/>
              </a:rPr>
              <a:t>WS-Policy 1.1 </a:t>
            </a:r>
            <a:r>
              <a:rPr b="0" i="1" lang="en-US" sz="2200" spc="-1" strike="noStrike">
                <a:solidFill>
                  <a:srgbClr val="006666"/>
                </a:solidFill>
                <a:latin typeface="Arial"/>
              </a:rPr>
              <a:t>et. al. </a:t>
            </a:r>
            <a:r>
              <a:rPr b="0" lang="en-US" sz="2200" spc="-1" strike="noStrike">
                <a:solidFill>
                  <a:srgbClr val="006666"/>
                </a:solidFill>
                <a:latin typeface="Arial"/>
              </a:rPr>
              <a:t>May 28</a:t>
            </a:r>
            <a:endParaRPr b="0" lang="en-US" sz="2200" spc="-1" strike="noStrike">
              <a:solidFill>
                <a:srgbClr val="006666"/>
              </a:solidFill>
              <a:latin typeface="Arial"/>
            </a:endParaRPr>
          </a:p>
          <a:p>
            <a:pPr marL="476280" indent="-476280"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July 2003: WS-Federation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476280" indent="-476280"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OASIS WS SEC docs for public review (Sept 9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lvl="1" marL="644400" indent="-419040">
              <a:spcBef>
                <a:spcPts val="550"/>
              </a:spcBef>
              <a:buClr>
                <a:srgbClr val="006666"/>
              </a:buClr>
              <a:buSzPct val="80000"/>
              <a:buFont typeface="Wingdings" charset="2"/>
              <a:buChar char="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Arial"/>
              </a:rPr>
              <a:t>SOAP Message Security, Username Token Profile, X.509 Cert Token Profile</a:t>
            </a:r>
            <a:endParaRPr b="0" lang="en-US" sz="2200" spc="-1" strike="noStrike">
              <a:solidFill>
                <a:srgbClr val="006666"/>
              </a:solidFill>
              <a:latin typeface="Arial"/>
            </a:endParaRPr>
          </a:p>
          <a:p>
            <a:pPr marL="476280" indent="-476280"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XACML ratified as OASIS Open Standard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476280" indent="-476280"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SAML v1.1 (Sept, 2003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476280" indent="-476280"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WS-I creates Basic Profiles for Web Service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476280"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99720" cy="9302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GSA SEC WG progress(?) since Oct 200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9110520" cy="518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111240" indent="-111240"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Need to let non-GGF activities progress….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111240" indent="0">
              <a:spcBef>
                <a:spcPts val="6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(AW: </a:t>
            </a:r>
            <a:r>
              <a:rPr b="1" i="1" lang="en-US" sz="2500" spc="-1" strike="noStrike">
                <a:solidFill>
                  <a:srgbClr val="000099"/>
                </a:solidFill>
                <a:latin typeface="Arial"/>
              </a:rPr>
              <a:t>this is a tacit acknowledgement that there has been no progress since 1</a:t>
            </a:r>
            <a:r>
              <a:rPr b="1" i="1" lang="en-US" sz="2500" spc="-1" strike="noStrike" baseline="30000">
                <a:solidFill>
                  <a:srgbClr val="000099"/>
                </a:solidFill>
                <a:latin typeface="Arial"/>
              </a:rPr>
              <a:t>st</a:t>
            </a:r>
            <a:r>
              <a:rPr b="1" i="1" lang="en-US" sz="2500" spc="-1" strike="noStrike">
                <a:solidFill>
                  <a:srgbClr val="000099"/>
                </a:solidFill>
                <a:latin typeface="Arial"/>
              </a:rPr>
              <a:t> WG Meeting- Oct 2002</a:t>
            </a: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111240" indent="0">
              <a:spcBef>
                <a:spcPts val="6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111240" indent="-111240"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Focus is on Authorization (OGSA AuthZ WG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111240" indent="0">
              <a:spcBef>
                <a:spcPts val="6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111240" indent="-111240"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OGSA SEC WG is “</a:t>
            </a:r>
            <a:r>
              <a:rPr b="1" i="1" lang="en-US" sz="2500" spc="-1" strike="noStrike">
                <a:solidFill>
                  <a:srgbClr val="000099"/>
                </a:solidFill>
                <a:latin typeface="Arial"/>
              </a:rPr>
              <a:t>idle</a:t>
            </a: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” at the moment= hibernating now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111240"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111240" indent="-111240"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i="1" lang="en-US" sz="2500" spc="-1" strike="noStrike">
                <a:solidFill>
                  <a:srgbClr val="000099"/>
                </a:solidFill>
                <a:latin typeface="Arial"/>
              </a:rPr>
              <a:t>How to get the OGSA SEC WG active again? 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111240" indent="0">
              <a:spcBef>
                <a:spcPts val="6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111240" indent="-111240"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i="1" lang="en-US" sz="2500" spc="-1" strike="noStrike">
                <a:solidFill>
                  <a:srgbClr val="000099"/>
                </a:solidFill>
                <a:latin typeface="Arial"/>
              </a:rPr>
              <a:t>Should they consider IEEE 802.1  Link Sec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111240"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111240" indent="0">
              <a:spcBef>
                <a:spcPts val="6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lvl="1" marL="336600" indent="0">
              <a:spcBef>
                <a:spcPts val="55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200" spc="-1" strike="noStrike">
              <a:solidFill>
                <a:srgbClr val="006666"/>
              </a:solidFill>
              <a:latin typeface="Arial"/>
            </a:endParaRPr>
          </a:p>
          <a:p>
            <a:pPr lvl="1" marL="336600" indent="0">
              <a:spcBef>
                <a:spcPts val="55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99720" cy="9302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W: What is missing/ wrong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143000"/>
            <a:ext cx="731520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60000"/>
              </a:lnSpc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ependence on a set of WS consortium specs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curity protocols.  Only one of those has be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orked in OASIS; others  may never be submitt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n open standards body  for peer review and 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  What if Grid data types are not compatible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S encoding format (SOAP/XML messages)? 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ample: floating point numbers, binary data, med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mages, real time video, storage area network data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 No consideration of when to use IP Sec, SSL, IE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802.1x, or even knowledge of IEEE 802.1 Link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250"/>
              </a:spcBef>
              <a:buClr>
                <a:srgbClr val="0000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o assumptions as to whether the LAN/MAN link, wh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nnects servers, is secure or has been authentic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2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99720" cy="9302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to get Link Sec-&gt;OGSA Sec WG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5943600"/>
            <a:ext cx="1839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143000"/>
            <a:ext cx="8839080" cy="58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bjectiv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 Include 802.1 Link Sec in WG “Bind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curity” (se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GSA Security Component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slide) as 1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ayer of transport (below IP and WS bindings- HTTP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MTTP, MIME, etc).  Defer on IPSec and SSL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w to do this?  [Assuming WG goes into active mod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Could establish a liaison between IEEE 802 and GG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Convey IEEE 802.1 position on need to cons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inkSec in Grid network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dividuals may participate in GGF WGs at no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Join email reflector and create a new thread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Participate in conference calls and interim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id Forge web site will get you to all GGF W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ttp://forge.gridforum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99720" cy="9302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GSA SEC WG Char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91105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111240" indent="-111240"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Enumerate and address the Grid Security requirements in the context of the OGSA”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111240" indent="-111240"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Leverage… WS-Security… and… WS Security Roadmap”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111240" indent="0">
              <a:spcBef>
                <a:spcPts val="6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500" spc="-1" strike="noStrike" u="sng">
                <a:solidFill>
                  <a:srgbClr val="000099"/>
                </a:solidFill>
                <a:uFillTx/>
                <a:latin typeface="Arial"/>
              </a:rPr>
              <a:t>Primary outcome</a:t>
            </a: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: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lvl="1" marL="336600" indent="-111240">
              <a:spcBef>
                <a:spcPts val="550"/>
              </a:spcBef>
              <a:buClr>
                <a:srgbClr val="006666"/>
              </a:buClr>
              <a:buSzPct val="80000"/>
              <a:buFont typeface="Wingdings" charset="2"/>
              <a:buChar char="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Arial"/>
              </a:rPr>
              <a:t>doc #1: The Security Architecture for Open Grid Services </a:t>
            </a:r>
            <a:endParaRPr b="0" lang="en-US" sz="2200" spc="-1" strike="noStrike">
              <a:solidFill>
                <a:srgbClr val="006666"/>
              </a:solidFill>
              <a:latin typeface="Arial"/>
            </a:endParaRPr>
          </a:p>
          <a:p>
            <a:pPr lvl="1" marL="336600" indent="-111240">
              <a:spcBef>
                <a:spcPts val="550"/>
              </a:spcBef>
              <a:buClr>
                <a:srgbClr val="006666"/>
              </a:buClr>
              <a:buSzPct val="80000"/>
              <a:buFont typeface="Wingdings" charset="2"/>
              <a:buChar char="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Arial"/>
              </a:rPr>
              <a:t>doc #2: OGSA Security Roadmap </a:t>
            </a:r>
            <a:endParaRPr b="0" lang="en-US" sz="2200" spc="-1" strike="noStrike">
              <a:solidFill>
                <a:srgbClr val="006666"/>
              </a:solidFill>
              <a:latin typeface="Arial"/>
            </a:endParaRPr>
          </a:p>
          <a:p>
            <a:pPr marL="111240" indent="-111240"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 u="sng">
                <a:solidFill>
                  <a:srgbClr val="000099"/>
                </a:solidFill>
                <a:uFillTx/>
                <a:latin typeface="Arial"/>
              </a:rPr>
              <a:t>Secondary outcome</a:t>
            </a: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: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lvl="1" marL="336600" indent="-111240">
              <a:spcBef>
                <a:spcPts val="550"/>
              </a:spcBef>
              <a:buClr>
                <a:srgbClr val="006666"/>
              </a:buClr>
              <a:buSzPct val="80000"/>
              <a:buFont typeface="Wingdings" charset="2"/>
              <a:buChar char="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Arial"/>
              </a:rPr>
              <a:t>Creation of new GGF WGs to address “gaps” identified by #2</a:t>
            </a:r>
            <a:endParaRPr b="0" lang="en-US" sz="2200" spc="-1" strike="noStrike">
              <a:solidFill>
                <a:srgbClr val="006666"/>
              </a:solidFill>
              <a:latin typeface="Arial"/>
            </a:endParaRPr>
          </a:p>
          <a:p>
            <a:pPr marL="111240" indent="-111240"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Synergistic with other efforts (e.g., OASIS, W3C)??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111240" indent="-111240"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But…no incorporation of IETF Security specs (IP Sec or SSL), no recognition of  IEEE 802.1X or knowledge of IEEE 802.1 Link Security!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99720" cy="9302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[GGF6] OGSA Security WG Methodolog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9110520" cy="518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lvl="1" marL="336600" indent="0">
              <a:spcBef>
                <a:spcPts val="55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200" spc="-1" strike="noStrike" u="sng">
                <a:solidFill>
                  <a:srgbClr val="006666"/>
                </a:solidFill>
                <a:uFillTx/>
                <a:latin typeface="Arial"/>
              </a:rPr>
              <a:t>1</a:t>
            </a:r>
            <a:r>
              <a:rPr b="1" lang="en-US" sz="2200" spc="-1" strike="noStrike" u="sng" baseline="30000">
                <a:solidFill>
                  <a:srgbClr val="006666"/>
                </a:solidFill>
                <a:uFillTx/>
                <a:latin typeface="Arial"/>
              </a:rPr>
              <a:t>st</a:t>
            </a:r>
            <a:r>
              <a:rPr b="1" lang="en-US" sz="2200" spc="-1" strike="noStrike" u="sng">
                <a:solidFill>
                  <a:srgbClr val="006666"/>
                </a:solidFill>
                <a:uFillTx/>
                <a:latin typeface="Arial"/>
              </a:rPr>
              <a:t> WG meeting at GGF6 (Oct 2002)</a:t>
            </a:r>
            <a:endParaRPr b="0" lang="en-US" sz="2200" spc="-1" strike="noStrike">
              <a:solidFill>
                <a:srgbClr val="006666"/>
              </a:solidFill>
              <a:latin typeface="Arial"/>
            </a:endParaRPr>
          </a:p>
          <a:p>
            <a:pPr marL="111240" indent="-111240">
              <a:spcBef>
                <a:spcPts val="524"/>
              </a:spcBef>
              <a:buClr>
                <a:srgbClr val="000099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Arial"/>
              </a:rPr>
              <a:t>What requirements are unique/necessary in Grids?</a:t>
            </a:r>
            <a:endParaRPr b="1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111240" indent="-111240">
              <a:spcBef>
                <a:spcPts val="524"/>
              </a:spcBef>
              <a:buClr>
                <a:srgbClr val="000099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Arial"/>
              </a:rPr>
              <a:t>Do the Architecture/Roadmap cover these? </a:t>
            </a:r>
            <a:endParaRPr b="1" lang="en-US" sz="2100" spc="-1" strike="noStrike">
              <a:solidFill>
                <a:srgbClr val="000099"/>
              </a:solidFill>
              <a:latin typeface="Arial"/>
            </a:endParaRPr>
          </a:p>
          <a:p>
            <a:pPr lvl="1" marL="336600" indent="-111240">
              <a:spcBef>
                <a:spcPts val="499"/>
              </a:spcBef>
              <a:buClr>
                <a:srgbClr val="006666"/>
              </a:buClr>
              <a:buSzPct val="80000"/>
              <a:buFont typeface="Wingdings" charset="2"/>
              <a:buChar char="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If not, how to extend documents?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111240" indent="-111240">
              <a:spcBef>
                <a:spcPts val="524"/>
              </a:spcBef>
              <a:buClr>
                <a:srgbClr val="000099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Arial"/>
              </a:rPr>
              <a:t>What components need to be built based on these requirements?</a:t>
            </a:r>
            <a:endParaRPr b="1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111240" indent="-111240">
              <a:spcBef>
                <a:spcPts val="524"/>
              </a:spcBef>
              <a:buClr>
                <a:srgbClr val="000099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Arial"/>
              </a:rPr>
              <a:t>Are any specifications not listed?  </a:t>
            </a:r>
            <a:r>
              <a:rPr b="1" i="1" lang="en-US" sz="2100" spc="-1" strike="noStrike">
                <a:solidFill>
                  <a:srgbClr val="000099"/>
                </a:solidFill>
                <a:latin typeface="Arial"/>
              </a:rPr>
              <a:t>[AW: </a:t>
            </a:r>
            <a:r>
              <a:rPr b="1" i="1" lang="en-US" sz="2100" spc="-1" strike="noStrike" u="sng">
                <a:solidFill>
                  <a:srgbClr val="000099"/>
                </a:solidFill>
                <a:uFillTx/>
                <a:latin typeface="Arial"/>
              </a:rPr>
              <a:t>IP Sec, SSL, LinkSec</a:t>
            </a:r>
            <a:r>
              <a:rPr b="1" i="1" lang="en-US" sz="2100" spc="-1" strike="noStrike">
                <a:solidFill>
                  <a:srgbClr val="000099"/>
                </a:solidFill>
                <a:latin typeface="Arial"/>
              </a:rPr>
              <a:t>?]</a:t>
            </a:r>
            <a:endParaRPr b="1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111240" indent="-111240">
              <a:spcBef>
                <a:spcPts val="524"/>
              </a:spcBef>
              <a:buClr>
                <a:srgbClr val="000099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Arial"/>
              </a:rPr>
              <a:t>Are any of these “boxes” actively being constructed outside of the GGF?</a:t>
            </a:r>
            <a:endParaRPr b="1" lang="en-US" sz="2100" spc="-1" strike="noStrike">
              <a:solidFill>
                <a:srgbClr val="000099"/>
              </a:solidFill>
              <a:latin typeface="Arial"/>
            </a:endParaRPr>
          </a:p>
          <a:p>
            <a:pPr lvl="1" marL="336600" indent="-111240">
              <a:spcBef>
                <a:spcPts val="499"/>
              </a:spcBef>
              <a:buClr>
                <a:srgbClr val="006666"/>
              </a:buClr>
              <a:buSzPct val="80000"/>
              <a:buFont typeface="Wingdings" charset="2"/>
              <a:buChar char="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hat are these? Where are these? Who are building them?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111240" indent="-111240">
              <a:spcBef>
                <a:spcPts val="524"/>
              </a:spcBef>
              <a:buClr>
                <a:srgbClr val="000099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Arial"/>
              </a:rPr>
              <a:t>Which of the (inactive/pending) boxes are urgent?</a:t>
            </a:r>
            <a:endParaRPr b="1" lang="en-US" sz="2100" spc="-1" strike="noStrike">
              <a:solidFill>
                <a:srgbClr val="000099"/>
              </a:solidFill>
              <a:latin typeface="Arial"/>
            </a:endParaRPr>
          </a:p>
          <a:p>
            <a:pPr lvl="1" marL="336600" indent="-111240">
              <a:spcBef>
                <a:spcPts val="499"/>
              </a:spcBef>
              <a:buClr>
                <a:srgbClr val="006666"/>
              </a:buClr>
              <a:buSzPct val="80000"/>
              <a:buFont typeface="Wingdings" charset="2"/>
              <a:buChar char="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ased on the identified set of specifications that we need to work on, try to prioritize the list and come up with a dependency/deliverable graph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336600" indent="-111240">
              <a:spcBef>
                <a:spcPts val="499"/>
              </a:spcBef>
              <a:buClr>
                <a:srgbClr val="006666"/>
              </a:buClr>
              <a:buSzPct val="80000"/>
              <a:buFont typeface="Wingdings" charset="2"/>
              <a:buChar char="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Suggest spinning off workgroups based on specs identified to be started under GGF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99720" cy="9302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rrent/proposed specs </a:t>
            </a:r>
            <a:br>
              <a:rPr sz="2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ilding on the WS/ SOAP Found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62920" y="2405160"/>
            <a:ext cx="1752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This is a composable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only use what you ne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5562720"/>
            <a:ext cx="5562720" cy="60948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OAP Found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4521240"/>
            <a:ext cx="5562720" cy="60948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WS-Secur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3479760"/>
            <a:ext cx="1752840" cy="60948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WS-Poli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3479760"/>
            <a:ext cx="1752480" cy="60948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WS-Tru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3479760"/>
            <a:ext cx="1752480" cy="60948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WS-Priva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2438280"/>
            <a:ext cx="1752840" cy="60984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WS-Secu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nvers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2438280"/>
            <a:ext cx="1752480" cy="60984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WS-Fed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2438280"/>
            <a:ext cx="1752480" cy="60984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WS-Authoriz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7086600" y="243828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6878160" y="5313600"/>
            <a:ext cx="7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4800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162920" y="44197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ASIS stand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1219320"/>
            <a:ext cx="607716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W Not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: This is the IBM-MSFT WS Roadmap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ecurity Protocols.  Only WS-Security is a stand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99720" cy="9302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GSA Security Compon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280" y="1168560"/>
          <a:ext cx="8610840" cy="46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68560"/>
                    <a:ext cx="861084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99720" cy="9302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ilding Block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914400" y="990720"/>
          <a:ext cx="7439040" cy="53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90720"/>
                    <a:ext cx="7439040" cy="53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28600" y="914400"/>
          <a:ext cx="8686800" cy="5711760"/>
        </p:xfrm>
        <a:graphic>
          <a:graphicData uri="http://schemas.openxmlformats.org/drawingml/2006/table">
            <a:tbl>
              <a:tblPr/>
              <a:tblGrid>
                <a:gridCol w="3200400"/>
                <a:gridCol w="548640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Categor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Specification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Namin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OGSA Identity </a:t>
                      </a:r>
                      <a:br>
                        <a:rPr sz="1900"/>
                      </a:b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OGSA Target/Action Naming </a:t>
                      </a:r>
                      <a:br>
                        <a:rPr sz="1900"/>
                      </a:b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OGSA Attribute and Group Naming </a:t>
                      </a:r>
                      <a:br>
                        <a:rPr sz="1900"/>
                      </a:b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Transient Service Identity Acquisit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Translation between Security Realm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Identity Mapping Service</a:t>
                      </a:r>
                      <a:br>
                        <a:rPr sz="1900"/>
                      </a:b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Generic Name Mapping</a:t>
                      </a:r>
                      <a:br>
                        <a:rPr sz="1900"/>
                      </a:b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Policy Mapping Service </a:t>
                      </a:r>
                      <a:br>
                        <a:rPr sz="1900"/>
                      </a:b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Credential Mapping Servic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Authentication Mechanism Agnostic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OGSA Certificate Validation Service</a:t>
                      </a:r>
                      <a:br>
                        <a:rPr sz="1900"/>
                      </a:b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OGSA-Kerberos Servic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Pluggable Session Securit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GSSAPI-SecureConversation</a:t>
                      </a:r>
                      <a:br>
                        <a:rPr sz="1900"/>
                      </a:b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Pluggable Authorization Servic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OGSA-Authorization Servic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99720" cy="9302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admap: Proposed Specs. (1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228600" y="914400"/>
          <a:ext cx="8686800" cy="5465880"/>
        </p:xfrm>
        <a:graphic>
          <a:graphicData uri="http://schemas.openxmlformats.org/drawingml/2006/table">
            <a:tbl>
              <a:tblPr/>
              <a:tblGrid>
                <a:gridCol w="3200400"/>
                <a:gridCol w="548640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Categor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Specification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Authorization Policy Manage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Coarse-grained Authorization Policy Management</a:t>
                      </a:r>
                      <a:br>
                        <a:rPr sz="2200"/>
                      </a:b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Fine-grained Authorization Policy Manage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Trust Policy Manage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OGSA Trust Servi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Privacy Policy Manage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Privacy Policy Framewor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VO Policy Manage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VO Policy Servi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Deleg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Identity Assertion Profile</a:t>
                      </a:r>
                      <a:br>
                        <a:rPr sz="2200"/>
                      </a:b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Capability Assertion Profi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2362320" y="76320"/>
            <a:ext cx="53337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ed Specs.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99720" cy="9302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admap: Proposed Specs. (2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228600" y="914400"/>
          <a:ext cx="8686800" cy="4579920"/>
        </p:xfrm>
        <a:graphic>
          <a:graphicData uri="http://schemas.openxmlformats.org/drawingml/2006/table">
            <a:tbl>
              <a:tblPr/>
              <a:tblGrid>
                <a:gridCol w="3200400"/>
                <a:gridCol w="548640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Categor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Specification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Firewall Friendl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OGSA Firewall Interoperabil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Security Policy Expression and Exch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Grid Service Reference and Service Data Security Policy Decor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Secure Service Oper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Secure Service’s Policy and Processing</a:t>
                      </a:r>
                      <a:br>
                        <a:rPr sz="2200"/>
                      </a:b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Service Data Access Control</a:t>
                      </a:r>
                      <a:br>
                        <a:rPr sz="2200"/>
                      </a:b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Audit and Secure Logg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OGSA Audit Service</a:t>
                      </a:r>
                      <a:br>
                        <a:rPr sz="2200"/>
                      </a:b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OGSA Audit Policy Manage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362320" y="76320"/>
            <a:ext cx="53337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ed Specs.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99720" cy="9302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admap: Proposed Specs. (3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1T14:51:42Z</dcterms:created>
  <dc:creator>Marty Humphrey and Peter Clarke</dc:creator>
  <dc:description/>
  <dc:language>en-US</dc:language>
  <cp:lastModifiedBy>Dolors Sala</cp:lastModifiedBy>
  <dcterms:modified xsi:type="dcterms:W3CDTF">2003-11-03T17:13:37Z</dcterms:modified>
  <cp:revision>187</cp:revision>
  <dc:subject/>
  <dc:title>PowerPoint Presentation  -  GGF5 Closing</dc:title>
</cp:coreProperties>
</file>