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38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826-A4D1-4352-9ABF-31BF912F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532-2B91-43C4-8C22-E230368B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710-E663-4B4A-BCD7-141007AF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F14-EB81-4BDA-A06F-C5BAFC3F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11A-522D-4E4E-ADB7-D8FAB2D0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D84-A6E3-425C-ADB3-1E8FC976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BB4-3019-49E5-808D-3BF2C7F3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C33-482C-4877-9959-D602DDCE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DF0-9E2A-4524-9227-76C44C86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EA3-BF8D-4050-BCE5-3A7487B0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C7A-9188-4F98-94A3-1CB1E21F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6F8-3ABA-4F94-9B81-F7CA33F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C78E-A412-43A5-A352-0851DFA4FE98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GF9: OGSA 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OGSA-Authz)- FYI On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441936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o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on Welch (vwelch@ncsa.uiuc.e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bekah Lepro, Andrew McNab and rest of OGSA-Authz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6019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ed andAmmend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an J Weissb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Communications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wdct@technologis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OGSA= Open Grid Services Architectur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Z WG Requirements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fine and allow for interoperability between OGSA Services and different Authorization Services (TB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fine use cases &amp; requirements fo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 not mandate Authoriza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fine small number profiles for mechanisms to allow interoperability [do not invent new mechanisms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ild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S Secu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work; add specification for Grid-specific stu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 Service Data, Instances, Virtu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eedback to relevant standards body (OASI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EE 802.1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9B3-EAB8-419D-A166-D6E6A45243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chitecture/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360" y="4365720"/>
            <a:ext cx="2087640" cy="1439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1484280"/>
            <a:ext cx="1512720" cy="8636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773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1628640"/>
            <a:ext cx="1942920" cy="720720"/>
          </a:xfrm>
          <a:prstGeom prst="rightArrow">
            <a:avLst>
              <a:gd name="adj1" fmla="val 50000"/>
              <a:gd name="adj2" fmla="val 673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427640" y="2349360"/>
            <a:ext cx="1440" cy="2016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716360" y="2349000"/>
            <a:ext cx="0" cy="2016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0360" y="2421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640" y="2565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/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4724280"/>
            <a:ext cx="3024000" cy="720720"/>
            <a:chOff x="324000" y="4724280"/>
            <a:chExt cx="3024000" cy="720720"/>
          </a:xfrm>
        </p:grpSpPr>
        <p:sp>
          <p:nvSpPr>
            <p:cNvPr id="56" name=""/>
            <p:cNvSpPr/>
            <p:nvPr/>
          </p:nvSpPr>
          <p:spPr>
            <a:xfrm>
              <a:off x="324000" y="4724280"/>
              <a:ext cx="1728720" cy="719280"/>
            </a:xfrm>
            <a:prstGeom prst="parallelogram">
              <a:avLst>
                <a:gd name="adj" fmla="val 60085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4000" y="4941720"/>
              <a:ext cx="1224000" cy="503280"/>
            </a:xfrm>
            <a:prstGeom prst="rightArrow">
              <a:avLst>
                <a:gd name="adj1" fmla="val 50000"/>
                <a:gd name="adj2" fmla="val 60801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724360" y="4508640"/>
            <a:ext cx="2735280" cy="1152360"/>
            <a:chOff x="5724360" y="4508640"/>
            <a:chExt cx="2735280" cy="1152360"/>
          </a:xfrm>
        </p:grpSpPr>
        <p:sp>
          <p:nvSpPr>
            <p:cNvPr id="59" name=""/>
            <p:cNvSpPr/>
            <p:nvPr/>
          </p:nvSpPr>
          <p:spPr>
            <a:xfrm>
              <a:off x="7020000" y="4508640"/>
              <a:ext cx="1439640" cy="1152360"/>
            </a:xfrm>
            <a:prstGeom prst="verticalScroll">
              <a:avLst>
                <a:gd name="adj" fmla="val 125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li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4360" y="5013360"/>
              <a:ext cx="1224000" cy="431640"/>
            </a:xfrm>
            <a:prstGeom prst="leftArrow">
              <a:avLst>
                <a:gd name="adj1" fmla="val 50000"/>
                <a:gd name="adj2" fmla="val 7089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4000" y="3213000"/>
            <a:ext cx="8280360" cy="2737080"/>
            <a:chOff x="324000" y="3213000"/>
            <a:chExt cx="8280360" cy="2737080"/>
          </a:xfrm>
        </p:grpSpPr>
        <p:sp>
          <p:nvSpPr>
            <p:cNvPr id="62" name=""/>
            <p:cNvSpPr/>
            <p:nvPr/>
          </p:nvSpPr>
          <p:spPr>
            <a:xfrm>
              <a:off x="4067280" y="3213000"/>
              <a:ext cx="115236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4000" y="4365720"/>
              <a:ext cx="187164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4720" y="4292640"/>
              <a:ext cx="251964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A5D-E216-45BF-8F9C-CF4A4B43F1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Z WG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and document requirements for each of Authz Interface, Attributes, Authz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cify one or more bindings of how to use existing technologies (as volunteers eme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 Attributes in X.509 ACs, Authz Interface in SA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501-3A6F-4226-8274-1676E6279F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ed Grid Services/portTypes for Authorization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 least 1 portType for AuthzService that supports both SAML and XAC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hers possible – e.g. for WS-Trust/Authz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 reference to IEEE 802.1x or LinkSe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ould either be included as mechanis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Z management for attributes and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her portTypes for management of Authz service would be useful, but out of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BE5-96F5-40B3-99C2-499367BAE3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 Being Considered for Grid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1447920"/>
          <a:ext cx="68961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68961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00E-1739-49B4-AD91-FEACD447F8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L and XAC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23920" y="1447920"/>
            <a:ext cx="6896160" cy="43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71F-2AB8-4E16-92A1-466A42FFFB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.509 Certific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98320" y="2870280"/>
          <a:ext cx="816480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2870280"/>
                    <a:ext cx="816480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295280" y="16002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.509 Certificates, with ASN.1 encoding, are also being considered for Gri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EDB-CE3E-4B8D-93A3-517131F9E5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lors Sala</cp:lastModifiedBy>
  <dcterms:modified xsi:type="dcterms:W3CDTF">2003-11-03T17:14:41Z</dcterms:modified>
  <cp:revision>50</cp:revision>
  <dc:subject/>
  <dc:title>PowerPoint Presentation</dc:title>
</cp:coreProperties>
</file>