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B319-ECC7-4D81-821D-20EBA1EB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E452-4095-46DC-B092-6790ED44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09C6-F8E9-4BAD-912B-277734CBD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7837-5056-4086-B552-7497C71D3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49B-A7CB-430A-8728-686F776B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3A7-198B-47EE-9997-E3E86513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22F-06FC-4534-9777-52982C3B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35E7-01B1-4961-9A14-99821B76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8E8-8937-4AC8-A7DC-05041CDC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E32-F029-4921-903B-C5C5DEC8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214-D618-4AAF-B1A5-A4E597F1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E85-F5FC-4006-8F86-27C6DACD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DC7A-B8E6-4C8A-84B8-D8C5D65B1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 Architecture Gro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5146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ttp://www.ieee802.org/1/files/public/802_architecture_grou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oining the Email exploder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ttp://www.ieee802.org/1/email-pages/joining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48320" y="914400"/>
            <a:ext cx="3352680" cy="129528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t15 802 Architecture Group Up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m Si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bridge Silicon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5 Liaison to 802 Architecture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91440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TE: Changes made as a result of 13-Mar-05 802 Architecture Group meeting are in B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ioritized  issues – 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LC – acts as a block to passing additional (e.g., QoS)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Signal) Power/channel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4bit to 48 bit address mapping for bridging (new top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maller than 100 octets allowed for minimum packet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idging compatibility – handling of multicasts, no clause 6 section for .1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n-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e PANs different from WLAN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sh (work TB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rchitectural consistency across three MA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3352680"/>
            <a:ext cx="6781680" cy="76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3657600"/>
            <a:ext cx="6781680" cy="76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0720" y="4572000"/>
            <a:ext cx="5181480" cy="14479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143000" y="4800240"/>
            <a:ext cx="3962520" cy="12193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27432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t architectural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2895480"/>
            <a:ext cx="304920" cy="838440"/>
          </a:xfrm>
          <a:custGeom>
            <a:avLst/>
            <a:gdLst>
              <a:gd name="textAreaLeft" fmla="*/ 40680 w 304920"/>
              <a:gd name="textAreaRight" fmla="*/ 264240 w 30492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685800"/>
            <a:ext cx="838080" cy="2514600"/>
          </a:xfrm>
          <a:custGeom>
            <a:avLst/>
            <a:gdLst>
              <a:gd name="textAreaLeft" fmla="*/ 112320 w 838080"/>
              <a:gd name="textAreaRight" fmla="*/ 725760 w 838080"/>
              <a:gd name="textAreaTop" fmla="*/ 490320 h 2514600"/>
              <a:gd name="textAreaBottom" fmla="*/ 17726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427" stAng="-5400000" swAng="-5400000"/>
                <a:lnTo>
                  <a:pt x="0" y="11013"/>
                </a:lnTo>
                <a:arcTo wR="21600" hR="8427" stAng="10800000" swAng="-1732146"/>
                <a:lnTo>
                  <a:pt x="9123" y="20052"/>
                </a:lnTo>
                <a:lnTo>
                  <a:pt x="21600" y="18147"/>
                </a:lnTo>
                <a:lnTo>
                  <a:pt x="9123" y="13146"/>
                </a:lnTo>
                <a:lnTo>
                  <a:pt x="9123" y="15306"/>
                </a:lnTo>
                <a:arcTo wR="21600" hR="8427" stAng="9067854" swAng="1524147"/>
                <a:lnTo>
                  <a:pt x="256" y="9720"/>
                </a:lnTo>
                <a:arcTo wR="21600" hR="8427" stAng="-10592001" swAng="5192001"/>
                <a:close/>
              </a:path>
              <a:path fill="darkenLess" w="21600" h="21600">
                <a:moveTo>
                  <a:pt x="21600" y="0"/>
                </a:moveTo>
                <a:arcTo wR="21600" hR="8427" stAng="-5400000" swAng="-5400000"/>
                <a:lnTo>
                  <a:pt x="0" y="8427"/>
                </a:lnTo>
                <a:arcTo wR="21600" hR="8427" stAng="10800000" swAng="-207999"/>
                <a:lnTo>
                  <a:pt x="256" y="9720"/>
                </a:lnTo>
                <a:arcTo wR="21600" hR="8427" stAng="-10592001" swAng="5192001"/>
                <a:close/>
              </a:path>
            </a:pathLst>
          </a:cu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609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anagement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08764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cc"/>
                </a:solidFill>
                <a:latin typeface="Times New Roman"/>
              </a:rPr>
              <a:t>{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41148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t addressed at Sunday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rot="10460400">
            <a:off x="8290080" y="3886200"/>
            <a:ext cx="457200" cy="53352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7620120" y="3048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Groups Affec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LC – acts as a block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802.1 and 802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802.1 and 802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Signal) Power/channel management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802.1 and 802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4bit to 48 bit address mapping for bridging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802.1 and 802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maller than 100 octet packets 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802.1 and 802.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ridging compatibility – internal problem being wor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3657600"/>
            <a:ext cx="6705360" cy="609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419720"/>
            <a:ext cx="6705360" cy="6094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to be done by 802.1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plans to solve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feasibility of pl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tudy proposal to use IETF model for QoS – will it work for .15 T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haracterize management function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n’t do bridging 64 to 48 bit addresses – are we OK with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LC – acts as a block to passing additional (e.g., QoS)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3 MAC need LLC support to requests to create/modify/terminate streams based on QoS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needs to be able to be associated with a stream at the MAC S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oS changes need to be communicated to the higher la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be able to inquire QoS characteristics of remote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up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Known issues – 802.15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(as presented at Sunday meeting in San Antoni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e PANs different from WL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 hope the answer is “No” (wrt the MAC servi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at functionality is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ho does what asp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idging compatibility – handling of multicasts, no clause 6 section for .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LC – acts as a block to passing additional (e.g., QoS)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sh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not the same as the .11 issue thoug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rchitectural consistency across three MA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Signal) Power/channel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asynchronous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block size to plan and allocate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(Signal) Power/channel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way to pass (up and down) information that is important to wireless, for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exten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Bridging compatibility – handling of multicasts, no clause 6 section for .1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ility with .1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1a – Bridging is handled in BNEP, which maps to Eth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3 – Annex A (normative) specifies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4 – Annex A (normative) specifies compat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1a – does not do multi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3 – Had multicast, being revised in current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4 – Had broadcast, being revised to include multicast in current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alignment between WG projects and existing 802 architecture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ing current problems, omissions, conflicts, ramifications, and their potential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ing potential refinements or changes to the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ing a regular forum in which such discussion can take place, in a lower pressure environment than is possible during the core Plenary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n issues – 802.1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s to roll its own EAP transport as .1X/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s above the L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 PKI model in .1X/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BS – breaks security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hould schedule a joint meeting with 802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e 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idging compatibility – handling of multicasts, no clause 6 section for .1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MTU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k at 802.1AD LLDP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n issues – 802.1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me 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dissimilar problem to dot-3 – will take their l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S/Q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ok at intsrv/diffs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have layering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n issues – 802.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eds to support handoff – not clear how to deal with L2 handoff in current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standard way to pass upper layer QoS requirements through to MAC level QoS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LC acts as a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ation to IntSrv/DifSrv mechan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s to roll its own EAP transport as .1X/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s above the L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KI model in .1X/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tibility between 802.20 frame and LLC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n issues – 802.2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oS mapping across heterogeneous inter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of 802 MACs to support IntServ/DifServ (management interfaces, etc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ny to provide a pointer to the relevant RF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uthentication mechanisms – different mechanisms in different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curity – how do you re-establish the security con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vice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wer/channel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n issues – 802.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to avoid all of the 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n issues – Broadband over Power lines (external projec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this be Bridgeable or will it only be routable (to 802 technologies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rder for the technology to be  Bridgeable, then they should participate in this architecture grou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liaison with 802 a requirement of the P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should address coexistence (with other techn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ty balloting would tend to disenfranchise a significant body of technical expertise from the balloting process. LMSC join as an ent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ups that have QOS on list to look at IETF intsrv/difsrv documents &amp; identify specific things that would allow their MAC to better  support thes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ups that have listed security issues to detail specific questions/issues regard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utorial on service interface vs 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for next meeting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nday July 17 2005, 2-5p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inue (.11 through .1) refinement and prioritisation of current issues list based on WG input (homework items from previous slid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ort back on issues that are currently being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osals for resolution of high priority issues that are not currently being add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nd more time on QoS, especially support of intsrv/diffsrv by 802 MA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cha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eeting per Plenary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ed by 802.1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lot: 2-5 PM Sunday prior to Ple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ants: Initially, WG Chairs plus one (or more) “architects” or “technical leads”; long term, whoever the Chair determines is appropriate/w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eting Topic: Architectural issues known to each WG &amp; how they might be resol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eeting: July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ctually have a recurring discussion on architectural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mprove cross-WG discussion/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promote a common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 detail document ori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ensus, frame of mind, consciousness ra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ybe slideware if appropr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pics/thoughts for the focus of the next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ncouragement to WGs to fix identified problems in appropriate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ple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ervation of lay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 to formally establish the activity as a SEC standing committ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G Chairs to appoint max 2 nominated participants per W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fications for participants: Capable of generating a durable architecture. Capable of knowing the difference between an architecture, a product, and a standard. Respected within their WG as subject matter expe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to SEC on status at each mee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n issues – 802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C Service definition (currently a revision PAR in pla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oS – could be better expr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urity expressed as a set of procedures after network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agement – scope and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monality of MAC/PHY management interfaces (managed object defini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B definition for service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 work gets done – 802.1 vs 802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ess – ensuring due di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x fram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sition/location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n issues – 802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QoS/class of ser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iming, synchronous, guaranteed bandwidth, low jitter/latency, congestion management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eed a consistent architecture for QOS across 802 so we can switch between port typ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ny questions coming from many new projects across the MAC grou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thernet/TCP-IP interdepen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o we care about anything non-TC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Yes, we care. Telecomunications, backplane, a lot of entertainment is UDP, SCT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finitately need strong non-TCP support, Harder to say something other than IP is need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curity/link ag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is should be generalized to above MAC layer 2 protocols over link agg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ith 2 port bridge/media converter, can you run link agg on two parallel links with this in e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o we need a new link agg in the futu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ual homing/resilience/robust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ow priority - no advocates currently pushing specif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layer 3 solutions ex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ackplane might want it at some point. If so, it seems most appropriate for 802.1 so it could work across MAC typ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AC Service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No indication MAC to MAC client of readiness for another request. Thus commit to a request is ambiguous. When can you replace a low priority request with a low priority request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ould help Q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hould we have a MA data request acknowledg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own issues – 802.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oS/class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iming, synchronous, guaranteed bandwidth, low jitter/latency, congestion managemen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tocol definition vs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ridging compatibility – handling of multica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LC – acts as a block to passing additional (e.g., QoS)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e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hat is the (future) .11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tructure of an 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Signal) Power/channel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6:47:16Z</dcterms:created>
  <dc:creator>Tony Jeffree</dc:creator>
  <dc:description/>
  <dc:language>en-US</dc:language>
  <cp:lastModifiedBy>Tony Jeffree</cp:lastModifiedBy>
  <dcterms:modified xsi:type="dcterms:W3CDTF">2005-03-15T15:18:03Z</dcterms:modified>
  <cp:revision>12</cp:revision>
  <dc:subject/>
  <dc:title>802 Architecture Group</dc:title>
</cp:coreProperties>
</file>