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E4ED65-DDA5-4030-8585-B84F2BCC21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3C06B-5E32-447B-B08E-97BA83511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0A6B1-CEA4-475E-9C1F-1C6D4DD721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A533C-BC8C-44F8-A358-E307DD19F2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398590-7AE8-4DAB-A7E4-AC216EAF3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91635-A76A-435C-9024-B2E4BD732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C5F4F-7080-4F01-9E5F-EB7AC6170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12400-E376-47ED-BEA8-D721753B5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4465C-186B-46F4-96F5-F9BAC9D1F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B6E18-91ED-4004-8B43-387EE0D68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859FA-9C3B-4626-AFE2-E6C8593D3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486A4-6CD9-4E12-938A-2CA3514DD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6347F-AF18-424E-92A3-9A6FFF83BD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energystar.gov/index.cfm?c=home.index"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Architecture Grou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04920" y="2514600"/>
            <a:ext cx="8686800" cy="37339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ebsit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ttp://www.ieee802.org/1/files/public/802_architecture_group/</a:t>
            </a:r>
            <a:endParaRPr b="0" lang="en-US" sz="24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ing the Email exploder:</a:t>
            </a:r>
            <a:endParaRPr b="0" lang="en-US" sz="4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ttp://www.ieee802.org/1/email-pages/joining.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3 Issu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architecture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k aggregatio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hernet IP interdependence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al homing/resilience/robustness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Manage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OS architecture (1)</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Service interfac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it point – when can MAC client change the MA Data Reques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and consistent definition of where queues reside – for 802.3 above interface but for other 802 below interf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ment of transmission to MAC client?</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status – higher layers don’t know if transmission will leave D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OS architecture (2)</a:t>
            </a:r>
            <a:endParaRPr b="0" lang="en-US" sz="4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ck synchroniz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ential and industrial Ethernet applica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have implications within IEEE 1073 applications (healthcare)</a:t>
            </a:r>
            <a:endParaRPr b="0" lang="en-US" sz="2400" spc="-1" strike="noStrike">
              <a:solidFill>
                <a:srgbClr val="000000"/>
              </a:solidFill>
              <a:latin typeface="Times New Roman"/>
            </a:endParaRPr>
          </a:p>
          <a:p>
            <a:pPr lvl="1" marL="743040" indent="-285840">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Work on this will probably be moving to.1, but may need .3 “hooks” (e.g. service interface or mgm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e control</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802.3ar now has a proposed draf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 projects proposed to use that capability</a:t>
            </a:r>
            <a:endParaRPr b="0" lang="en-US" sz="2400" spc="-1" strike="noStrike">
              <a:solidFill>
                <a:srgbClr val="000000"/>
              </a:solidFill>
              <a:latin typeface="Times New Roman"/>
            </a:endParaRPr>
          </a:p>
          <a:p>
            <a:pPr lvl="1" marL="743040" indent="-285840">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802.3’s direction here is in process; other groups may want to look at what we are doing and give feed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OS architecture (3)</a:t>
            </a:r>
            <a:endParaRPr b="0" lang="en-US" sz="4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gestion management</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ncy and latency jitter</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enter Ethernet applications</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dential applications</a:t>
            </a:r>
            <a:endParaRPr b="0" lang="en-US" sz="2800" spc="-1" strike="noStrike">
              <a:solidFill>
                <a:srgbClr val="000000"/>
              </a:solidFill>
              <a:latin typeface="Times New Roman"/>
            </a:endParaRPr>
          </a:p>
          <a:p>
            <a:pPr lvl="1" marL="743040" indent="-28584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Expect this will be moving to 802.1; any open 802.3 issues will come under the MAC service interface ite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nk aggregation</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n 802.3 sublayer but it has to go above 802.1x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 current plan on media converte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converters will be transparent to link ag – i.e. a physical link with a media converter in it can be aggregat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no way for management above link ag to address management frames to a media converter in an aggregated link</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we need additional capabilities such as ability to co-operate to keep both directions of a flow on the same link? – Decision: not at this time. </a:t>
            </a:r>
            <a:r>
              <a:rPr b="0" lang="en-US" sz="2400" spc="-1" strike="noStrike">
                <a:solidFill>
                  <a:srgbClr val="cc3300"/>
                </a:solidFill>
                <a:latin typeface="Times New Roman"/>
              </a:rPr>
              <a:t>clo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scellaneou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ernet IP interdependence </a:t>
            </a:r>
            <a:r>
              <a:rPr b="0" lang="en-US" sz="2800" spc="-1" strike="noStrike">
                <a:solidFill>
                  <a:srgbClr val="cc3300"/>
                </a:solidFill>
                <a:latin typeface="Times New Roman"/>
              </a:rPr>
              <a:t>- clos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rnet is used with protocols other than I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ly just an issue of awareness, not architectur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al homing/resilience/robustness </a:t>
            </a:r>
            <a:r>
              <a:rPr b="0" lang="en-US" sz="2800" spc="-1" strike="noStrike">
                <a:solidFill>
                  <a:srgbClr val="cc3300"/>
                </a:solidFill>
                <a:latin typeface="Times New Roman"/>
              </a:rPr>
              <a:t>- clos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prior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ggregation and Fast Spanning Tree help</a:t>
            </a:r>
            <a:endParaRPr b="0" lang="en-US" sz="2400" spc="-1" strike="noStrike">
              <a:solidFill>
                <a:srgbClr val="000000"/>
              </a:solidFill>
              <a:latin typeface="Times New Roman"/>
            </a:endParaRPr>
          </a:p>
          <a:p>
            <a:pPr lvl="1" marL="743040" indent="-285840">
              <a:lnSpc>
                <a:spcPct val="9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onclusion: not currently an 802.3 issue based on 802.1 pro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w item: Power Management</a:t>
            </a:r>
            <a:endParaRPr b="0" lang="en-US" sz="48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hing new since we created the original 802 issues list</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faceted challenge</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components and system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s on data center equipment density</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cost of operation because of energy consumption</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policy and environmental impact</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torial topic in July</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possible work for 802.3 proposed</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just a problem for 802.3 though</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rchitectural implications related to some previous listed issues (e.g., link availabi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yers of power management</a:t>
            </a: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802 Architectur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ice efficie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chip power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within the syste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 Architecture iss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of the net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ia the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C energy use</a:t>
            </a:r>
            <a:endParaRPr b="0" lang="en-US" sz="4800" spc="-1" strike="noStrike">
              <a:solidFill>
                <a:srgbClr val="000000"/>
              </a:solidFill>
              <a:latin typeface="Times New Roman"/>
            </a:endParaRPr>
          </a:p>
        </p:txBody>
      </p:sp>
      <p:sp>
        <p:nvSpPr>
          <p:cNvPr id="76" name="PlaceHolder 2"/>
          <p:cNvSpPr>
            <a:spLocks noGrp="1"/>
          </p:cNvSpPr>
          <p:nvPr>
            <p:ph/>
          </p:nvPr>
        </p:nvSpPr>
        <p:spPr>
          <a:xfrm>
            <a:off x="685800" y="1981080"/>
            <a:ext cx="32320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ption is driven by on-time, not by u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on the network, PCs must be 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Star is now targeting network connectivity in sleep mo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es of power consumption</a:t>
            </a:r>
            <a:endParaRPr b="0" lang="en-US" sz="2000" spc="-1" strike="noStrike">
              <a:solidFill>
                <a:srgbClr val="000000"/>
              </a:solidFill>
              <a:latin typeface="Times New Roman"/>
            </a:endParaRPr>
          </a:p>
        </p:txBody>
      </p:sp>
      <p:pic>
        <p:nvPicPr>
          <p:cNvPr id="77" name="" descr=""/>
          <p:cNvPicPr/>
          <p:nvPr/>
        </p:nvPicPr>
        <p:blipFill>
          <a:blip r:embed="rId1"/>
          <a:stretch/>
        </p:blipFill>
        <p:spPr>
          <a:xfrm>
            <a:off x="3962520" y="1295280"/>
            <a:ext cx="4876560" cy="471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rrent energy star</a:t>
            </a:r>
            <a:endParaRPr b="0" lang="en-US" sz="4800" spc="-1" strike="noStrike">
              <a:solidFill>
                <a:srgbClr val="000000"/>
              </a:solidFill>
              <a:latin typeface="Times New Roman"/>
            </a:endParaRPr>
          </a:p>
        </p:txBody>
      </p:sp>
      <p:sp>
        <p:nvSpPr>
          <p:cNvPr id="79"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n inactivity timer to power dow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down monitor, disks, and eventually the entire syste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eep (Windows standby) and hibern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me where left-off on detection of activ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use wiggle or key stroke to wake-u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networking ad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ble spe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enhancements</a:t>
            </a:r>
            <a:endParaRPr b="0" lang="en-US" sz="2400" spc="-1" strike="noStrike">
              <a:solidFill>
                <a:srgbClr val="000000"/>
              </a:solidFill>
              <a:latin typeface="Times New Roman"/>
            </a:endParaRPr>
          </a:p>
        </p:txBody>
      </p:sp>
      <p:pic>
        <p:nvPicPr>
          <p:cNvPr id="80" name="" descr="ENERGY STAR logo">
            <a:hlinkClick r:id="rId1"/>
          </p:cNvPr>
          <p:cNvPicPr/>
          <p:nvPr/>
        </p:nvPicPr>
        <p:blipFill>
          <a:blip r:embed="rId2"/>
          <a:stretch/>
        </p:blipFill>
        <p:spPr>
          <a:xfrm>
            <a:off x="7467480" y="304920"/>
            <a:ext cx="990720" cy="99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 alignment between WG projects and existing 802 architecture b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current problems, omissions, conflicts, ramifications, and their potential resolu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potential refinements or changes to the archite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a regular forum in which such discussion can take place, in a lower pressure environment than is possible during the core Plenary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twork based alternatives</a:t>
            </a:r>
            <a:endParaRPr b="0" lang="en-US" sz="48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ke-on-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ed pack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speed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ake-on-LAN</a:t>
            </a:r>
            <a:endParaRPr b="0" lang="en-US" sz="48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pecial (non-standard) MAC fram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MAC address 16 times in data fiel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n 802.3 NIC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in some 802.11 NIC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limited mobility of devic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and protocols do not support W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route to target device when timeout causes discard of ARP cache ent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connection starts with a SY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rected packet wake-up</a:t>
            </a:r>
            <a:endParaRPr b="0" lang="en-US" sz="48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tion of “interesting” packet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ble packet filtering</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ke-on-LAN</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protocol packet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a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kes up on junk</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always wake-up when desired</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managed/configured</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cept of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nk speed power relationship</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88"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00 Mb/s use small number of gates, 1G/10G use significantly more gates at high spe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N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link = 135 m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BASE-T = 150 m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BASE-T = 1.1 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GBASE-T = 13 W</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 Ethernet link and reestablishes at different speed though autonegot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twork connectivity trends</a:t>
            </a:r>
            <a:endParaRPr b="0" lang="en-US" sz="48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PCs left activ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rotocols not designed power effect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applications assume always 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anent connections are becoming more comm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eep is not a network state, but a device st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way to know sleep state of remote de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non-guaranteed wake-up cap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ptions for continued evaluation</a:t>
            </a:r>
            <a:endParaRPr b="0" lang="en-US" sz="4800" spc="-1" strike="noStrike">
              <a:solidFill>
                <a:srgbClr val="000000"/>
              </a:solidFill>
              <a:latin typeface="Times New Roman"/>
            </a:endParaRPr>
          </a:p>
        </p:txBody>
      </p:sp>
      <p:sp>
        <p:nvSpPr>
          <p:cNvPr id="92"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aware system sleep states</a:t>
            </a:r>
            <a:endParaRPr b="0" lang="en-US" sz="28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of proxie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reliable wake-up</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becomes part of system power management</a:t>
            </a:r>
            <a:endParaRPr b="0" lang="en-US" sz="2400" spc="-1" strike="noStrike">
              <a:solidFill>
                <a:srgbClr val="000000"/>
              </a:solidFill>
              <a:latin typeface="Times New Roman"/>
            </a:endParaRPr>
          </a:p>
          <a:p>
            <a:pPr marL="343080" indent="-34308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as a network function</a:t>
            </a:r>
            <a:endParaRPr b="0" lang="en-US" sz="28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switch would  play an increased role</a:t>
            </a:r>
            <a:endParaRPr b="0" lang="en-US" sz="2400" spc="-1" strike="noStrike">
              <a:solidFill>
                <a:srgbClr val="000000"/>
              </a:solidFill>
              <a:latin typeface="Times New Roman"/>
            </a:endParaRPr>
          </a:p>
          <a:p>
            <a:pPr marL="343080" indent="-34308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latency of link speed change</a:t>
            </a:r>
            <a:endParaRPr b="0" lang="en-US" sz="28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a WG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802.11 was “allocated” issues by the other WGs</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341000"/>
            <a:ext cx="3809880" cy="47545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group allocated 802.11 some issues</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Bridging compatibility”</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Security”</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QoS/class of service”</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Protocol definition vs scope” </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LLC”</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Mesh”</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What is the future .11 architecture”</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Power/channel management”</a:t>
            </a:r>
            <a:endParaRPr b="0" lang="en-US" sz="2000" spc="-1" strike="noStrike">
              <a:solidFill>
                <a:srgbClr val="000000"/>
              </a:solidFill>
              <a:latin typeface="Times New Roman"/>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ded: Additional issues or comments</a:t>
            </a:r>
            <a:endParaRPr b="0" lang="en-US" sz="2000" spc="-1" strike="noStrike">
              <a:solidFill>
                <a:srgbClr val="000000"/>
              </a:solidFill>
              <a:latin typeface="Times New Roman"/>
            </a:endParaRPr>
          </a:p>
        </p:txBody>
      </p:sp>
      <p:sp>
        <p:nvSpPr>
          <p:cNvPr id="95" name="PlaceHolder 3"/>
          <p:cNvSpPr>
            <a:spLocks noGrp="1"/>
          </p:cNvSpPr>
          <p:nvPr>
            <p:ph/>
          </p:nvPr>
        </p:nvSpPr>
        <p:spPr>
          <a:xfrm>
            <a:off x="4647960" y="1268280"/>
            <a:ext cx="3809880" cy="4827600"/>
          </a:xfrm>
          <a:prstGeom prst="rect">
            <a:avLst/>
          </a:prstGeom>
          <a:noFill/>
          <a:ln w="0">
            <a:noFill/>
          </a:ln>
        </p:spPr>
        <p:txBody>
          <a:bodyPr lIns="90000" rIns="90000" tIns="46800" bIns="46800" anchor="t">
            <a:normAutofit fontScale="95000"/>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allocated” issues are unclear to some 802.11 members</a:t>
            </a:r>
            <a:endParaRPr b="0" lang="en-US" sz="2400" spc="-1" strike="noStrike">
              <a:solidFill>
                <a:srgbClr val="000000"/>
              </a:solidFill>
              <a:latin typeface="Times New Roman"/>
            </a:endParaRPr>
          </a:p>
          <a:p>
            <a:pPr lvl="1" marL="254520" indent="-25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dditional slides are attached that reflect the ongoing discussion that has occurred over the last four months via email and at the previous interim meeting held in May 2005 as compiled from 802.11-05/0407r2. The slides are an attempt to represent comments without specific author endorsement. As such the authors of this document to do necessarily share these views. This forum and this document was designed to facilitate discu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333360"/>
            <a:ext cx="8713800" cy="58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Do we need a standard bridge table updating mechanism</a:t>
            </a:r>
            <a:endParaRPr b="0" lang="en-US" sz="4400" spc="-1" strike="noStrike">
              <a:solidFill>
                <a:srgbClr val="000000"/>
              </a:solidFill>
              <a:latin typeface="Times New Roman"/>
            </a:endParaRPr>
          </a:p>
        </p:txBody>
      </p:sp>
      <p:sp>
        <p:nvSpPr>
          <p:cNvPr id="97" name="PlaceHolder 2"/>
          <p:cNvSpPr>
            <a:spLocks noGrp="1"/>
          </p:cNvSpPr>
          <p:nvPr>
            <p:ph/>
          </p:nvPr>
        </p:nvSpPr>
        <p:spPr>
          <a:xfrm>
            <a:off x="610920" y="1267920"/>
            <a:ext cx="3809880" cy="46198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situation?</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STA roaming to a new AP is a normal part of 802.11 operation</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deally, it should be achieved without disruption to QoS on the STA</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is requires frames destined to the STA to be redirected to the new AP</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problem?</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 network using 802.1D bridges, will not update the forwarding tables until a frame is sent in the opposite direction</a:t>
            </a:r>
            <a:endParaRPr b="0" lang="en-US" sz="2000" spc="-1" strike="noStrike">
              <a:solidFill>
                <a:srgbClr val="000000"/>
              </a:solidFill>
              <a:latin typeface="Times New Roman"/>
            </a:endParaRPr>
          </a:p>
        </p:txBody>
      </p:sp>
      <p:sp>
        <p:nvSpPr>
          <p:cNvPr id="98" name="PlaceHolder 3"/>
          <p:cNvSpPr>
            <a:spLocks noGrp="1"/>
          </p:cNvSpPr>
          <p:nvPr>
            <p:ph/>
          </p:nvPr>
        </p:nvSpPr>
        <p:spPr>
          <a:xfrm>
            <a:off x="4643280" y="1412640"/>
            <a:ext cx="3810240" cy="4546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we do about it?</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We need a standard method for updating the bridge forwarding tables when a STA roams that will take effect within the sort of timescales needed to maintain QoS (5 to 30m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Mike Moreton believes, “properly designed network should be capable of updating its own forwarding tables without help from external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Times New Roman"/>
              </a:rPr>
              <a:t>Mike Moreton asks whether we need a standard bridge table updating mechanism</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This issue was documented in a recent  liaison to 802.1 (05/0185r2)</a:t>
            </a:r>
            <a:endParaRPr b="0" lang="en-US" sz="2400" spc="-1" strike="noStrike">
              <a:solidFill>
                <a:srgbClr val="000000"/>
              </a:solidFill>
              <a:latin typeface="Times New Roman"/>
            </a:endParaRPr>
          </a:p>
          <a:p>
            <a:pPr lvl="2" marL="1143000" indent="-22860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It is under consideration already?</a:t>
            </a:r>
            <a:endParaRPr b="0" lang="en-US" sz="20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802.11F represents an effort to solve this problem</a:t>
            </a:r>
            <a:endParaRPr b="0" lang="en-US" sz="2400" spc="-1" strike="noStrike">
              <a:solidFill>
                <a:srgbClr val="000000"/>
              </a:solidFill>
              <a:latin typeface="Times New Roman"/>
            </a:endParaRPr>
          </a:p>
          <a:p>
            <a:pPr lvl="2" marL="1143000" indent="-22860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There is contention about whether 802.11F will survive</a:t>
            </a:r>
            <a:endParaRPr b="0" lang="en-US" sz="20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A more general architectural concept of updating location may be needed</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802.1D is not the only way to construct a 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Bridging compatibility”  architecture iss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Is this issue related to forward and backward compatibility between 48 b address versus 64 b address?</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ridging compatibility – handling of multicasts” issue was allocated to 802.11</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is not clear what the issue i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Is this issue related to multicasts with security enabled?</a:t>
            </a:r>
            <a:endParaRPr b="0" lang="en-US" sz="2000" spc="-1" strike="noStrike">
              <a:solidFill>
                <a:srgbClr val="000000"/>
              </a:solidFill>
              <a:latin typeface="Times New Roman"/>
            </a:endParaRPr>
          </a:p>
        </p:txBody>
      </p:sp>
      <p:sp>
        <p:nvSpPr>
          <p:cNvPr id="10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sm</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eting per Plenary cyc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ed by 802.1 Chai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lot: 2-5 PM Sunday prior to Plena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nts: Initially, WG Chairs plus one (or more) “architects” or “technical leads”; long term, whoever the Chair determines is appropriate/wil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 Topic: Architectural issues known to each WG &amp; how they might be resolv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meeting: July 2004</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Mike Moreton asks whether 802.1X needs to be modified to reflect realities of broadcast media</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situation?</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X was designed for situations where there was one end station per port</a:t>
            </a:r>
            <a:endParaRPr b="0" lang="en-US" sz="20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problem?</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i can have multiple end-stations per port because its a broadcast medium</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i overcomes the problem using virtual ports by having each STA's data encrypted with a different pair-wise key </a:t>
            </a:r>
            <a:endParaRPr b="0" lang="en-US" sz="2000" spc="-1" strike="noStrike">
              <a:solidFill>
                <a:srgbClr val="000000"/>
              </a:solidFill>
              <a:latin typeface="Times New Roman"/>
            </a:endParaRPr>
          </a:p>
          <a:p>
            <a:pPr lvl="2" marL="1005840" indent="-20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d you thought that was to stop eavesdropping</a:t>
            </a:r>
            <a:endParaRPr b="0" lang="en-US" sz="1800" spc="-1" strike="noStrike">
              <a:solidFill>
                <a:srgbClr val="000000"/>
              </a:solidFill>
              <a:latin typeface="Times New Roman"/>
            </a:endParaRPr>
          </a:p>
          <a:p>
            <a:pPr lvl="2" marL="1005840" indent="-20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last part of 04/1191r5</a:t>
            </a:r>
            <a:endParaRPr b="0" lang="en-US" sz="18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re are still some aspects of 802.1X that are limited to the physical port </a:t>
            </a:r>
            <a:endParaRPr b="0" lang="en-US" sz="2000" spc="-1" strike="noStrike">
              <a:solidFill>
                <a:srgbClr val="000000"/>
              </a:solidFill>
              <a:latin typeface="Times New Roman"/>
            </a:endParaRPr>
          </a:p>
          <a:p>
            <a:pPr lvl="2" marL="994320" indent="-198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uthenticating through one port (we're talking an AP working on different channels here) shouldn't allow you to send data via a different port, because the keys may well not have been programmed in on that port.</a:t>
            </a:r>
            <a:endParaRPr b="0" lang="en-US" sz="18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we do about it?</a:t>
            </a:r>
            <a:endParaRPr b="0"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 need to have some reflection in 802.1X of how it works with broadcast media where traffic is segmented by separate ke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Times New Roman"/>
              </a:rPr>
              <a:t>Mike Moreton asks whether 802.1X needs to be modified to reflect realities of broadcast media</a:t>
            </a: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This issue was documented in a recent  liaison to 802.1 (05/0185r2)</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Is it under consideration already?</a:t>
            </a:r>
            <a:endParaRPr b="0" lang="en-US" sz="2000" spc="-1" strike="noStrike">
              <a:solidFill>
                <a:srgbClr val="000000"/>
              </a:solidFill>
              <a:latin typeface="Times New Roman"/>
            </a:endParaRPr>
          </a:p>
        </p:txBody>
      </p:sp>
      <p:sp>
        <p:nvSpPr>
          <p:cNvPr id="11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It was noted that 802.1X does not recognise or take advantage of the fact that STAs often move from port to port</a:t>
            </a:r>
            <a:endParaRPr b="0" lang="en-US" sz="24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Does the port a mobile STA moves to need to be blocked or can it be pre-unblocked?</a:t>
            </a:r>
            <a:endParaRPr b="0" lang="en-US" sz="20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Can an STA have multiple virtual ports open at o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security” architecture issue</a:t>
            </a: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urity” issue was allocated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not clear what the issue is relative to 802.11? </a:t>
            </a:r>
            <a:endParaRPr b="0" lang="en-US" sz="2400" spc="-1" strike="noStrike">
              <a:solidFill>
                <a:srgbClr val="000000"/>
              </a:solidFill>
              <a:latin typeface="Times New Roman"/>
            </a:endParaRPr>
          </a:p>
        </p:txBody>
      </p:sp>
      <p:sp>
        <p:nvSpPr>
          <p:cNvPr id="11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imes New Roman"/>
              </a:rPr>
              <a:t>Some have said “Time is an important dimension in wireless networks but not wired networks”</a:t>
            </a:r>
            <a:r>
              <a:rPr b="0" lang="en-AU"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610920" y="1915920"/>
            <a:ext cx="3809880" cy="4321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802 is traditionally based on static concepts</a:t>
            </a:r>
            <a:endParaRPr b="0" lang="en-US" sz="24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a:t>
            </a:r>
            <a:r>
              <a:rPr b="0" lang="en-AU" sz="2000" spc="-1" strike="noStrike">
                <a:solidFill>
                  <a:srgbClr val="ff0000"/>
                </a:solidFill>
                <a:latin typeface="Times New Roman"/>
              </a:rPr>
              <a:t>big fat ugly pipe”</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ired networks were originally based on completely static nodes</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Over time slow portability of network connections was taken into account, eg STP</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Connections are mostly binary</a:t>
            </a:r>
            <a:endParaRPr b="0" lang="en-US" sz="2000" spc="-1" strike="noStrike">
              <a:solidFill>
                <a:srgbClr val="000000"/>
              </a:solidFill>
              <a:latin typeface="Times New Roman"/>
            </a:endParaRPr>
          </a:p>
          <a:p>
            <a:pPr lvl="2" marL="1119960" indent="-22392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ie simply up or down</a:t>
            </a:r>
            <a:endParaRPr b="0" lang="en-US" sz="18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Network performance is more predictable</a:t>
            </a:r>
            <a:endParaRPr b="0" lang="en-US" sz="2000" spc="-1" strike="noStrike">
              <a:solidFill>
                <a:srgbClr val="000000"/>
              </a:solidFill>
              <a:latin typeface="Times New Roman"/>
            </a:endParaRPr>
          </a:p>
        </p:txBody>
      </p:sp>
      <p:sp>
        <p:nvSpPr>
          <p:cNvPr id="116" name="PlaceHolder 3"/>
          <p:cNvSpPr>
            <a:spLocks noGrp="1"/>
          </p:cNvSpPr>
          <p:nvPr>
            <p:ph/>
          </p:nvPr>
        </p:nvSpPr>
        <p:spPr>
          <a:xfrm>
            <a:off x="4571640" y="1628280"/>
            <a:ext cx="3809880" cy="45370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Wireless networks are very dynamic</a:t>
            </a:r>
            <a:endParaRPr b="0" lang="en-US" sz="24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a:t>
            </a:r>
            <a:r>
              <a:rPr b="0" lang="en-AU" sz="2000" spc="-1" strike="noStrike">
                <a:solidFill>
                  <a:srgbClr val="ff0000"/>
                </a:solidFill>
                <a:latin typeface="Times New Roman"/>
              </a:rPr>
              <a:t>nasty thin network”</a:t>
            </a:r>
            <a:endParaRPr b="0" lang="en-US" sz="20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STAs move often and by choice</a:t>
            </a:r>
            <a:endParaRPr b="0" lang="en-US" sz="20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Network conditions change rapidly and massively</a:t>
            </a:r>
            <a:endParaRPr b="0" lang="en-US" sz="20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Interference</a:t>
            </a:r>
            <a:endParaRPr b="0" lang="en-US" sz="18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Contention</a:t>
            </a:r>
            <a:endParaRPr b="0" lang="en-US" sz="18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Connections in wireless are “analog”</a:t>
            </a:r>
            <a:endParaRPr b="0" lang="en-US" sz="20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ie 0-100%</a:t>
            </a:r>
            <a:endParaRPr b="0" lang="en-US" sz="18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Network performance tends to vary significantly over time</a:t>
            </a:r>
            <a:endParaRPr b="0" lang="en-US" sz="20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eg delay, jitter, loss etc</a:t>
            </a:r>
            <a:endParaRPr b="0" lang="en-US" sz="1800" spc="-1" strike="noStrike">
              <a:solidFill>
                <a:srgbClr val="000000"/>
              </a:solidFill>
              <a:latin typeface="Times New Roman"/>
            </a:endParaRPr>
          </a:p>
          <a:p>
            <a:pPr lvl="2" marL="1074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imes New Roman"/>
              </a:rPr>
              <a:t>Dynamic Wireless networks have particular needs that need to be recognised by the 802 architecture</a:t>
            </a:r>
            <a:endParaRPr b="0" lang="en-US" sz="4000" spc="-1" strike="noStrike">
              <a:solidFill>
                <a:srgbClr val="000000"/>
              </a:solidFill>
              <a:latin typeface="Times New Roman"/>
            </a:endParaRPr>
          </a:p>
        </p:txBody>
      </p:sp>
      <p:sp>
        <p:nvSpPr>
          <p:cNvPr id="1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ireless networks need more than just link up/down to enable sensible operation</a:t>
            </a:r>
            <a:endParaRPr b="0" lang="en-US" sz="2000" spc="-1" strike="noStrike">
              <a:solidFill>
                <a:srgbClr val="000000"/>
              </a:solidFill>
              <a:latin typeface="Times New Roman"/>
            </a:endParaRPr>
          </a:p>
          <a:p>
            <a:pPr lvl="2" marL="1143000" indent="-22860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We need an in-between status that changes often</a:t>
            </a:r>
            <a:endParaRPr b="0" lang="en-US" sz="18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ireless networks may increasingly use soft handover and need an appropriate infrastructure to support it</a:t>
            </a:r>
            <a:endParaRPr b="0" lang="en-US" sz="2000" spc="-1" strike="noStrike">
              <a:solidFill>
                <a:srgbClr val="000000"/>
              </a:solidFill>
              <a:latin typeface="Times New Roman"/>
            </a:endParaRPr>
          </a:p>
          <a:p>
            <a:pPr lvl="2" marL="1143000" indent="-22860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This leads to the possibility of  two connections to a STA are active at one time</a:t>
            </a:r>
            <a:endParaRPr b="0" lang="en-US" sz="1800" spc="-1" strike="noStrike">
              <a:solidFill>
                <a:srgbClr val="000000"/>
              </a:solidFill>
              <a:latin typeface="Times New Roman"/>
            </a:endParaRPr>
          </a:p>
        </p:txBody>
      </p:sp>
      <p:sp>
        <p:nvSpPr>
          <p:cNvPr id="11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Network management needs to recognise that applications are sometimes in a better position to optimally use the network</a:t>
            </a:r>
            <a:endParaRPr b="0" lang="en-US" sz="24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eg Skype does not need a management application providing constant QoS</a:t>
            </a:r>
            <a:endParaRPr b="0" lang="en-US" sz="20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In some applications, it does not matter that 90% of packets are lo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We need to explore the “QoS/class of service” architecture issue</a:t>
            </a:r>
            <a:endParaRPr b="0" lang="en-US" sz="4000" spc="-1" strike="noStrike">
              <a:solidFill>
                <a:srgbClr val="000000"/>
              </a:solidFill>
              <a:latin typeface="Times New Roman"/>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One option was that we carefully map QoS from 802.11 to 802.x</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However, it was noted that the QoS capability changes rapidly and massively in wireless networks</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This might lead to the conclusion that any effort to define a formal QoS mapping is a waste of time</a:t>
            </a:r>
            <a:endParaRPr b="0" lang="en-US" sz="2000" spc="-1" strike="noStrike">
              <a:solidFill>
                <a:srgbClr val="000000"/>
              </a:solidFill>
              <a:latin typeface="Times New Roman"/>
            </a:endParaRPr>
          </a:p>
        </p:txBody>
      </p:sp>
      <p:sp>
        <p:nvSpPr>
          <p:cNvPr id="12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Maybe the best approach is to allow people to independently do what they think is best at the time – a one size fits all approach may not make sense or be 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e need to explore the “QoS/class of service” architecture issue</a:t>
            </a:r>
            <a:endParaRPr b="0" lang="en-US" sz="4000" spc="-1" strike="noStrike">
              <a:solidFill>
                <a:srgbClr val="000000"/>
              </a:solidFill>
              <a:latin typeface="Times New Roman"/>
            </a:endParaRPr>
          </a:p>
        </p:txBody>
      </p:sp>
      <p:sp>
        <p:nvSpPr>
          <p:cNvPr id="12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QoS/class of service” issue was allocated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has been interpreted to mean, “How do you map QoS between different network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e issue interpretation correct and comple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rPr>
              <a:t>We need to explore the “Protocol definition vs scope” architecture issue</a:t>
            </a:r>
            <a:endParaRPr b="0" lang="en-US" sz="3600" spc="-1" strike="noStrike">
              <a:solidFill>
                <a:srgbClr val="000000"/>
              </a:solidFill>
              <a:latin typeface="Times New Roman"/>
            </a:endParaRPr>
          </a:p>
        </p:txBody>
      </p:sp>
      <p:sp>
        <p:nvSpPr>
          <p:cNvPr id="1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It was not clear what the issue wa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Some hypothesised that this issue resulted from some thinking that 802.11 has defined features above L2 too often in the past</a:t>
            </a:r>
            <a:endParaRPr b="0" lang="en-US" sz="2400" spc="-1" strike="noStrike">
              <a:solidFill>
                <a:srgbClr val="000000"/>
              </a:solidFill>
              <a:latin typeface="Times New Roman"/>
            </a:endParaRPr>
          </a:p>
        </p:txBody>
      </p:sp>
      <p:sp>
        <p:nvSpPr>
          <p:cNvPr id="12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When is it appropriate for 802.11 to define L2+ features?</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hen the features are unique to 802.11?</a:t>
            </a:r>
            <a:endParaRPr b="0" lang="en-US" sz="20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hen 802.1 will not undertake the definition task?</a:t>
            </a:r>
            <a:endParaRPr b="0" lang="en-US" sz="20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hen non-802.11 (eg IETF) technologies are invol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LLC” architecture issue</a:t>
            </a:r>
            <a:endParaRPr b="0" lang="en-US" sz="4400" spc="-1" strike="noStrike">
              <a:solidFill>
                <a:srgbClr val="000000"/>
              </a:solidFill>
              <a:latin typeface="Times New Roman"/>
            </a:endParaRPr>
          </a:p>
        </p:txBody>
      </p:sp>
      <p:sp>
        <p:nvSpPr>
          <p:cNvPr id="1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LC” issue was allocated to 802.1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sue has been interpreted as meanin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LC provides no mechanism for  passing additional parameter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eans that it is difficult to up set up a QoS connection across multiple radio links</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MESH” architecture issue</a:t>
            </a: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SH” issue was allocated to 802.11</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sue has been interpreted as meaning:</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ongoing 802.11s task groups discussion regarding modifying: discovery, spanning tree and routing/bridging should be happening elsewhere.</a:t>
            </a:r>
            <a:endParaRPr b="0" lang="en-US" sz="20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tually have a recurring discussion on architectural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mprove cross-WG discussion/understa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mote a common vie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e need to explore the Signal Power/ Channel Management architecture issue</a:t>
            </a:r>
            <a:endParaRPr b="0" lang="en-US" sz="36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ground</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02.11k is addressing common measurement some misunderstood or confused management with measurement</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02.11v is considering this effort to be within its scope </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problem</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ple working groups are presently or have already defined this issue using different definitions, semantics and formulas only for themselves</a:t>
            </a:r>
            <a:endParaRPr b="0" lang="en-US" sz="2000" spc="-1" strike="noStrike">
              <a:solidFill>
                <a:srgbClr val="000000"/>
              </a:solidFill>
              <a:latin typeface="Times New Roman"/>
            </a:endParaRPr>
          </a:p>
        </p:txBody>
      </p:sp>
      <p:sp>
        <p:nvSpPr>
          <p:cNvPr id="1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 for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 for 80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802.11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Are there any additional issues or comments?</a:t>
            </a:r>
            <a:endParaRPr b="0" lang="en-US" sz="4400" spc="-1" strike="noStrike">
              <a:solidFill>
                <a:srgbClr val="000000"/>
              </a:solidFill>
              <a:latin typeface="Times New Roman"/>
            </a:endParaRPr>
          </a:p>
        </p:txBody>
      </p:sp>
      <p:sp>
        <p:nvSpPr>
          <p:cNvPr id="13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Some people would like a “common language” and “dictionary” to talk about wireless networks – but other’s want something “not too detailed”</a:t>
            </a:r>
            <a:endParaRPr b="0" lang="en-US" sz="2000" spc="-1" strike="noStrike">
              <a:solidFill>
                <a:srgbClr val="000000"/>
              </a:solidFill>
              <a:latin typeface="Times New Roman"/>
            </a:endParaRPr>
          </a:p>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Should 802.11 undertake network discovery (eg TGu, TGs) or should there be a more common approach across 802?</a:t>
            </a:r>
            <a:endParaRPr b="0" lang="en-US" sz="2000" spc="-1" strike="noStrike">
              <a:solidFill>
                <a:srgbClr val="000000"/>
              </a:solidFill>
              <a:latin typeface="Times New Roman"/>
            </a:endParaRPr>
          </a:p>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Maybe we “need to create a focused wireless architecture group because wired is so different?” </a:t>
            </a:r>
            <a:endParaRPr b="0" lang="en-US" sz="2000" spc="-1" strike="noStrike">
              <a:solidFill>
                <a:srgbClr val="000000"/>
              </a:solidFill>
              <a:latin typeface="Times New Roman"/>
            </a:endParaRPr>
          </a:p>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Maybe “this effort belongs under co-existence?”</a:t>
            </a:r>
            <a:endParaRPr b="0" lang="en-US" sz="2000" spc="-1" strike="noStrike">
              <a:solidFill>
                <a:srgbClr val="000000"/>
              </a:solidFill>
              <a:latin typeface="Times New Roman"/>
            </a:endParaRPr>
          </a:p>
        </p:txBody>
      </p:sp>
      <p:sp>
        <p:nvSpPr>
          <p:cNvPr id="14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lvl="1" marL="720720" indent="-277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Maybe we “need to change the 802 architecture moving this work away from 802.1 and to a wireless TAG” that would allow each participant to maintain their membership in their respective primary working group?</a:t>
            </a:r>
            <a:endParaRPr b="0" lang="en-US" sz="2000" spc="-1" strike="noStrike">
              <a:solidFill>
                <a:srgbClr val="000000"/>
              </a:solidFill>
              <a:latin typeface="Times New Roman"/>
            </a:endParaRPr>
          </a:p>
          <a:p>
            <a:pPr lvl="1" marL="720720" indent="-277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a:t>
            </a:r>
            <a:r>
              <a:rPr b="0" lang="en-AU" sz="2000" spc="-1" strike="noStrike">
                <a:solidFill>
                  <a:srgbClr val="ff0000"/>
                </a:solidFill>
                <a:latin typeface="Times New Roman"/>
              </a:rPr>
              <a:t>Maybe we need a wireless task group inside 802.1?”</a:t>
            </a:r>
            <a:endParaRPr b="0" lang="en-US" sz="2000" spc="-1" strike="noStrike">
              <a:solidFill>
                <a:srgbClr val="000000"/>
              </a:solidFill>
              <a:latin typeface="Times New Roman"/>
            </a:endParaRPr>
          </a:p>
          <a:p>
            <a:pPr lvl="2" marL="1108440" indent="-22140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A group inside 802.1 may divide wireless expertise drawing it away from the wireless groups</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Andrew Myles, Cisco</a:t>
            </a:r>
          </a:p>
        </p:txBody>
      </p:sp>
      <p:sp>
        <p:nvSpPr>
          <p:cNvPr id="6" name="PlaceHolder 5"/>
          <p:cNvSpPr>
            <a:spLocks noGrp="1"/>
          </p:cNvSpPr>
          <p:nvPr>
            <p:ph type="sldNum" idx="3"/>
          </p:nvPr>
        </p:nvSpPr>
        <p:spPr/>
        <p:txBody>
          <a:bodyPr/>
          <a:p>
            <a:fld id="{FC23CE6A-E699-4B10-8DA8-F52AAC6209ED}" type="slidenum">
              <a:t>41</a:t>
            </a:fld>
          </a:p>
        </p:txBody>
      </p:sp>
      <p:sp>
        <p:nvSpPr>
          <p:cNvPr id="7" name="PlaceHolder 6"/>
          <p:cNvSpPr>
            <a:spLocks noGrp="1"/>
          </p:cNvSpPr>
          <p:nvPr>
            <p:ph type="dt" idx="1"/>
          </p:nvPr>
        </p:nvSpPr>
        <p:spPr/>
        <p:txBody>
          <a:bodyPr/>
          <a:p>
            <a:r>
              <a:rPr lang="en-US"/>
              <a:t>May 2005</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648320" y="914400"/>
            <a:ext cx="33526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15 802 Architecture Group Update</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 Siep</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mbridge Silicon Radio</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 Liaison to 802 Architecture Committee</a:t>
            </a:r>
            <a:endParaRPr b="0" lang="en-US" sz="2000" spc="-1" strike="noStrike">
              <a:solidFill>
                <a:srgbClr val="000000"/>
              </a:solidFill>
              <a:latin typeface="Times New Roman"/>
            </a:endParaRPr>
          </a:p>
        </p:txBody>
      </p:sp>
      <p:sp>
        <p:nvSpPr>
          <p:cNvPr id="144" name=""/>
          <p:cNvSpPr/>
          <p:nvPr/>
        </p:nvSpPr>
        <p:spPr>
          <a:xfrm>
            <a:off x="4724280" y="914400"/>
            <a:ext cx="3657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TE: Changes made as a result of 13-Mar-05 802 Architecture Group meeting are in BL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oritized  issues – 802.15</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08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sues</a:t>
            </a:r>
            <a:endParaRPr b="0" lang="en-US" sz="20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LC – acts as a block to passing additional (e.g., QoS) parameters</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QoS</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nal) Power/channel management</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4bit to 48 bit address mapping for bridging (new topic)</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maller than 100 octets allowed for minimum packet size</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ridging compatibility – handling of multicasts, no clause 6 section for .1D</a:t>
            </a:r>
            <a:endParaRPr b="0" lang="en-US" sz="1800" spc="-1" strike="noStrike">
              <a:solidFill>
                <a:srgbClr val="000000"/>
              </a:solidFill>
              <a:latin typeface="Times New Roman"/>
            </a:endParaRPr>
          </a:p>
          <a:p>
            <a:pPr marL="3808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Issues</a:t>
            </a:r>
            <a:endParaRPr b="0" lang="en-US" sz="20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re PANs different from WLANs?</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curity</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sh (work TBD)</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rchitectural consistency across three MACs</a:t>
            </a:r>
            <a:endParaRPr b="0" lang="en-US" sz="1800" spc="-1" strike="noStrike">
              <a:solidFill>
                <a:srgbClr val="000000"/>
              </a:solidFill>
              <a:latin typeface="Times New Roman"/>
            </a:endParaRPr>
          </a:p>
        </p:txBody>
      </p:sp>
      <p:sp>
        <p:nvSpPr>
          <p:cNvPr id="147" name=""/>
          <p:cNvSpPr/>
          <p:nvPr/>
        </p:nvSpPr>
        <p:spPr>
          <a:xfrm>
            <a:off x="990720" y="3352680"/>
            <a:ext cx="6781680" cy="76320"/>
          </a:xfrm>
          <a:prstGeom prst="line">
            <a:avLst/>
          </a:prstGeom>
          <a:ln w="381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990720" y="3657600"/>
            <a:ext cx="6781680" cy="76320"/>
          </a:xfrm>
          <a:prstGeom prst="line">
            <a:avLst/>
          </a:prstGeom>
          <a:ln w="381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990720" y="4572000"/>
            <a:ext cx="5181480" cy="1447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1143000" y="4800240"/>
            <a:ext cx="3962520" cy="12193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86400" y="274320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t architectural issues</a:t>
            </a:r>
            <a:endParaRPr b="0" lang="en-US" sz="2000" spc="-1" strike="noStrike">
              <a:solidFill>
                <a:srgbClr val="000000"/>
              </a:solidFill>
              <a:latin typeface="Times New Roman"/>
            </a:endParaRPr>
          </a:p>
        </p:txBody>
      </p:sp>
      <p:sp>
        <p:nvSpPr>
          <p:cNvPr id="152" name=""/>
          <p:cNvSpPr/>
          <p:nvPr/>
        </p:nvSpPr>
        <p:spPr>
          <a:xfrm>
            <a:off x="8153280" y="2895480"/>
            <a:ext cx="304920" cy="838440"/>
          </a:xfrm>
          <a:custGeom>
            <a:avLst/>
            <a:gdLst>
              <a:gd name="textAreaLeft" fmla="*/ 40680 w 304920"/>
              <a:gd name="textAreaRight" fmla="*/ 264240 w 304920"/>
              <a:gd name="textAreaTop" fmla="*/ 146520 h 838440"/>
              <a:gd name="textAreaBottom" fmla="*/ 608040 h 838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6320" y="685800"/>
            <a:ext cx="838080" cy="2514600"/>
          </a:xfrm>
          <a:custGeom>
            <a:avLst/>
            <a:gdLst>
              <a:gd name="textAreaLeft" fmla="*/ 112320 w 838080"/>
              <a:gd name="textAreaRight" fmla="*/ 725760 w 838080"/>
              <a:gd name="textAreaTop" fmla="*/ 490320 h 2514600"/>
              <a:gd name="textAreaBottom" fmla="*/ 1772640 h 2514600"/>
            </a:gdLst>
            <a:ahLst/>
            <a:rect l="textAreaLeft" t="textAreaTop" r="textAreaRight" b="textAreaBottom"/>
            <a:pathLst>
              <a:path w="21600" h="21600">
                <a:moveTo>
                  <a:pt x="21600" y="0"/>
                </a:moveTo>
                <a:arcTo wR="21600" hR="8427" stAng="-5400000" swAng="-5400000"/>
                <a:lnTo>
                  <a:pt x="0" y="11013"/>
                </a:lnTo>
                <a:arcTo wR="21600" hR="8427" stAng="10800000" swAng="-1732146"/>
                <a:lnTo>
                  <a:pt x="9123" y="20052"/>
                </a:lnTo>
                <a:lnTo>
                  <a:pt x="21600" y="18147"/>
                </a:lnTo>
                <a:lnTo>
                  <a:pt x="9123" y="13146"/>
                </a:lnTo>
                <a:lnTo>
                  <a:pt x="9123" y="15306"/>
                </a:lnTo>
                <a:arcTo wR="21600" hR="8427" stAng="9067854" swAng="1524147"/>
                <a:lnTo>
                  <a:pt x="256" y="9720"/>
                </a:lnTo>
                <a:arcTo wR="21600" hR="8427" stAng="-10592001" swAng="5192001"/>
                <a:close/>
              </a:path>
              <a:path fill="darkenLess" w="21600" h="21600">
                <a:moveTo>
                  <a:pt x="21600" y="0"/>
                </a:moveTo>
                <a:arcTo wR="21600" hR="8427" stAng="-5400000" swAng="-5400000"/>
                <a:lnTo>
                  <a:pt x="0" y="8427"/>
                </a:lnTo>
                <a:arcTo wR="21600" hR="8427" stAng="10800000" swAng="-207999"/>
                <a:lnTo>
                  <a:pt x="256" y="9720"/>
                </a:lnTo>
                <a:arcTo wR="21600" hR="8427" stAng="-10592001" swAng="5192001"/>
                <a:close/>
              </a:path>
            </a:pathLst>
          </a:cu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90720" y="609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nagement Issues</a:t>
            </a:r>
            <a:endParaRPr b="0" lang="en-US" sz="2400" spc="-1" strike="noStrike">
              <a:solidFill>
                <a:srgbClr val="000000"/>
              </a:solidFill>
              <a:latin typeface="Times New Roman"/>
            </a:endParaRPr>
          </a:p>
        </p:txBody>
      </p:sp>
      <p:sp>
        <p:nvSpPr>
          <p:cNvPr id="155" name=""/>
          <p:cNvSpPr/>
          <p:nvPr/>
        </p:nvSpPr>
        <p:spPr>
          <a:xfrm>
            <a:off x="762120" y="2087640"/>
            <a:ext cx="3808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cc"/>
                </a:solidFill>
                <a:latin typeface="Times New Roman"/>
              </a:rPr>
              <a:t>{</a:t>
            </a:r>
            <a:endParaRPr b="0" lang="en-US" sz="7200" spc="-1" strike="noStrike">
              <a:solidFill>
                <a:srgbClr val="000000"/>
              </a:solidFill>
              <a:latin typeface="Times New Roman"/>
            </a:endParaRPr>
          </a:p>
        </p:txBody>
      </p:sp>
      <p:sp>
        <p:nvSpPr>
          <p:cNvPr id="156" name=""/>
          <p:cNvSpPr/>
          <p:nvPr/>
        </p:nvSpPr>
        <p:spPr>
          <a:xfrm>
            <a:off x="4572000" y="411480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t addressed at Sunday meeting</a:t>
            </a:r>
            <a:endParaRPr b="0" lang="en-US" sz="2000" spc="-1" strike="noStrike">
              <a:solidFill>
                <a:srgbClr val="000000"/>
              </a:solidFill>
              <a:latin typeface="Times New Roman"/>
            </a:endParaRPr>
          </a:p>
        </p:txBody>
      </p:sp>
      <p:sp>
        <p:nvSpPr>
          <p:cNvPr id="157" name=""/>
          <p:cNvSpPr/>
          <p:nvPr/>
        </p:nvSpPr>
        <p:spPr>
          <a:xfrm flipH="1" rot="10460400">
            <a:off x="8290080" y="3886200"/>
            <a:ext cx="457200" cy="533520"/>
          </a:xfrm>
          <a:custGeom>
            <a:avLst/>
            <a:gdLst>
              <a:gd name="textAreaLeft" fmla="*/ 61200 w 457200"/>
              <a:gd name="textAreaRight" fmla="*/ 396000 w 45720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620120" y="3048120"/>
            <a:ext cx="380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cc"/>
                </a:solidFill>
                <a:latin typeface="Times New Roman"/>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Groups Affected</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LC – acts as a block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 Power/channel management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4bit to 48 bit address mapping for bridging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er than 100 octet packets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idging compatibility – internal problem being worked</a:t>
            </a: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
          <p:cNvSpPr/>
          <p:nvPr/>
        </p:nvSpPr>
        <p:spPr>
          <a:xfrm>
            <a:off x="990720" y="3657600"/>
            <a:ext cx="6705360" cy="6094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90720" y="4419720"/>
            <a:ext cx="6705360" cy="6094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to be done by 802.15</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plans to solve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feasibility of plan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tudy proposal to use IETF model for QoS – will it work for .15 TG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haracterize management function need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an’t do bridging 64 to 48 bit addresses – are we OK with th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LLC – acts as a block to passing additional (e.g., QoS) parameters</a:t>
            </a:r>
            <a:endParaRPr b="0" lang="en-US" sz="40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3 MAC need LLC support to requests to create/modify/terminate streams based on QoS paramet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needs to be able to be associated with a stream at the MAC SA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oS changes need to be communicated to the higher lay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ble to inquire QoS characteristics of remote no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s</a:t>
            </a:r>
            <a:endParaRPr b="0" lang="en-US" sz="4400" spc="-1" strike="noStrike">
              <a:solidFill>
                <a:srgbClr val="000000"/>
              </a:solidFill>
              <a:latin typeface="Times New Roman"/>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854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nown issues – 802.15 </a:t>
            </a:r>
            <a:br>
              <a:rPr sz="4000"/>
            </a:br>
            <a:r>
              <a:rPr b="0" lang="en-US" sz="4000" spc="-1" strike="noStrike">
                <a:solidFill>
                  <a:srgbClr val="000000"/>
                </a:solidFill>
                <a:latin typeface="Times New Roman"/>
              </a:rPr>
              <a:t>(as presented at Sunday meeting in San Antonio)</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 PANs different from WLAN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 hope the answer is “No” (wrt the MAC servic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urity</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at functionality is need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o does what aspect</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idging compatibility – handling of multicasts, no clause 6 section for .1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LC – acts as a block to passing additional (e.g., QoS) paramet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sh</a:t>
            </a:r>
            <a:r>
              <a:rPr b="0" lang="en-GB" sz="2800" spc="-1" strike="noStrike">
                <a:solidFill>
                  <a:srgbClr val="000000"/>
                </a:solidFill>
                <a:latin typeface="Times New Roman"/>
              </a:rPr>
              <a:t> </a:t>
            </a:r>
            <a:r>
              <a:rPr b="0" lang="en-GB" sz="2000" spc="-1" strike="noStrike">
                <a:solidFill>
                  <a:srgbClr val="000000"/>
                </a:solidFill>
                <a:latin typeface="Times New Roman"/>
              </a:rPr>
              <a:t>(not the same as the .11 issue thoug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chitectural consistency across three MACs</a:t>
            </a: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nal) Power/channel manag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oS</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asynchronous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block size to plan and allocate resour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  detail document orient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ensus, frame of mind, consciousness rais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be slideware if appropri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pics/thoughts for the focus of the next discus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couragement to WGs to fix identified problems in appropriate way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 architec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servation of laye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gnal) Power/channel management</a:t>
            </a:r>
            <a:endParaRPr b="0" lang="en-US" sz="4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way to pass (up and down) information that is important to wireless, for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pow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tory dom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 qua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exten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idging compatibility – handling of multicasts, no clause 6 section for .1D</a:t>
            </a:r>
            <a:endParaRPr b="0" lang="en-US" sz="40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tibility with .1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a – Bridging is handled in BNEP, which maps to Etherne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 – Annex A (normative) specifies compatibility</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4 – Annex A (normative) specifies compatibilit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a – does not do multica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 – Had multicast, being revised in current work</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4 – Had broadcast, being revised to include multicast in current work</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6</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urity</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s to roll its own EAP transport as .1X/AF</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s above the LLC</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 PKI model in .1X/AF</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BS – breaks security model</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hould schedule a joint meeting with 802.1</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e .21</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idging compatibility – handling of multicasts, no clause 6 section for .1D</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MTU discovery</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ok at 802.1AD LLDP?</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7</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ame siz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 dissimilar problem to dot-3 – will take their lea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S/Q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ok at intsrv/diffsrv</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cur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have layering issu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20</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s to support handoff – not clear how to deal with L2 handoff in current archite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standard way to pass upper layer QoS requirements through to MAC level QoS parame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LC acts as a bloc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lation to IntSrv/DifSrv mechanism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uri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s to roll its own EAP transport as .1X/AF</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s above the LL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PKI model in .1X/AF</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atibility between 802.20 frame and LLC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 : Action items from 3/2005</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okia Sans Wide"/>
              </a:rPr>
              <a:t>Groups that have QOS on list to look at IETF intsrv/difsrv documents &amp; identify specific things that would allow their MAC to better  support these servic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okia Sans Wide"/>
              </a:rPr>
              <a:t>Groups that have listed security issues to detail specific questions/issues regarding securit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okia Sans Wide"/>
              </a:rPr>
              <a:t>Tutorial on service interface vs API (was this Tony’s a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21 : QoS Intserv &amp;&amp; Diffserv</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okia Sans Wide"/>
              </a:rPr>
              <a:t>.21 not specifying a MAC directly</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okia Sans Wide"/>
              </a:rPr>
              <a:t>Working with Intserv model</a:t>
            </a:r>
            <a:endParaRPr b="0" lang="en-US" sz="24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Seems to be main model IETF &amp; industry is following</a:t>
            </a:r>
            <a:endParaRPr b="0" lang="en-US" sz="20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New work in NSIS though</a:t>
            </a:r>
            <a:endParaRPr b="0" lang="en-US" sz="2000" spc="-1" strike="noStrike">
              <a:solidFill>
                <a:srgbClr val="000000"/>
              </a:solidFill>
              <a:latin typeface="Times New Roman"/>
            </a:endParaRPr>
          </a:p>
          <a:p>
            <a:pPr lvl="1" marL="735480" indent="-28296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okia Sans Wide"/>
              </a:rPr>
              <a:t>Several abstractions / categories in 802</a:t>
            </a:r>
            <a:endParaRPr b="0" lang="en-US" sz="24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Grouping of traffic into a link</a:t>
            </a:r>
            <a:endParaRPr b="0" lang="en-US" sz="20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Identifying SDUs by </a:t>
            </a:r>
            <a:endParaRPr b="0" lang="en-US" sz="20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Connections</a:t>
            </a:r>
            <a:endParaRPr b="0" lang="en-US" sz="18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Priorities</a:t>
            </a:r>
            <a:endParaRPr b="0" lang="en-US" sz="18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VLAN</a:t>
            </a:r>
            <a:endParaRPr b="0" lang="en-US" sz="18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Traffic class</a:t>
            </a:r>
            <a:endParaRPr b="0" lang="en-US" sz="1800" spc="-1" strike="noStrike">
              <a:solidFill>
                <a:srgbClr val="000000"/>
              </a:solidFill>
              <a:latin typeface="Times New Roman"/>
            </a:endParaRPr>
          </a:p>
          <a:p>
            <a:pPr lvl="2" marL="11314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okia Sans Wide"/>
              </a:rPr>
              <a:t>.21 : Security Issues</a:t>
            </a:r>
            <a:endParaRPr b="0" lang="en-US" sz="4400" spc="-1" strike="noStrike">
              <a:solidFill>
                <a:srgbClr val="000000"/>
              </a:solidFill>
              <a:latin typeface="Times New Roman"/>
            </a:endParaRPr>
          </a:p>
        </p:txBody>
      </p:sp>
      <p:sp>
        <p:nvSpPr>
          <p:cNvPr id="18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Currently most security issues out of scope for .21</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Having multiple associations at once (MBB)</a:t>
            </a:r>
            <a:endParaRPr b="0" lang="en-US" sz="2800" spc="-1" strike="noStrike">
              <a:solidFill>
                <a:srgbClr val="000000"/>
              </a:solidFill>
              <a:latin typeface="Times New Roman"/>
            </a:endParaRPr>
          </a:p>
          <a:p>
            <a:pPr lvl="1" marL="720720" indent="-27720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okia Sans Wide"/>
              </a:rPr>
              <a:t>Otherwise need fast (re) establishment of SA</a:t>
            </a:r>
            <a:endParaRPr b="0" lang="en-US" sz="2400" spc="-1" strike="noStrike">
              <a:solidFill>
                <a:srgbClr val="000000"/>
              </a:solidFill>
              <a:latin typeface="Times New Roman"/>
            </a:endParaRPr>
          </a:p>
          <a:p>
            <a:pPr marL="332640" indent="-3326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Authentication mechanisms – different mechanisms across 802</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Enabling handover policy to consider security attributes of potential network attachment point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okia Sans Wide"/>
              </a:rPr>
              <a:t>802.21 issues in priority</a:t>
            </a:r>
            <a:endParaRPr b="0" lang="en-US" sz="4400" spc="-1" strike="noStrike">
              <a:solidFill>
                <a:srgbClr val="000000"/>
              </a:solidFill>
              <a:latin typeface="Times New Roman"/>
            </a:endParaRPr>
          </a:p>
        </p:txBody>
      </p:sp>
      <p:sp>
        <p:nvSpPr>
          <p:cNvPr id="190"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QoS mapping across heterogeneous interface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Authentication mechanisms – different mechanisms in different technologie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Security – how do you re-establish the security context during/after transitio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Service discovery</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Neighborhood service differs per technology</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Power/channel management</a:t>
            </a: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22</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to avoid all of the abo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 to formally establish the activity as a SEC standing committe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Chairs to appoint max 2 nominated participants per W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cations for participants: Capable of generating a durable architecture. Capable of knowing the difference between an architecture, a product, and a standard. Respected within their WG as subject matter exper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to SEC on status at each me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Broadband over Power lines (external project)</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this be Bridgeable or will it only be routable (to 802 technolog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the technology to be  Bridgeable, then they should participate in this architecture group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liaison with 802 a requirement of the PA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hould address coexistence (with other technolog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balloting would tend to disenfranchise a significant body of technical expertise from the balloting process. LMSC join as an ent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 items</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roups that have QOS on list to look at IETF intsrv/difsrv documents &amp; identify specific things that would allow their MAC to better  support these services</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ed some work done on this. WG representatives to identify people interested in studying this area of work  &amp; feeding back to the group.</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there is no movement on this by next meeting we will drop the item from the action list.</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roups that have listed security issues to detail specific questions/issues regarding secur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Gs to give brief presentation on how they currently go about defining management functionality for their standard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posals needed for specific issues that we consider we can do something about within this for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posals needed for how commonality of managed object definitions might be achie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for next meeting,</a:t>
            </a:r>
            <a:br>
              <a:rPr sz="4400"/>
            </a:br>
            <a:r>
              <a:rPr b="0" lang="en-US" sz="4400" spc="-1" strike="noStrike">
                <a:solidFill>
                  <a:srgbClr val="000000"/>
                </a:solidFill>
                <a:latin typeface="Times New Roman"/>
              </a:rPr>
              <a:t>Sunday July 16 2006, 2-5pm</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back from “Wireless Architecture Sub-Group”</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ation – Kevin Stanton on time synch for .11, .1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select candidates for known high priority issues that we believe the Architecture group should work on with a view to encouraging their resolu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back on issues that are currently being addres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a:t>
            </a:r>
            <a:endParaRPr b="0" lang="en-US" sz="4400" spc="-1" strike="noStrike">
              <a:solidFill>
                <a:srgbClr val="000000"/>
              </a:solidFill>
              <a:latin typeface="Times New Roman"/>
            </a:endParaRPr>
          </a:p>
        </p:txBody>
      </p:sp>
      <p:sp>
        <p:nvSpPr>
          <p:cNvPr id="54" name="PlaceHolder 2"/>
          <p:cNvSpPr>
            <a:spLocks noGrp="1"/>
          </p:cNvSpPr>
          <p:nvPr>
            <p:ph/>
          </p:nvPr>
        </p:nvSpPr>
        <p:spPr>
          <a:xfrm>
            <a:off x="395280" y="1600200"/>
            <a:ext cx="8569440" cy="449568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C Service definition (currently a revision PAR in place)</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work done on the draft so far</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S and 802.3 MAC service have converged</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ipped out spurious elements that were of historical significance (.5 etc.)</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 ISS, EISS in 802.1Q-REV (2005)</a:t>
            </a:r>
            <a:endParaRPr b="0" lang="en-US" sz="20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 could be better expressed</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a potentially non-terminating discussion</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working in AV Bridging on using the existing mechanisms to achieve specific qoS goals</a:t>
            </a:r>
            <a:endParaRPr b="0" lang="en-US" sz="20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urity expressed as a set of procedures after network entry?</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 is a connectivity association (CA) of service access points</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im operating over the LAN constructs a Secure CA (SCA)</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secure SAP is the Uncontrolled Port</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ure SAP is the Controlled Port (.1X, .1af)</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e AE Fig 10.2., Fig 11-7, Fig 11-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a:t>
            </a:r>
            <a:endParaRPr b="0" lang="en-US" sz="4400" spc="-1" strike="noStrike">
              <a:solidFill>
                <a:srgbClr val="000000"/>
              </a:solidFill>
              <a:latin typeface="Times New Roman"/>
            </a:endParaRPr>
          </a:p>
        </p:txBody>
      </p:sp>
      <p:sp>
        <p:nvSpPr>
          <p:cNvPr id="56" name="PlaceHolder 2"/>
          <p:cNvSpPr>
            <a:spLocks noGrp="1"/>
          </p:cNvSpPr>
          <p:nvPr>
            <p:ph/>
          </p:nvPr>
        </p:nvSpPr>
        <p:spPr>
          <a:xfrm>
            <a:off x="395280" y="1197000"/>
            <a:ext cx="8569440" cy="4898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agement – scope and interface</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monality of MAC/PHY management interfaces (managed object definition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me sentiment in the room that it is a desirable goal, although implementation would be challenging. Action item on this for WG reps to look at what possibilities might exist</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B definition for service discovery</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tential need for a common approach to providing service discovery information (type of MAC, speed,….etc.)</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re work gets done – 802.1 vs 802.X</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one will run and ru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cess – ensuring due diligence</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has been aired recently</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sumption is that dot groups will be held accountable for how they meet their PAR obligations</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x frame size</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ngoing 802.3 project to adjust frame size for additional header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its certain aspects of QoS vs certain aspects of efficiency – how to make this trade-off?</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t clear that there is a universal answer here.</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sition/location awarenes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y be a need for a common approach to providing LAN-specific data that could assist with determining physical lo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Architecture Group</a:t>
            </a:r>
            <a:br>
              <a:rPr sz="4400"/>
            </a:br>
            <a:r>
              <a:rPr b="0" lang="en-US" sz="4400" spc="-1" strike="noStrike">
                <a:solidFill>
                  <a:srgbClr val="000000"/>
                </a:solidFill>
                <a:latin typeface="Times New Roman"/>
              </a:rPr>
              <a:t>802.3 Issues</a:t>
            </a:r>
            <a:br>
              <a:rPr sz="4400"/>
            </a:br>
            <a:r>
              <a:rPr b="0" lang="en-US" sz="4400" spc="-1" strike="noStrike">
                <a:solidFill>
                  <a:srgbClr val="000000"/>
                </a:solidFill>
                <a:latin typeface="Times New Roman"/>
              </a:rPr>
              <a:t>13 November 2005</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4114800"/>
            <a:ext cx="6400800" cy="1828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Thaler</a:t>
            </a:r>
            <a:br>
              <a:rPr sz="2400"/>
            </a:br>
            <a:r>
              <a:rPr b="0" lang="en-US" sz="2400" spc="-1" strike="noStrike">
                <a:solidFill>
                  <a:srgbClr val="000000"/>
                </a:solidFill>
                <a:latin typeface="Times New Roman"/>
              </a:rPr>
              <a:t>Bob  G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16:47:16Z</dcterms:created>
  <dc:creator>Tony Jeffree</dc:creator>
  <dc:description/>
  <dc:language>en-US</dc:language>
  <cp:lastModifiedBy>Tony Jeffree</cp:lastModifiedBy>
  <dcterms:modified xsi:type="dcterms:W3CDTF">2006-06-15T10:14:07Z</dcterms:modified>
  <cp:revision>22</cp:revision>
  <dc:subject/>
  <dc:title>802 Architecture Group</dc:title>
</cp:coreProperties>
</file>