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F1CB6-38AE-46FD-AF56-8618088539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AE8D1-368F-4475-83AA-E81C314F70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C0F0A-D127-4F07-96D5-5F51CB1AC7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DBE56-36DF-487E-ADC0-5553A7906B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D028A-1AEC-4D90-9377-2A4C192A7B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2C4D5-769F-4B00-B65A-ACFE27B096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47384-B6FC-4F67-8E23-A3E4AA0282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ABC60-C9F0-4AC6-9199-2842A0C7C1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4E1B3-34CD-4C3F-AA29-2DCC60F349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BEF59-C158-4262-9ACA-EDB84B1653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8A535-B13A-4212-B348-D36065C253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76515-474F-48AB-ABB8-752A121C5A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EE05-F841-41AA-92BE-5E77BF194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Metro Ethernet Forum OAM</a:t>
            </a:r>
            <a:br>
              <a:rPr sz="4400"/>
            </a:br>
            <a:r>
              <a:rPr b="0" i="1" lang="en-US" sz="3200" spc="-1" strike="noStrike">
                <a:solidFill>
                  <a:srgbClr val="990033"/>
                </a:solidFill>
                <a:latin typeface="Arial"/>
              </a:rPr>
              <a:t>An Update</a:t>
            </a:r>
            <a:endParaRPr b="0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att Squir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atteras Network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A5141-B5EF-4D3A-B6D8-2A20B37F437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OAM Frame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1739880"/>
            <a:ext cx="914400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1234567 89012345 67890123 456789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+--------+--------+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       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Dest MAC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+--------+--------+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Dest MAC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|    Source MAC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+--------+--------+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        Source MAC 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+--------+--------+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VLAN Ethertype |    VLAN Tag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        (Optional) 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+--------+--------+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   OAM       |  OAM   | Version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EtherType    |  Level |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+--------+--------+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Rsvd | OpCode  |       Data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+--------+--------+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Data (OpCode specific, continued)…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+--------+--------+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13520" y="5106960"/>
            <a:ext cx="8085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tination MAC address can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-known Multicast – for discovery and multicast 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cast of peer station – for unicast 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-known addresses default to MEF-defined but are configurabl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mportant la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AF5F8-D533-44F3-98B0-B3A4119844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OAM Frame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739880"/>
            <a:ext cx="914400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1234567 89012345 67890123 456789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+--------+--------+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        Dest MAC   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+--------+--------+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Dest MAC     |    Source MAC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+--------+--------+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        Source MAC 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+--------+--------+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VLAN Ethertype |    VLAN Tag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       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Optional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+--------+--------+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   OAM       |  OAM   | Version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EtherType    |  Level |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+--------+--------+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Rsvd | OpCode  |       Data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+--------+--------+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Data (OpCode specific, continued)…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+--------+--------+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34240" y="5068800"/>
            <a:ext cx="669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AM frames are optionally tag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AM frames are “per-EVC” (Ethernet Virtual Conne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That’s a VLAN to you and me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AM frames are tagged/not as EVC is tagged/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AM frames for measurements follow the data path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944E7-4BC2-4AF3-BF3C-4B19375E7A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OAM Frame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1739880"/>
            <a:ext cx="914400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1234567 89012345 67890123 456789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+--------+--------+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        Dest MAC   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+--------+--------+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Dest MAC     |    Source MAC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+--------+--------+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        Source MAC 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+--------+--------+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VLAN Ethertype |    VLAN Tag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        (Optional) 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+--------+--------+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  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OAM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|  OAM   | Version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EtherTyp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|  Level |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+--------+--------+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Rsvd | OpCode  |       Data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+--------+--------+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Data (OpCode specific, continued)…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+--------+--------+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38920" y="5273640"/>
            <a:ext cx="629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F OAM uses a well-known EtherTyp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F assigned defa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configured (important later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453F5-DFC2-4BA7-BDC1-40107168CC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OAM Frame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1739880"/>
            <a:ext cx="914400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1234567 89012345 67890123 456789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+--------+--------+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        Dest MAC   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+--------+--------+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Dest MAC     |    Source MAC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+--------+--------+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        Source MAC 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+--------+--------+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VLAN Ethertype |    VLAN Tag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        (Optional) 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+--------+--------+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   OAM       | 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OAM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| Version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EtherType    | 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Leve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|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+--------+--------+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Rsvd | OpCode  |       Data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+--------+--------+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Data (OpCode specific, continued)…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+--------+--------+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86280" y="5273640"/>
            <a:ext cx="479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come back to this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e “Security Wrinkle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7B393-66E5-4424-AFB9-3AE48BAFAB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OAM Frame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1739880"/>
            <a:ext cx="914400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1234567 89012345 67890123 456789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+--------+--------+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        Dest MAC   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+--------+--------+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Dest MAC     |    Source MAC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+--------+--------+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        Source MAC 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+--------+--------+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VLAN Ethertype |    VLAN Tag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        (Optional) 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+--------+--------+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   OAM       |  OAM   |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Versio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EtherType    |  Level |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+--------+--------+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Rsvd | OpCode  |       Data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+--------+--------+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Data (OpCode specific, continued)…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+--------+--------+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859840" y="5284800"/>
            <a:ext cx="3897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ual versioning cap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xed v1 for n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gnores anything hig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BA170-CDB5-4207-A2C6-3128A5B731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OAM Frame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1739880"/>
            <a:ext cx="914400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1234567 89012345 67890123 456789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+--------+--------+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        Dest MAC   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+--------+--------+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Dest MAC     |    Source MAC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+--------+--------+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        Source MAC 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+--------+--------+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VLAN Ethertype |    VLAN Tag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        (Optional) 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+--------+--------+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   OAM       |  OAM   | Version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EtherType    |  Level |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+--------+--------+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Rsvd |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OpCod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|       Data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+--------+--------+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Data (OpCode specific, continued)…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+--------+--------+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359720" y="5195880"/>
            <a:ext cx="6909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tty simple op-code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/2) Connectivity Test Request/Response (layer two ping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) Connectivity Verification (periodic hello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icited and unsolicited connectivity che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68EE7-599F-49D5-9DC2-C54417B129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A Security Wrinkle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thernet has the unfortunate property that packets may be sent to places they don’t need to go (e.g. MAC address is not known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ith OAM for a service provider environment,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AM must not “leak” out of the provider to other providers or the custome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ustomers and other providers must not be able to interfere with the carrier’s OAM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o deal with this, multi-hop OAM must filter OAM at the edges of the domai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0DB9C-F238-40E3-AD62-19DF81F939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A Security Wrinkle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362320" y="2209680"/>
            <a:ext cx="4343400" cy="182880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352680" y="2514600"/>
            <a:ext cx="83844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800600" y="2514600"/>
            <a:ext cx="838080" cy="30492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200400"/>
            <a:ext cx="838440" cy="30492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91120" y="2590920"/>
            <a:ext cx="6094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00600" y="3200400"/>
            <a:ext cx="838080" cy="30492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191120" y="3352680"/>
            <a:ext cx="6094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29200" y="2819520"/>
            <a:ext cx="228600" cy="38088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59360" y="373392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vider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733920" y="2819520"/>
            <a:ext cx="228600" cy="380880"/>
          </a:xfrm>
          <a:prstGeom prst="ellipse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3505320"/>
            <a:ext cx="762120" cy="1295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638680" y="1828440"/>
            <a:ext cx="1524240" cy="6858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 flipV="1">
            <a:off x="1981080" y="1981080"/>
            <a:ext cx="1371600" cy="5335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1828800"/>
            <a:ext cx="4495680" cy="274320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34120" y="4205160"/>
            <a:ext cx="14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AM Barr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130400" y="4710240"/>
            <a:ext cx="7370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AM is required to create 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AM Barr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OAM in from the outs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OAM out from the ins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cts carrier OAM from interference and lea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AM doma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defined to create this barr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5FC50-3DD1-4E02-86F8-27753FF555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A Security Wrinkle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790640" y="1701720"/>
            <a:ext cx="5461200" cy="295920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1650960"/>
            <a:ext cx="5664240" cy="354348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029200" y="48402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ierarchical 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77760" y="5243400"/>
            <a:ext cx="6812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-octet domain level in OAM frame used to implement dom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ermost customer-customer domain =&gt; 255 (0xF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domains hierarchically inclu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inside B impl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main A Level &lt;= Domain B Lev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603520" y="3187800"/>
            <a:ext cx="2502000" cy="1181160"/>
          </a:xfrm>
          <a:prstGeom prst="ellipse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29280" y="2057400"/>
            <a:ext cx="2501640" cy="1181160"/>
          </a:xfrm>
          <a:prstGeom prst="ellipse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45000" y="3416400"/>
            <a:ext cx="939600" cy="5713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851080" y="3554280"/>
            <a:ext cx="107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vel=2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69120" y="3605040"/>
            <a:ext cx="7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=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05960" y="2462040"/>
            <a:ext cx="7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=1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85400" y="3516480"/>
            <a:ext cx="63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=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6558F-4934-4EC1-8F70-0D4DE64D42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A Security Wrinkle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790640" y="1701720"/>
            <a:ext cx="5461200" cy="295920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76520" y="1650960"/>
            <a:ext cx="5664240" cy="354348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029200" y="48402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ierarchical 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409760" y="5243400"/>
            <a:ext cx="630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quires port filtering by OAM EtherType and Domain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 edges of domain 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(EtherType = OAM EtherType) and (Domain Level &lt;= L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OP OAM PACKETS – can’t inject or le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603520" y="3187800"/>
            <a:ext cx="2502000" cy="1181160"/>
          </a:xfrm>
          <a:prstGeom prst="ellipse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29280" y="2057400"/>
            <a:ext cx="2501640" cy="1181160"/>
          </a:xfrm>
          <a:prstGeom prst="ellipse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645000" y="3416400"/>
            <a:ext cx="939600" cy="5713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851080" y="3554280"/>
            <a:ext cx="107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vel=2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769120" y="3605040"/>
            <a:ext cx="7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=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305960" y="2462040"/>
            <a:ext cx="7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=1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785400" y="3516480"/>
            <a:ext cx="63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=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9D2F3-30D8-4B56-90A8-94F45A19AF6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66680" y="1828800"/>
            <a:ext cx="2971800" cy="152388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1828800"/>
            <a:ext cx="2971800" cy="152388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3886200"/>
            <a:ext cx="4343400" cy="182880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Scoping the Problem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0" y="1981080"/>
            <a:ext cx="838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2438280"/>
            <a:ext cx="838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2971800"/>
            <a:ext cx="838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486400" y="2590920"/>
            <a:ext cx="838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05720" y="2743200"/>
            <a:ext cx="838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1828800"/>
            <a:ext cx="838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543800" y="1828800"/>
            <a:ext cx="838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4191120"/>
            <a:ext cx="83844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4191120"/>
            <a:ext cx="838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4876920"/>
            <a:ext cx="83844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19520" y="2286000"/>
            <a:ext cx="0" cy="6858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904760" y="2286000"/>
            <a:ext cx="533160" cy="152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1904760" y="2742840"/>
            <a:ext cx="533160" cy="2286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6324120" y="2743200"/>
            <a:ext cx="381240" cy="763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5943600" y="2133720"/>
            <a:ext cx="152280" cy="4572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4267080"/>
            <a:ext cx="6094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00600" y="4876920"/>
            <a:ext cx="83808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5029200"/>
            <a:ext cx="6094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6476760" y="2133360"/>
            <a:ext cx="609480" cy="6094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4495680"/>
            <a:ext cx="228600" cy="38124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20347800">
            <a:off x="3200040" y="3123720"/>
            <a:ext cx="228600" cy="1143000"/>
          </a:xfrm>
          <a:prstGeom prst="ellipse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4521240"/>
            <a:ext cx="228600" cy="380880"/>
          </a:xfrm>
          <a:prstGeom prst="ellipse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99640" y="456552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O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5054760"/>
            <a:ext cx="228600" cy="38088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6560" y="5099040"/>
            <a:ext cx="5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P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7280" y="555624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5587920"/>
            <a:ext cx="0" cy="2286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4292640"/>
            <a:ext cx="1905120" cy="18288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59360" y="541008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vider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62440" y="244620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vider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875200" y="2995560"/>
            <a:ext cx="98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vider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5943600"/>
            <a:ext cx="83844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2133720"/>
            <a:ext cx="2362320" cy="5331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410080" y="2895480"/>
            <a:ext cx="457200" cy="12956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33920" y="4495680"/>
            <a:ext cx="228600" cy="381240"/>
          </a:xfrm>
          <a:prstGeom prst="ellipse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97560" y="4600440"/>
            <a:ext cx="2746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3300"/>
                </a:solidFill>
                <a:latin typeface="Times New Roman"/>
              </a:rPr>
              <a:t>Problem: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</a:rPr>
              <a:t>When delivering an Ethernet service over a large, diverse network, how do you detect end-to-end connectivity problems (loss and degradation)?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CB7E9-093E-4111-8D68-9CCCE1A2DB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A Security Wrinkle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790640" y="1574640"/>
            <a:ext cx="5461200" cy="295920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76520" y="1523880"/>
            <a:ext cx="5664240" cy="354348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4713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ierarchical 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73200" y="5079960"/>
            <a:ext cx="7878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equires filter by OAM EtherType and Domain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 realize this isn’t great, b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d requirement for multi-level domains with hard boundaries (e.g. no leak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d requirement for OAM in same path as data (e.g. no popping to CP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d requirement for working over switched networks (e.g. replic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though not ideal, seems like the best way to meet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603520" y="3060720"/>
            <a:ext cx="2502000" cy="1181160"/>
          </a:xfrm>
          <a:prstGeom prst="ellipse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229280" y="1930320"/>
            <a:ext cx="2501640" cy="1181160"/>
          </a:xfrm>
          <a:prstGeom prst="ellipse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645000" y="3289320"/>
            <a:ext cx="939600" cy="5713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851080" y="3427560"/>
            <a:ext cx="107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evel=2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69120" y="3478320"/>
            <a:ext cx="7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=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5960" y="2335320"/>
            <a:ext cx="7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=1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85400" y="3389400"/>
            <a:ext cx="63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=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2B410-9B71-4FEF-8979-7D8232F5F89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Why Am I Here?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57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EF stuff underway, doesn’t want to wait for 802.1 OAM work for simple connectivity checking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oo many people want something now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ucho interest in MEF to be “compatible” with what .1 comes up with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veryone hates the idea of incompatible protocols or required replacement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o what can we do??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0A8D1-CE0D-4304-A44E-853E453E20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Why Am I Here?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57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asy part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fining MEF protocols with configurable “well-known” MAC address info and configurable “well-known” EtherTyp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lows migration to IEEE defined addressing via config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ther parameters also configurabl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imeouts, delays, etc.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utting “as little as possible” in fixed header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est chance at compatibility is to require littl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3" marL="1424160" indent="-2034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Version, domain level, op-code are only common field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3" marL="1424160" indent="-2034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verything else op-code specific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f one-octet op-code ok, if one-octet version number ok, leaves only the domain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3C051-467F-43FC-983C-C081269848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Why Am I Here?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57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ard par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F 802.1 accept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ame domain methods as MEF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ame frame format could be used and “compatibility” provided via new op-codes for additional functio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F 802.1 accept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ame connectivity tests/verification as MEF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ame op-codes for connectivity test and verification could be used for both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ots of people in MEF interested in seeing if we can work something out.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5B440-5C72-46FA-9DBA-C692DA17CC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57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EF OAM Protocol work well underwa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on’t wait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fining “ping” and “hello”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nnectivity test and verification (solicited and unsolicited ping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ot getting into fault isolation, just detectio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ased on hierarchical domain mod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equirement from carrier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ould be great if could “quickly” get consensus on fixed header aspects so MEF work could be designed as “compatible” (subset, phase 1, version 1, whatever) of larger 801.2 projec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8C211-94A5-4007-9D6E-4397DC3381D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66680" y="1828800"/>
            <a:ext cx="2971800" cy="152388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1828800"/>
            <a:ext cx="2971800" cy="152388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3886200"/>
            <a:ext cx="4343400" cy="182880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Scoping the Problem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752480"/>
            <a:ext cx="838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0" y="1981080"/>
            <a:ext cx="838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2438280"/>
            <a:ext cx="838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2971800"/>
            <a:ext cx="838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2590920"/>
            <a:ext cx="838080" cy="30456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2743200"/>
            <a:ext cx="838080" cy="30492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91320" y="1828800"/>
            <a:ext cx="838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43800" y="1828800"/>
            <a:ext cx="838080" cy="30492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4191120"/>
            <a:ext cx="83844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00600" y="4191120"/>
            <a:ext cx="838080" cy="30456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4876920"/>
            <a:ext cx="838440" cy="30456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2286000"/>
            <a:ext cx="0" cy="6858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904760" y="2286000"/>
            <a:ext cx="533160" cy="152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1904760" y="2742840"/>
            <a:ext cx="533160" cy="2286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324120" y="2743200"/>
            <a:ext cx="381240" cy="763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943600" y="2133720"/>
            <a:ext cx="152280" cy="4572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91120" y="4267080"/>
            <a:ext cx="6094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600" y="4876920"/>
            <a:ext cx="838080" cy="30456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91120" y="5029200"/>
            <a:ext cx="6094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6476760" y="2133360"/>
            <a:ext cx="609480" cy="6094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029200" y="4495680"/>
            <a:ext cx="228600" cy="38124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0347800">
            <a:off x="3200040" y="3123720"/>
            <a:ext cx="228600" cy="1143000"/>
          </a:xfrm>
          <a:prstGeom prst="ellipse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3873600"/>
            <a:ext cx="228600" cy="380880"/>
          </a:xfrm>
          <a:prstGeom prst="ellipse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99640" y="391788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O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4406760"/>
            <a:ext cx="228600" cy="38124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6560" y="4451400"/>
            <a:ext cx="5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P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7280" y="490860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4940280"/>
            <a:ext cx="1800" cy="2286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280" y="3645000"/>
            <a:ext cx="1905120" cy="2438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59360" y="541008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vider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6120" y="304812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vider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16960" y="2743200"/>
            <a:ext cx="98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vider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5943600"/>
            <a:ext cx="838440" cy="30492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2133720"/>
            <a:ext cx="2362320" cy="5331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410080" y="2895480"/>
            <a:ext cx="457200" cy="12956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33920" y="4495680"/>
            <a:ext cx="228600" cy="381240"/>
          </a:xfrm>
          <a:prstGeom prst="ellipse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53160" y="5600880"/>
            <a:ext cx="3352680" cy="6426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EF is looking at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multi-domain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service OAM mechanis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5549760"/>
            <a:ext cx="304920" cy="22860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7280" y="5442120"/>
            <a:ext cx="10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ulti-ho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9880" y="5181480"/>
            <a:ext cx="457200" cy="7621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2057400"/>
            <a:ext cx="228600" cy="3808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990200">
            <a:off x="7405560" y="2084400"/>
            <a:ext cx="228600" cy="762120"/>
          </a:xfrm>
          <a:prstGeom prst="ellipse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EF864-E17F-460F-B37F-8B2BEBE667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066680" y="1828800"/>
            <a:ext cx="2971800" cy="152388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1828800"/>
            <a:ext cx="2971800" cy="152388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62320" y="3886200"/>
            <a:ext cx="4343400" cy="182880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Scoping the Problem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1752480"/>
            <a:ext cx="838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1981080"/>
            <a:ext cx="838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2438280"/>
            <a:ext cx="838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2971800"/>
            <a:ext cx="838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590920"/>
            <a:ext cx="838080" cy="30456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05720" y="2743200"/>
            <a:ext cx="838080" cy="30492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91320" y="1828800"/>
            <a:ext cx="838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1828800"/>
            <a:ext cx="838080" cy="30492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52680" y="4191120"/>
            <a:ext cx="83844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00600" y="4191120"/>
            <a:ext cx="838080" cy="3045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52680" y="4876920"/>
            <a:ext cx="838440" cy="3045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2286000"/>
            <a:ext cx="0" cy="6858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904760" y="2286000"/>
            <a:ext cx="533160" cy="152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1904760" y="2742840"/>
            <a:ext cx="533160" cy="2286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6324120" y="2743200"/>
            <a:ext cx="381240" cy="763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943600" y="2133720"/>
            <a:ext cx="152280" cy="4572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91120" y="4267080"/>
            <a:ext cx="6094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00600" y="4876920"/>
            <a:ext cx="838080" cy="30456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91120" y="5029200"/>
            <a:ext cx="6094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6476760" y="2133360"/>
            <a:ext cx="609480" cy="6094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4495680"/>
            <a:ext cx="228600" cy="38124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20347800">
            <a:off x="3200040" y="3123720"/>
            <a:ext cx="228600" cy="1143000"/>
          </a:xfrm>
          <a:prstGeom prst="ellipse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3873600"/>
            <a:ext cx="228600" cy="380880"/>
          </a:xfrm>
          <a:prstGeom prst="ellipse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99640" y="391788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O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4406760"/>
            <a:ext cx="228600" cy="38124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6560" y="4451400"/>
            <a:ext cx="5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P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7280" y="490860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940280"/>
            <a:ext cx="1800" cy="2286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3645000"/>
            <a:ext cx="1905120" cy="2438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59360" y="541008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vider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3080" y="304812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vider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716960" y="2743200"/>
            <a:ext cx="98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vider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38480" y="5943600"/>
            <a:ext cx="838440" cy="30492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2133720"/>
            <a:ext cx="2362320" cy="5331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410080" y="2895480"/>
            <a:ext cx="457200" cy="12956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33920" y="4495680"/>
            <a:ext cx="228600" cy="381240"/>
          </a:xfrm>
          <a:prstGeom prst="ellipse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5549760"/>
            <a:ext cx="304920" cy="22860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7280" y="5442120"/>
            <a:ext cx="10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ulti-ho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9880" y="5181480"/>
            <a:ext cx="457200" cy="7621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2057400"/>
            <a:ext cx="228600" cy="3808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1990200">
            <a:off x="7405560" y="2084400"/>
            <a:ext cx="228600" cy="762120"/>
          </a:xfrm>
          <a:prstGeom prst="ellipse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48200" y="3657600"/>
            <a:ext cx="32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dge-to-edge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ntra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-Carrier O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8CD88-EC62-4950-9863-47BB19019B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066680" y="1828800"/>
            <a:ext cx="2971800" cy="152388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00600" y="1828800"/>
            <a:ext cx="2971800" cy="152388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62320" y="3886200"/>
            <a:ext cx="4343400" cy="182880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Scoping the Problem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1752480"/>
            <a:ext cx="838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0" y="1981080"/>
            <a:ext cx="838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2438280"/>
            <a:ext cx="838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0" y="2971800"/>
            <a:ext cx="838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86400" y="2590920"/>
            <a:ext cx="838080" cy="30456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05720" y="2743200"/>
            <a:ext cx="838080" cy="304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91320" y="1828800"/>
            <a:ext cx="838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43800" y="1828800"/>
            <a:ext cx="838080" cy="30492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4191120"/>
            <a:ext cx="83844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00600" y="4191120"/>
            <a:ext cx="838080" cy="30456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52680" y="4876920"/>
            <a:ext cx="838440" cy="30456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2286000"/>
            <a:ext cx="0" cy="6858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1904760" y="2286000"/>
            <a:ext cx="533160" cy="152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1904760" y="2742840"/>
            <a:ext cx="533160" cy="2286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324120" y="2743200"/>
            <a:ext cx="381240" cy="763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5943600" y="2133720"/>
            <a:ext cx="152280" cy="4572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91120" y="4267080"/>
            <a:ext cx="6094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00600" y="4876920"/>
            <a:ext cx="838080" cy="30456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91120" y="5029200"/>
            <a:ext cx="6094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6476760" y="2133360"/>
            <a:ext cx="609480" cy="6094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29200" y="4495680"/>
            <a:ext cx="228600" cy="38124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20347800">
            <a:off x="3200040" y="3123720"/>
            <a:ext cx="228600" cy="1143000"/>
          </a:xfrm>
          <a:prstGeom prst="ellipse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4840" y="3968640"/>
            <a:ext cx="228600" cy="381240"/>
          </a:xfrm>
          <a:prstGeom prst="ellipse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6920" y="401328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O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4840" y="4502160"/>
            <a:ext cx="228600" cy="38088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34200" y="4546440"/>
            <a:ext cx="5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P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34560" y="500364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27120" y="5035680"/>
            <a:ext cx="1440" cy="2286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9920" y="3740040"/>
            <a:ext cx="1905120" cy="24386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059360" y="541008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vider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69800" y="304812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vider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716960" y="2743200"/>
            <a:ext cx="98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vider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38480" y="5943600"/>
            <a:ext cx="838440" cy="30492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24080" y="2133720"/>
            <a:ext cx="2362320" cy="5331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5410080" y="2895480"/>
            <a:ext cx="457200" cy="12956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33920" y="4495680"/>
            <a:ext cx="228600" cy="381240"/>
          </a:xfrm>
          <a:prstGeom prst="ellipse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4840" y="5645160"/>
            <a:ext cx="304560" cy="22860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34920" y="5537160"/>
            <a:ext cx="10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ulti-ho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9880" y="5181480"/>
            <a:ext cx="457200" cy="7621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2057400"/>
            <a:ext cx="228600" cy="3808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1990200">
            <a:off x="7405560" y="2084400"/>
            <a:ext cx="228600" cy="762120"/>
          </a:xfrm>
          <a:prstGeom prst="ellipse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60800" y="3657600"/>
            <a:ext cx="328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dge-to-edge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Inter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-Carrier O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D34A0-32D8-4DE7-96C8-9F427C0A3B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066680" y="1828800"/>
            <a:ext cx="2971800" cy="152388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00600" y="1828800"/>
            <a:ext cx="2971800" cy="152388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362320" y="3886200"/>
            <a:ext cx="4343400" cy="182880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Scoping the Problem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752480"/>
            <a:ext cx="838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0" y="1981080"/>
            <a:ext cx="838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19320" y="2438280"/>
            <a:ext cx="838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0" y="2971800"/>
            <a:ext cx="838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2590920"/>
            <a:ext cx="838080" cy="30456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05720" y="2743200"/>
            <a:ext cx="838080" cy="30492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91320" y="1828800"/>
            <a:ext cx="838080" cy="30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543800" y="1828800"/>
            <a:ext cx="838080" cy="304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4191120"/>
            <a:ext cx="838440" cy="304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800600" y="4191120"/>
            <a:ext cx="838080" cy="30456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52680" y="4876920"/>
            <a:ext cx="838440" cy="30456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19520" y="2286000"/>
            <a:ext cx="0" cy="6858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1904760" y="2286000"/>
            <a:ext cx="533160" cy="1522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 flipV="1">
            <a:off x="1904760" y="2742840"/>
            <a:ext cx="533160" cy="2286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flipV="1">
            <a:off x="6324120" y="2743200"/>
            <a:ext cx="381240" cy="763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5943600" y="2133720"/>
            <a:ext cx="152280" cy="4572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91120" y="4267080"/>
            <a:ext cx="6094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4876920"/>
            <a:ext cx="838080" cy="30456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91120" y="5029200"/>
            <a:ext cx="60948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6476760" y="2133360"/>
            <a:ext cx="609480" cy="6094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029200" y="4495680"/>
            <a:ext cx="228600" cy="38124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20347800">
            <a:off x="3200040" y="3123720"/>
            <a:ext cx="228600" cy="1143000"/>
          </a:xfrm>
          <a:prstGeom prst="ellipse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20560" y="3889440"/>
            <a:ext cx="228600" cy="380880"/>
          </a:xfrm>
          <a:prstGeom prst="ellipse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63000" y="393372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O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0560" y="4422600"/>
            <a:ext cx="228600" cy="38124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79920" y="4467240"/>
            <a:ext cx="5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P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80640" y="492444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3200" y="4956120"/>
            <a:ext cx="1440" cy="22860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6000" y="3660840"/>
            <a:ext cx="1904760" cy="2438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59360" y="541008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vider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280" y="3100320"/>
            <a:ext cx="97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vider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716960" y="2743200"/>
            <a:ext cx="98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vider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5943600"/>
            <a:ext cx="838440" cy="304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2133720"/>
            <a:ext cx="2362320" cy="5331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410080" y="2895480"/>
            <a:ext cx="457200" cy="129564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733920" y="4495680"/>
            <a:ext cx="228600" cy="381240"/>
          </a:xfrm>
          <a:prstGeom prst="ellipse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0560" y="5565600"/>
            <a:ext cx="304920" cy="228600"/>
          </a:xfrm>
          <a:prstGeom prst="rect">
            <a:avLst/>
          </a:prstGeom>
          <a:solidFill>
            <a:srgbClr val="ffcc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81000" y="5457960"/>
            <a:ext cx="104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ulti-ho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9880" y="5181480"/>
            <a:ext cx="457200" cy="7621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90720" y="2057400"/>
            <a:ext cx="228600" cy="3808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1990200">
            <a:off x="7405560" y="2084400"/>
            <a:ext cx="228600" cy="762120"/>
          </a:xfrm>
          <a:prstGeom prst="ellipse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94680" y="3657600"/>
            <a:ext cx="274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End-to-end Customer O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7B84C-46A1-463E-9973-D4B6DD77D8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Key Aspects of MEF OAM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14240" y="1684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ssumes Ethernet is only common denominator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.g. 802.3 Ethernet, Ethernet over SONET, RPR, etc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ust use Ethernet framing for OAM communication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thernet segments interconnected with forwarding entities (bridge, switch, etc.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nectionless, like IP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gment can be real or virtual (see above)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ust deal with multicast and frame replication issue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ust measure “per service” and be with data plan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an think service = VLAN for this discussion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ut-of-band OAM not possible, not accurate with data plane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AM mixes with user data within core (only different at edges)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EE10F-3CDD-42E3-BA58-769384D66C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Key Aspects of MEF OAM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14240" y="1684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itial focus on “SLA” metrics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onnectivity, 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latency, loss, jitter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cludes discovery (multicast “ping”)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cludes timestamped “ping” (connectivity test) 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cludes timestamped “hello” (connectivity verification)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ther function may follow later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Traceroute (fault isolation), RDI/AIS (fault signaling), etc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No commitment on when/how – initial focus is “Phase I”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CURRENTLY NOT DEALING WITH FAULT ISOLATION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omain oriented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upporting hierarchical domains required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eparation of customer and carrier OAM is a big thing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Domain may be intra-provider, inter-provider, customer-customer, and other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4498C-3467-42B0-821A-6C9E8300265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Arial"/>
              </a:rPr>
              <a:t>OAM Frame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1739880"/>
            <a:ext cx="914400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1234567 89012345 67890123 456789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+--------+--------+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        Dest MAC   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+--------+--------+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Dest MAC     |    Source MAC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+--------+--------+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        Source MAC 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+--------+--------+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VLAN Ethertype |    VLAN Tag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        (Optional)     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+--------+--------+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   OAM       |  OAM   | Version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  EtherType    |  Level |  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+--------+--------+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  Rsvd | OpCode  |       Data     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+--------+--------+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|Data (OpCode specific, continued)… 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--------+--------+--------+-------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4040" y="5273640"/>
            <a:ext cx="85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a pretty generic frame format with very few fixed fie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51025-11A8-419B-8053-7DB4379585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8T02:09:40Z</dcterms:created>
  <dc:creator>Metro Ethernet Forum</dc:creator>
  <dc:description/>
  <dc:language>en-US</dc:language>
  <cp:lastModifiedBy>msquire</cp:lastModifiedBy>
  <dcterms:modified xsi:type="dcterms:W3CDTF">2004-03-17T04:42:02Z</dcterms:modified>
  <cp:revision>495</cp:revision>
  <dc:subject/>
  <dc:title>Metro Ethernet Forum (MEF)</dc:title>
</cp:coreProperties>
</file>