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3600" y="117360"/>
            <a:ext cx="77169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880" y="1498680"/>
            <a:ext cx="8614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2880" y="3900240"/>
            <a:ext cx="8614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63600" y="117360"/>
            <a:ext cx="77169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2880" y="1498680"/>
            <a:ext cx="42033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6840" y="1498680"/>
            <a:ext cx="42033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2880" y="3900240"/>
            <a:ext cx="42033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6840" y="3900240"/>
            <a:ext cx="42033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63600" y="117360"/>
            <a:ext cx="77169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2880" y="1498680"/>
            <a:ext cx="27734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5280" y="1498680"/>
            <a:ext cx="27734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8040" y="1498680"/>
            <a:ext cx="27734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2880" y="3900240"/>
            <a:ext cx="27734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5280" y="3900240"/>
            <a:ext cx="27734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8040" y="3900240"/>
            <a:ext cx="27734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3600" y="117360"/>
            <a:ext cx="77169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72880" y="1498680"/>
            <a:ext cx="86140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3600" y="117360"/>
            <a:ext cx="77169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72880" y="1498680"/>
            <a:ext cx="8614080" cy="45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3600" y="117360"/>
            <a:ext cx="77169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72880" y="1498680"/>
            <a:ext cx="4203360" cy="45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6840" y="1498680"/>
            <a:ext cx="4203360" cy="45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3600" y="117360"/>
            <a:ext cx="77169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63600" y="117360"/>
            <a:ext cx="7716960" cy="42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3600" y="117360"/>
            <a:ext cx="77169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72880" y="1498680"/>
            <a:ext cx="42033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6840" y="1498680"/>
            <a:ext cx="4203360" cy="45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72880" y="3900240"/>
            <a:ext cx="42033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3600" y="117360"/>
            <a:ext cx="77169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2880" y="1498680"/>
            <a:ext cx="861408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3600" y="117360"/>
            <a:ext cx="77169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72880" y="1498680"/>
            <a:ext cx="4203360" cy="45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6840" y="1498680"/>
            <a:ext cx="42033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6840" y="3900240"/>
            <a:ext cx="42033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3600" y="117360"/>
            <a:ext cx="77169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2880" y="1498680"/>
            <a:ext cx="42033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6840" y="1498680"/>
            <a:ext cx="42033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2880" y="3900240"/>
            <a:ext cx="8614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63600" y="117360"/>
            <a:ext cx="77169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2880" y="1498680"/>
            <a:ext cx="8614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72880" y="3900240"/>
            <a:ext cx="8614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3600" y="117360"/>
            <a:ext cx="77169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72880" y="1498680"/>
            <a:ext cx="42033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6840" y="1498680"/>
            <a:ext cx="42033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72880" y="3900240"/>
            <a:ext cx="42033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6840" y="3900240"/>
            <a:ext cx="42033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63600" y="117360"/>
            <a:ext cx="77169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2880" y="1498680"/>
            <a:ext cx="27734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5280" y="1498680"/>
            <a:ext cx="27734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8040" y="1498680"/>
            <a:ext cx="27734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72880" y="3900240"/>
            <a:ext cx="27734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5280" y="3900240"/>
            <a:ext cx="27734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8040" y="3900240"/>
            <a:ext cx="277344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3600" y="117360"/>
            <a:ext cx="77169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2880" y="1498680"/>
            <a:ext cx="8614080" cy="45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3600" y="117360"/>
            <a:ext cx="77169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2880" y="1498680"/>
            <a:ext cx="4203360" cy="45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6840" y="1498680"/>
            <a:ext cx="4203360" cy="45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3600" y="117360"/>
            <a:ext cx="77169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63600" y="117360"/>
            <a:ext cx="7716960" cy="42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63600" y="117360"/>
            <a:ext cx="77169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2880" y="1498680"/>
            <a:ext cx="42033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6840" y="1498680"/>
            <a:ext cx="4203360" cy="45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2880" y="3900240"/>
            <a:ext cx="42033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63600" y="117360"/>
            <a:ext cx="77169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880" y="1498680"/>
            <a:ext cx="4203360" cy="45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840" y="1498680"/>
            <a:ext cx="42033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6840" y="3900240"/>
            <a:ext cx="42033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63600" y="117360"/>
            <a:ext cx="77169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880" y="1498680"/>
            <a:ext cx="42033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840" y="1498680"/>
            <a:ext cx="420336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2880" y="3900240"/>
            <a:ext cx="8614080" cy="21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05520"/>
            <a:ext cx="2390760" cy="82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2880" y="1498680"/>
            <a:ext cx="8614080" cy="45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57080" indent="-279360">
              <a:spcBef>
                <a:spcPts val="60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7680" indent="-19980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17840" indent="-279720">
              <a:spcBef>
                <a:spcPts val="601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87640" indent="-279360">
              <a:spcBef>
                <a:spcPts val="601"/>
              </a:spcBef>
              <a:buClr>
                <a:srgbClr val="99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87640" indent="-279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87640" indent="-279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63600" y="117360"/>
            <a:ext cx="77169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800600" y="6380280"/>
            <a:ext cx="300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435E-D26E-40E9-A5E4-951F775052FB}" type="slidenum">
              <a:rPr b="0" lang="en-US" sz="1100" spc="-1" strike="noStrike">
                <a:solidFill>
                  <a:srgbClr val="000000"/>
                </a:solidFill>
                <a:latin typeface="FuturaA Bk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22856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75040" y="6632640"/>
            <a:ext cx="3000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Arial"/>
              </a:rPr>
              <a:t>Nortel Networks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05520"/>
            <a:ext cx="2390760" cy="82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rcRect l="0" t="0" r="0" b="15641"/>
          <a:stretch/>
        </p:blipFill>
        <p:spPr>
          <a:xfrm>
            <a:off x="163440" y="6288120"/>
            <a:ext cx="1795680" cy="53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95280" y="1612800"/>
            <a:ext cx="662940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  <a:ea typeface="Arial"/>
              </a:rPr>
              <a:t>Ethernet O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  <a:ea typeface="Arial"/>
              </a:rPr>
              <a:t>Maintenance Entities in ITU-T Q.3/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4083120"/>
            <a:ext cx="28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nesh Mohan Paul Bottor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5195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rtel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63600" y="117360"/>
            <a:ext cx="658512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Arial"/>
              </a:rPr>
              <a:t>MEP, MIP, TCP for Dual-Relay Model: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ingle Integrated Provider Device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84960" y="1219320"/>
            <a:ext cx="8822880" cy="4572000"/>
            <a:chOff x="84960" y="1219320"/>
            <a:chExt cx="8822880" cy="4572000"/>
          </a:xfrm>
        </p:grpSpPr>
        <p:sp>
          <p:nvSpPr>
            <p:cNvPr id="659" name=""/>
            <p:cNvSpPr/>
            <p:nvPr/>
          </p:nvSpPr>
          <p:spPr>
            <a:xfrm>
              <a:off x="1523880" y="259092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828800" y="25909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438280" y="259092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43200" y="25909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38080" y="259092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352680" y="259092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657600" y="25909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43400" y="25909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648320" y="25909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257800" y="25909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62720" y="25909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172200" y="25909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477120" y="25909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086600" y="25909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391520" y="25909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838080" y="2590920"/>
              <a:ext cx="7391520" cy="3200040"/>
              <a:chOff x="838080" y="2590920"/>
              <a:chExt cx="7391520" cy="3200040"/>
            </a:xfrm>
          </p:grpSpPr>
          <p:sp>
            <p:nvSpPr>
              <p:cNvPr id="675" name=""/>
              <p:cNvSpPr/>
              <p:nvPr/>
            </p:nvSpPr>
            <p:spPr>
              <a:xfrm>
                <a:off x="1676520" y="2590920"/>
                <a:ext cx="0" cy="3200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523880" y="2590920"/>
                <a:ext cx="0" cy="3200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981080" y="2590920"/>
                <a:ext cx="0" cy="3200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828800" y="2590920"/>
                <a:ext cx="0" cy="3200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590920" y="2590920"/>
                <a:ext cx="0" cy="3200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438280" y="2590920"/>
                <a:ext cx="0" cy="3200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895480" y="2590920"/>
                <a:ext cx="0" cy="3200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43200" y="2590920"/>
                <a:ext cx="0" cy="3200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990720" y="2590920"/>
                <a:ext cx="0" cy="3200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38080" y="2590920"/>
                <a:ext cx="0" cy="3200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505320" y="2590920"/>
                <a:ext cx="0" cy="3200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3352680" y="2590920"/>
                <a:ext cx="0" cy="3200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3809880" y="2590920"/>
                <a:ext cx="0" cy="3200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657600" y="2590920"/>
                <a:ext cx="0" cy="3200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495680" y="2590920"/>
                <a:ext cx="0" cy="3200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343400" y="2590920"/>
                <a:ext cx="0" cy="3200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800600" y="2590920"/>
                <a:ext cx="0" cy="3200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648320" y="2590920"/>
                <a:ext cx="0" cy="3200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10080" y="2590920"/>
                <a:ext cx="0" cy="3200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257800" y="2590920"/>
                <a:ext cx="0" cy="3200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715000" y="2590920"/>
                <a:ext cx="0" cy="3200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562720" y="2590920"/>
                <a:ext cx="0" cy="3200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324480" y="2590920"/>
                <a:ext cx="0" cy="3200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172200" y="2590920"/>
                <a:ext cx="0" cy="3200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629400" y="2590920"/>
                <a:ext cx="0" cy="3200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477120" y="2590920"/>
                <a:ext cx="0" cy="3200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238880" y="2590920"/>
                <a:ext cx="0" cy="3200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086600" y="2590920"/>
                <a:ext cx="0" cy="3200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543800" y="2590920"/>
                <a:ext cx="0" cy="3200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391520" y="2590920"/>
                <a:ext cx="0" cy="3200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229600" y="2590920"/>
                <a:ext cx="0" cy="3200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8077320" y="2590920"/>
                <a:ext cx="0" cy="32000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" name=""/>
            <p:cNvSpPr/>
            <p:nvPr/>
          </p:nvSpPr>
          <p:spPr>
            <a:xfrm>
              <a:off x="8077320" y="25909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990720" y="5791320"/>
              <a:ext cx="533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09880" y="5791320"/>
              <a:ext cx="5335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543800" y="5791320"/>
              <a:ext cx="5335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981080" y="5791320"/>
              <a:ext cx="457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895480" y="5791320"/>
              <a:ext cx="457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800600" y="5791320"/>
              <a:ext cx="457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715000" y="5791320"/>
              <a:ext cx="457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629400" y="5791320"/>
              <a:ext cx="457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76520" y="5791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590920" y="5791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85800" y="5791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505320" y="5791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495680" y="579132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410080" y="579132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324480" y="579132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238880" y="579132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229600" y="5791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53360" y="1219320"/>
              <a:ext cx="136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Customer</a:t>
              </a:r>
              <a:br>
                <a:rPr sz="1800"/>
              </a:b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Equi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544520" y="1219320"/>
              <a:ext cx="136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Customer</a:t>
              </a:r>
              <a:br>
                <a:rPr sz="1800"/>
              </a:b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Equi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982880" y="1219320"/>
              <a:ext cx="137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6600"/>
                  </a:solidFill>
                  <a:latin typeface="Arial"/>
                </a:rPr>
                <a:t>Operator A</a:t>
              </a:r>
              <a:br>
                <a:rPr sz="1800"/>
              </a:br>
              <a:r>
                <a:rPr b="1" lang="en-US" sz="1800" spc="-1" strike="noStrike">
                  <a:solidFill>
                    <a:srgbClr val="cc6600"/>
                  </a:solidFill>
                  <a:latin typeface="Arial"/>
                </a:rPr>
                <a:t>Brid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59600" y="1219320"/>
              <a:ext cx="137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Operator B</a:t>
              </a:r>
              <a:br>
                <a:rPr sz="1800"/>
              </a:b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Brid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10280" y="1905120"/>
              <a:ext cx="609840" cy="609480"/>
            </a:xfrm>
            <a:prstGeom prst="rect">
              <a:avLst/>
            </a:prstGeom>
            <a:solidFill>
              <a:srgbClr val="ff00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238880" y="1905120"/>
              <a:ext cx="15264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9152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01028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095880" y="1905120"/>
              <a:ext cx="609840" cy="609480"/>
            </a:xfrm>
            <a:prstGeom prst="rect">
              <a:avLst/>
            </a:prstGeom>
            <a:solidFill>
              <a:srgbClr val="ff00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324480" y="1905120"/>
              <a:ext cx="15264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47712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09588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181480" y="1905120"/>
              <a:ext cx="609840" cy="609480"/>
            </a:xfrm>
            <a:prstGeom prst="rect">
              <a:avLst/>
            </a:prstGeom>
            <a:solidFill>
              <a:srgbClr val="ff66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410080" y="1905120"/>
              <a:ext cx="15264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56272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18148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267080" y="1905120"/>
              <a:ext cx="609840" cy="60948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495680" y="1905120"/>
              <a:ext cx="15264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64832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26708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276720" y="1905120"/>
              <a:ext cx="609480" cy="60948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505320" y="1905120"/>
              <a:ext cx="15228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65760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27672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362320" y="1905120"/>
              <a:ext cx="609480" cy="60948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590920" y="1905120"/>
              <a:ext cx="15228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4320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36232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001000" y="1905120"/>
              <a:ext cx="609480" cy="609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229600" y="1905120"/>
              <a:ext cx="15228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838188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800100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57200" y="1905120"/>
              <a:ext cx="609480" cy="609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447920" y="1905120"/>
              <a:ext cx="609480" cy="60948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676520" y="1905120"/>
              <a:ext cx="15228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85800" y="1905120"/>
              <a:ext cx="15228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57200" y="2209680"/>
              <a:ext cx="815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3808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5720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82880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44792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1676160" y="1905120"/>
              <a:ext cx="152280" cy="609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2362320" y="3809880"/>
              <a:ext cx="4343400" cy="152280"/>
              <a:chOff x="2362320" y="3809880"/>
              <a:chExt cx="4343400" cy="152280"/>
            </a:xfrm>
          </p:grpSpPr>
          <p:sp>
            <p:nvSpPr>
              <p:cNvPr id="768" name=""/>
              <p:cNvSpPr/>
              <p:nvPr/>
            </p:nvSpPr>
            <p:spPr>
              <a:xfrm>
                <a:off x="2362320" y="3809880"/>
                <a:ext cx="152280" cy="15228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553080" y="3809880"/>
                <a:ext cx="152640" cy="15228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0" name=""/>
            <p:cNvSpPr/>
            <p:nvPr/>
          </p:nvSpPr>
          <p:spPr>
            <a:xfrm>
              <a:off x="533520" y="266688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4960" y="3886200"/>
              <a:ext cx="52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FuturaA Bk BT"/>
                </a:rPr>
                <a:t>E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990720" y="4648320"/>
              <a:ext cx="533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543800" y="4648320"/>
              <a:ext cx="5335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809880" y="4648320"/>
              <a:ext cx="45720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819520" y="4648320"/>
              <a:ext cx="6094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800600" y="4648320"/>
              <a:ext cx="45720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715000" y="4648320"/>
              <a:ext cx="45720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8001000" y="4572000"/>
              <a:ext cx="152280" cy="15228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467480" y="4572000"/>
              <a:ext cx="152640" cy="15228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95880" y="4572000"/>
              <a:ext cx="152640" cy="15228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638680" y="4572000"/>
              <a:ext cx="152640" cy="15228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181480" y="4572000"/>
              <a:ext cx="152640" cy="15228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724280" y="4572000"/>
              <a:ext cx="152640" cy="15228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267080" y="4572000"/>
              <a:ext cx="152640" cy="15228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733920" y="4572000"/>
              <a:ext cx="152280" cy="15228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276720" y="4572000"/>
              <a:ext cx="152280" cy="15228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19520" y="4572000"/>
              <a:ext cx="152280" cy="15228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447920" y="4572000"/>
              <a:ext cx="152280" cy="15228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914400" y="4572000"/>
              <a:ext cx="152280" cy="15228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16680" y="18288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546560" y="182880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2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457360" y="18288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2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435480" y="18288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425840" y="18288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340240" y="18288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190920" y="18288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6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109280" y="182880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6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159760" y="18288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9" name=""/>
            <p:cNvGrpSpPr/>
            <p:nvPr/>
          </p:nvGrpSpPr>
          <p:grpSpPr>
            <a:xfrm>
              <a:off x="914400" y="2895480"/>
              <a:ext cx="7238880" cy="152280"/>
              <a:chOff x="914400" y="2895480"/>
              <a:chExt cx="7238880" cy="152280"/>
            </a:xfrm>
          </p:grpSpPr>
          <p:sp>
            <p:nvSpPr>
              <p:cNvPr id="800" name=""/>
              <p:cNvSpPr/>
              <p:nvPr/>
            </p:nvSpPr>
            <p:spPr>
              <a:xfrm>
                <a:off x="990720" y="2971800"/>
                <a:ext cx="708660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914400" y="289548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391520" y="2895480"/>
                <a:ext cx="152280" cy="15228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3880" y="2895480"/>
                <a:ext cx="152640" cy="152280"/>
              </a:xfrm>
              <a:prstGeom prst="ellipse">
                <a:avLst/>
              </a:prstGeom>
              <a:solidFill>
                <a:srgbClr val="33cc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8001000" y="2895480"/>
                <a:ext cx="152280" cy="152280"/>
              </a:xfrm>
              <a:prstGeom prst="rect">
                <a:avLst/>
              </a:prstGeom>
              <a:solidFill>
                <a:srgbClr val="33cc33"/>
              </a:solidFill>
              <a:ln w="93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2514600" y="3657600"/>
              <a:ext cx="4038480" cy="152280"/>
              <a:chOff x="2514600" y="3657600"/>
              <a:chExt cx="4038480" cy="152280"/>
            </a:xfrm>
          </p:grpSpPr>
          <p:sp>
            <p:nvSpPr>
              <p:cNvPr id="806" name=""/>
              <p:cNvSpPr/>
              <p:nvPr/>
            </p:nvSpPr>
            <p:spPr>
              <a:xfrm>
                <a:off x="2590920" y="3733560"/>
                <a:ext cx="38862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257800" y="36576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48320" y="365760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14600" y="3657600"/>
                <a:ext cx="15228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400800" y="3657600"/>
                <a:ext cx="15228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2514600" y="4038480"/>
              <a:ext cx="2209680" cy="152640"/>
              <a:chOff x="2514600" y="4038480"/>
              <a:chExt cx="2209680" cy="152640"/>
            </a:xfrm>
          </p:grpSpPr>
          <p:sp>
            <p:nvSpPr>
              <p:cNvPr id="812" name=""/>
              <p:cNvSpPr/>
              <p:nvPr/>
            </p:nvSpPr>
            <p:spPr>
              <a:xfrm>
                <a:off x="2590920" y="4114800"/>
                <a:ext cx="205740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352680" y="4038480"/>
                <a:ext cx="152640" cy="15264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743200" y="4038480"/>
                <a:ext cx="152280" cy="15264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514600" y="4038480"/>
                <a:ext cx="152280" cy="1526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572000" y="4038480"/>
                <a:ext cx="152280" cy="1526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657600" y="4038480"/>
                <a:ext cx="152280" cy="15264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4343400" y="4038480"/>
                <a:ext cx="152280" cy="15264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"/>
            <p:cNvGrpSpPr/>
            <p:nvPr/>
          </p:nvGrpSpPr>
          <p:grpSpPr>
            <a:xfrm>
              <a:off x="5334120" y="4038480"/>
              <a:ext cx="1218960" cy="152640"/>
              <a:chOff x="5334120" y="4038480"/>
              <a:chExt cx="1218960" cy="152640"/>
            </a:xfrm>
          </p:grpSpPr>
          <p:sp>
            <p:nvSpPr>
              <p:cNvPr id="820" name=""/>
              <p:cNvSpPr/>
              <p:nvPr/>
            </p:nvSpPr>
            <p:spPr>
              <a:xfrm>
                <a:off x="5410080" y="4114800"/>
                <a:ext cx="1067040" cy="0"/>
              </a:xfrm>
              <a:prstGeom prst="line">
                <a:avLst/>
              </a:prstGeom>
              <a:ln w="2844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562720" y="4038480"/>
                <a:ext cx="152280" cy="152640"/>
              </a:xfrm>
              <a:prstGeom prst="ellipse">
                <a:avLst/>
              </a:prstGeom>
              <a:solidFill>
                <a:srgbClr val="d6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6172200" y="4038480"/>
                <a:ext cx="152280" cy="152640"/>
              </a:xfrm>
              <a:prstGeom prst="ellipse">
                <a:avLst/>
              </a:prstGeom>
              <a:solidFill>
                <a:srgbClr val="d6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6400800" y="4038480"/>
                <a:ext cx="152280" cy="152640"/>
              </a:xfrm>
              <a:prstGeom prst="rect">
                <a:avLst/>
              </a:prstGeom>
              <a:solidFill>
                <a:srgbClr val="d6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334120" y="4038480"/>
                <a:ext cx="152280" cy="152640"/>
              </a:xfrm>
              <a:prstGeom prst="rect">
                <a:avLst/>
              </a:prstGeom>
              <a:solidFill>
                <a:srgbClr val="d6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1371600" y="1828800"/>
              <a:ext cx="1676520" cy="762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019920" y="1828800"/>
              <a:ext cx="1676160" cy="762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1905120" y="3429000"/>
              <a:ext cx="5257800" cy="152280"/>
              <a:chOff x="1905120" y="3429000"/>
              <a:chExt cx="5257800" cy="152280"/>
            </a:xfrm>
          </p:grpSpPr>
          <p:sp>
            <p:nvSpPr>
              <p:cNvPr id="828" name=""/>
              <p:cNvSpPr/>
              <p:nvPr/>
            </p:nvSpPr>
            <p:spPr>
              <a:xfrm>
                <a:off x="1981440" y="3504960"/>
                <a:ext cx="5105160" cy="0"/>
              </a:xfrm>
              <a:prstGeom prst="line">
                <a:avLst/>
              </a:prstGeom>
              <a:ln w="2844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77120" y="3429000"/>
                <a:ext cx="152280" cy="152280"/>
              </a:xfrm>
              <a:prstGeom prst="ellipse">
                <a:avLst/>
              </a:prstGeom>
              <a:solidFill>
                <a:srgbClr val="cc00cc"/>
              </a:solidFill>
              <a:ln w="93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438640" y="3429000"/>
                <a:ext cx="152280" cy="152280"/>
              </a:xfrm>
              <a:prstGeom prst="ellipse">
                <a:avLst/>
              </a:prstGeom>
              <a:solidFill>
                <a:srgbClr val="cc00cc"/>
              </a:solidFill>
              <a:ln w="93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905120" y="3429000"/>
                <a:ext cx="152280" cy="152280"/>
              </a:xfrm>
              <a:prstGeom prst="rect">
                <a:avLst/>
              </a:prstGeom>
              <a:solidFill>
                <a:srgbClr val="cc00cc"/>
              </a:solidFill>
              <a:ln w="93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010640" y="3429000"/>
                <a:ext cx="152280" cy="152280"/>
              </a:xfrm>
              <a:prstGeom prst="rect">
                <a:avLst/>
              </a:prstGeom>
              <a:solidFill>
                <a:srgbClr val="cc00cc"/>
              </a:solidFill>
              <a:ln w="93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1600200" y="3200400"/>
              <a:ext cx="5867280" cy="152280"/>
              <a:chOff x="1600200" y="3200400"/>
              <a:chExt cx="5867280" cy="152280"/>
            </a:xfrm>
          </p:grpSpPr>
          <p:grpSp>
            <p:nvGrpSpPr>
              <p:cNvPr id="834" name=""/>
              <p:cNvGrpSpPr/>
              <p:nvPr/>
            </p:nvGrpSpPr>
            <p:grpSpPr>
              <a:xfrm>
                <a:off x="1600200" y="3200400"/>
                <a:ext cx="5867280" cy="152280"/>
                <a:chOff x="1600200" y="3200400"/>
                <a:chExt cx="5867280" cy="15228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1600200" y="3276720"/>
                  <a:ext cx="5715000" cy="0"/>
                </a:xfrm>
                <a:prstGeom prst="line">
                  <a:avLst/>
                </a:prstGeom>
                <a:ln w="2844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1600200" y="3200400"/>
                  <a:ext cx="152280" cy="152280"/>
                </a:xfrm>
                <a:prstGeom prst="rect">
                  <a:avLst/>
                </a:prstGeom>
                <a:solidFill>
                  <a:srgbClr val="9900cc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315200" y="3200400"/>
                  <a:ext cx="152280" cy="152280"/>
                </a:xfrm>
                <a:prstGeom prst="rect">
                  <a:avLst/>
                </a:prstGeom>
                <a:solidFill>
                  <a:srgbClr val="9900cc"/>
                </a:solidFill>
                <a:ln w="9360">
                  <a:solidFill>
                    <a:srgbClr val="99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8" name=""/>
              <p:cNvSpPr/>
              <p:nvPr/>
            </p:nvSpPr>
            <p:spPr>
              <a:xfrm>
                <a:off x="1822320" y="3200400"/>
                <a:ext cx="152640" cy="152280"/>
              </a:xfrm>
              <a:prstGeom prst="ellipse">
                <a:avLst/>
              </a:prstGeom>
              <a:solidFill>
                <a:srgbClr val="9900cc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080120" y="3200400"/>
                <a:ext cx="152640" cy="152280"/>
              </a:xfrm>
              <a:prstGeom prst="ellipse">
                <a:avLst/>
              </a:prstGeom>
              <a:solidFill>
                <a:srgbClr val="9900cc"/>
              </a:solidFill>
              <a:ln w="9360">
                <a:solidFill>
                  <a:srgbClr val="99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0" name=""/>
          <p:cNvSpPr/>
          <p:nvPr/>
        </p:nvSpPr>
        <p:spPr>
          <a:xfrm>
            <a:off x="457200" y="6019920"/>
            <a:ext cx="8001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2a and 6a allow for peering of L2CP + multiplexing of user f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Additional MEs may need to be mana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263600" y="117360"/>
            <a:ext cx="77169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Arial"/>
              </a:rPr>
              <a:t>Customer Bridge 1</a:t>
            </a:r>
            <a:br>
              <a:rPr sz="3200"/>
            </a:br>
            <a:r>
              <a:rPr b="1" lang="en-GB" sz="3200" spc="-1" strike="noStrike">
                <a:solidFill>
                  <a:srgbClr val="990000"/>
                </a:solidFill>
                <a:latin typeface="Arial"/>
              </a:rPr>
              <a:t>Example without ETH link M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838080" y="1295280"/>
            <a:ext cx="7480440" cy="5181840"/>
            <a:chOff x="838080" y="1295280"/>
            <a:chExt cx="7480440" cy="5181840"/>
          </a:xfrm>
        </p:grpSpPr>
        <p:sp>
          <p:nvSpPr>
            <p:cNvPr id="843" name=""/>
            <p:cNvSpPr/>
            <p:nvPr/>
          </p:nvSpPr>
          <p:spPr>
            <a:xfrm flipH="1">
              <a:off x="4876200" y="1981080"/>
              <a:ext cx="3429000" cy="403884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 rot="5400000">
              <a:off x="7092360" y="2890080"/>
              <a:ext cx="21351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02.1Q Tagging “Y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838080" y="1981080"/>
              <a:ext cx="3429000" cy="4038840"/>
            </a:xfrm>
            <a:prstGeom prst="rect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rot="16200000">
              <a:off x="-70920" y="2890080"/>
              <a:ext cx="21351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02.1Q Tagging “Y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838080" y="1295280"/>
              <a:ext cx="746784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057400" y="1600200"/>
              <a:ext cx="1052640" cy="3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033960" y="1600200"/>
              <a:ext cx="1052640" cy="3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404880" y="1395360"/>
              <a:ext cx="21736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igher Layer Ent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447920" y="1600200"/>
              <a:ext cx="609480" cy="3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057400" y="1600200"/>
              <a:ext cx="1052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447920" y="1981080"/>
              <a:ext cx="2819160" cy="373392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057400" y="1981080"/>
              <a:ext cx="2209680" cy="2286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rot="16200000">
              <a:off x="1073880" y="2964240"/>
              <a:ext cx="22831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02.1ag Up CM Sh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8195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rot="16200000">
              <a:off x="310680" y="3117960"/>
              <a:ext cx="25909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02.1ag Down CM Sh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4876200" y="1981080"/>
              <a:ext cx="2819160" cy="373392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4876920" y="1981080"/>
              <a:ext cx="2209680" cy="2286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 rot="5400000">
              <a:off x="5786280" y="2964240"/>
              <a:ext cx="22831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02.1ag Up CM Sh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876920" y="281952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 rot="5400000">
              <a:off x="6255000" y="3117960"/>
              <a:ext cx="259092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02.1ag Down CM Sh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086600" y="1600200"/>
              <a:ext cx="609480" cy="3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38080" y="1600200"/>
              <a:ext cx="609840" cy="3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696080" y="1600200"/>
              <a:ext cx="609840" cy="380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38080" y="60199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67080" y="60199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876920" y="60199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305920" y="601992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5562720" y="2590920"/>
              <a:ext cx="0" cy="3124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 flipV="1">
              <a:off x="5410080" y="2438280"/>
              <a:ext cx="15264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5334120" y="4952880"/>
              <a:ext cx="457200" cy="4572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FuturaA Bk BT"/>
                </a:rPr>
                <a:t>M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3" name=""/>
            <p:cNvGrpSpPr/>
            <p:nvPr/>
          </p:nvGrpSpPr>
          <p:grpSpPr>
            <a:xfrm>
              <a:off x="3124080" y="1981080"/>
              <a:ext cx="2923920" cy="838080"/>
              <a:chOff x="3124080" y="1981080"/>
              <a:chExt cx="2923920" cy="838080"/>
            </a:xfrm>
          </p:grpSpPr>
          <p:sp>
            <p:nvSpPr>
              <p:cNvPr id="874" name=""/>
              <p:cNvSpPr/>
              <p:nvPr/>
            </p:nvSpPr>
            <p:spPr>
              <a:xfrm>
                <a:off x="3124080" y="1981080"/>
                <a:ext cx="29239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0"/>
                    </a:moveTo>
                    <a:lnTo>
                      <a:pt x="1200" y="0"/>
                    </a:lnTo>
                    <a:lnTo>
                      <a:pt x="720" y="528"/>
                    </a:lnTo>
                    <a:lnTo>
                      <a:pt x="480" y="5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241880" y="2080800"/>
                <a:ext cx="687960" cy="31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3080" rIns="73080" tIns="36360" bIns="3636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Rela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 flipH="1">
            <a:off x="4876200" y="1981080"/>
            <a:ext cx="3429000" cy="4038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H="1" rot="5400000">
            <a:off x="7092360" y="2890080"/>
            <a:ext cx="21351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Q Tagging “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38080" y="1981080"/>
            <a:ext cx="3429000" cy="4038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rot="16200000">
            <a:off x="-70920" y="2890080"/>
            <a:ext cx="21351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Q Tagging “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263600" y="117360"/>
            <a:ext cx="77169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Arial"/>
              </a:rPr>
              <a:t>Provider Bridge 2a</a:t>
            </a:r>
            <a:br>
              <a:rPr sz="3200"/>
            </a:br>
            <a:r>
              <a:rPr b="1" lang="en-GB" sz="3200" spc="-1" strike="noStrike">
                <a:solidFill>
                  <a:srgbClr val="990000"/>
                </a:solidFill>
                <a:latin typeface="Arial"/>
              </a:rPr>
              <a:t>Example without ETH link M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838080" y="1295280"/>
            <a:ext cx="746784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057400" y="1600200"/>
            <a:ext cx="105264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033960" y="1600200"/>
            <a:ext cx="105264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404880" y="1395360"/>
            <a:ext cx="21736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 Layer Ent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447920" y="1600200"/>
            <a:ext cx="60948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57400" y="1600200"/>
            <a:ext cx="1052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447920" y="1981080"/>
            <a:ext cx="2819160" cy="37339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057400" y="1981080"/>
            <a:ext cx="2209680" cy="228600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rot="16200000">
            <a:off x="1073880" y="2964240"/>
            <a:ext cx="22831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ag Up CM S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267080" y="2819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rot="16200000">
            <a:off x="310680" y="3117960"/>
            <a:ext cx="25909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ag Down CM S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876200" y="1981080"/>
            <a:ext cx="2819160" cy="37339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4876920" y="1981080"/>
            <a:ext cx="2209680" cy="228600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H="1" rot="5400000">
            <a:off x="5786280" y="2964240"/>
            <a:ext cx="22831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ag Up CM S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76920" y="2819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 rot="5400000">
            <a:off x="6255000" y="3117960"/>
            <a:ext cx="25909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ag Down CM S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3124080" y="1981080"/>
            <a:ext cx="2923920" cy="838080"/>
            <a:chOff x="3124080" y="1981080"/>
            <a:chExt cx="2923920" cy="838080"/>
          </a:xfrm>
        </p:grpSpPr>
        <p:sp>
          <p:nvSpPr>
            <p:cNvPr id="898" name=""/>
            <p:cNvSpPr/>
            <p:nvPr/>
          </p:nvSpPr>
          <p:spPr>
            <a:xfrm>
              <a:off x="3124080" y="1981080"/>
              <a:ext cx="29239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0"/>
                  </a:moveTo>
                  <a:lnTo>
                    <a:pt x="1200" y="0"/>
                  </a:lnTo>
                  <a:lnTo>
                    <a:pt x="720" y="528"/>
                  </a:lnTo>
                  <a:lnTo>
                    <a:pt x="480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241880" y="2080800"/>
              <a:ext cx="6879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l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0" name=""/>
          <p:cNvSpPr/>
          <p:nvPr/>
        </p:nvSpPr>
        <p:spPr>
          <a:xfrm>
            <a:off x="7086600" y="1600200"/>
            <a:ext cx="60948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38080" y="1600200"/>
            <a:ext cx="60984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696080" y="1600200"/>
            <a:ext cx="60984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38080" y="6019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267080" y="6019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876920" y="6019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305920" y="6019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3581280" y="2590920"/>
            <a:ext cx="0" cy="312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3581280" y="2438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352680" y="4038480"/>
            <a:ext cx="457200" cy="4572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FuturaA Bk BT"/>
              </a:rPr>
              <a:t>M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5562720" y="2590920"/>
            <a:ext cx="0" cy="312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 flipV="1">
            <a:off x="5410080" y="2438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352680" y="3200400"/>
            <a:ext cx="457200" cy="4572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FuturaA Bk BT"/>
              </a:rPr>
              <a:t>M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334120" y="4038480"/>
            <a:ext cx="457200" cy="457200"/>
          </a:xfrm>
          <a:prstGeom prst="ellipse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FuturaA Bk BT"/>
              </a:rPr>
              <a:t>M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334120" y="4800600"/>
            <a:ext cx="457200" cy="45720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FuturaA Bk BT"/>
              </a:rPr>
              <a:t>M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 flipH="1">
            <a:off x="4876200" y="1981080"/>
            <a:ext cx="3429000" cy="4038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 rot="5400000">
            <a:off x="7092360" y="2890080"/>
            <a:ext cx="21351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Q Tagging “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838080" y="1981080"/>
            <a:ext cx="3429000" cy="4038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rot="16200000">
            <a:off x="-70920" y="2890080"/>
            <a:ext cx="21351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Q Tagging “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1263600" y="117360"/>
            <a:ext cx="77169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Arial"/>
              </a:rPr>
              <a:t>Provider Bridge 2b</a:t>
            </a:r>
            <a:br>
              <a:rPr sz="3200"/>
            </a:br>
            <a:r>
              <a:rPr b="1" lang="en-GB" sz="3200" spc="-1" strike="noStrike">
                <a:solidFill>
                  <a:srgbClr val="990000"/>
                </a:solidFill>
                <a:latin typeface="Arial"/>
              </a:rPr>
              <a:t>Example without ETH link M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838080" y="1295280"/>
            <a:ext cx="746784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057400" y="1600200"/>
            <a:ext cx="105264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033960" y="1600200"/>
            <a:ext cx="105264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404880" y="1395360"/>
            <a:ext cx="21736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 Layer Ent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447920" y="1600200"/>
            <a:ext cx="60948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057400" y="1600200"/>
            <a:ext cx="1052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447920" y="1981080"/>
            <a:ext cx="2819160" cy="37339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057400" y="1981080"/>
            <a:ext cx="2209680" cy="228600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rot="16200000">
            <a:off x="1073880" y="2964240"/>
            <a:ext cx="22831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ag Up CM S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267080" y="2819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rot="16200000">
            <a:off x="310680" y="3117960"/>
            <a:ext cx="25909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ag Down CM S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4876200" y="1981080"/>
            <a:ext cx="2819160" cy="37339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>
            <a:off x="4876920" y="1981080"/>
            <a:ext cx="2209680" cy="228600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 rot="5400000">
            <a:off x="5786280" y="2964240"/>
            <a:ext cx="22831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ag Up CM S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876920" y="2819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 rot="5400000">
            <a:off x="6255000" y="3117960"/>
            <a:ext cx="25909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ag Down CM S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3124080" y="1981080"/>
            <a:ext cx="2923920" cy="838080"/>
            <a:chOff x="3124080" y="1981080"/>
            <a:chExt cx="2923920" cy="838080"/>
          </a:xfrm>
        </p:grpSpPr>
        <p:sp>
          <p:nvSpPr>
            <p:cNvPr id="937" name=""/>
            <p:cNvSpPr/>
            <p:nvPr/>
          </p:nvSpPr>
          <p:spPr>
            <a:xfrm>
              <a:off x="3124080" y="1981080"/>
              <a:ext cx="29239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0"/>
                  </a:moveTo>
                  <a:lnTo>
                    <a:pt x="1200" y="0"/>
                  </a:lnTo>
                  <a:lnTo>
                    <a:pt x="720" y="528"/>
                  </a:lnTo>
                  <a:lnTo>
                    <a:pt x="480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241880" y="2080800"/>
              <a:ext cx="6879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l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9" name=""/>
          <p:cNvSpPr/>
          <p:nvPr/>
        </p:nvSpPr>
        <p:spPr>
          <a:xfrm>
            <a:off x="7086600" y="1600200"/>
            <a:ext cx="60948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838080" y="1600200"/>
            <a:ext cx="60984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696080" y="1600200"/>
            <a:ext cx="60984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838080" y="6019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267080" y="6019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876920" y="6019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8305920" y="6019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3581280" y="2590920"/>
            <a:ext cx="0" cy="312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3581280" y="2438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352680" y="3200400"/>
            <a:ext cx="45720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FuturaA Bk BT"/>
              </a:rPr>
              <a:t>M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352680" y="2666880"/>
            <a:ext cx="457200" cy="45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FuturaA Bk BT"/>
              </a:rPr>
              <a:t>M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5562720" y="2590920"/>
            <a:ext cx="0" cy="312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H="1" flipV="1">
            <a:off x="5410080" y="2438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5334120" y="4038480"/>
            <a:ext cx="457200" cy="457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FuturaA Bk BT"/>
              </a:rPr>
              <a:t>M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352680" y="4038480"/>
            <a:ext cx="457200" cy="45720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FuturaA Bk BT"/>
              </a:rPr>
              <a:t>M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762120" y="1523880"/>
            <a:ext cx="754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ual Relay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ngle Relay as Provider De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263600" y="104400"/>
            <a:ext cx="7716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Arial"/>
              </a:rPr>
              <a:t>MEP, MIP, TCP for Dual-Relay Model: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ingle Relay as Provider Device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312120" y="990720"/>
            <a:ext cx="8754480" cy="5105160"/>
            <a:chOff x="312120" y="990720"/>
            <a:chExt cx="8754480" cy="5105160"/>
          </a:xfrm>
        </p:grpSpPr>
        <p:grpSp>
          <p:nvGrpSpPr>
            <p:cNvPr id="957" name=""/>
            <p:cNvGrpSpPr/>
            <p:nvPr/>
          </p:nvGrpSpPr>
          <p:grpSpPr>
            <a:xfrm>
              <a:off x="990720" y="2362320"/>
              <a:ext cx="7397280" cy="3733200"/>
              <a:chOff x="990720" y="2362320"/>
              <a:chExt cx="7397280" cy="3733200"/>
            </a:xfrm>
          </p:grpSpPr>
          <p:sp>
            <p:nvSpPr>
              <p:cNvPr id="958" name=""/>
              <p:cNvSpPr/>
              <p:nvPr/>
            </p:nvSpPr>
            <p:spPr>
              <a:xfrm>
                <a:off x="182952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67688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13444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98216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74500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59200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56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89728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114336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99072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66012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50712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96468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81240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65120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49892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95648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80384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56632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41404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87160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71896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48144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32916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78672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63408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39656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24428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70184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54956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38800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823572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0" name=""/>
            <p:cNvSpPr/>
            <p:nvPr/>
          </p:nvSpPr>
          <p:spPr>
            <a:xfrm>
              <a:off x="1149480" y="6095880"/>
              <a:ext cx="533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968640" y="6095880"/>
              <a:ext cx="5335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702560" y="6095880"/>
              <a:ext cx="5335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139840" y="6095880"/>
              <a:ext cx="457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054240" y="6095880"/>
              <a:ext cx="457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959360" y="6095880"/>
              <a:ext cx="457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873760" y="6095880"/>
              <a:ext cx="457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788160" y="6095880"/>
              <a:ext cx="457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835280" y="609588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749680" y="609588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44560" y="609588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664080" y="609588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654440" y="609588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5568840" y="609588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483240" y="609588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397640" y="609588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388360" y="609588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12120" y="990720"/>
              <a:ext cx="136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Customer</a:t>
              </a:r>
              <a:br>
                <a:rPr sz="1800"/>
              </a:b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Equi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703280" y="990720"/>
              <a:ext cx="136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Customer</a:t>
              </a:r>
              <a:br>
                <a:rPr sz="1800"/>
              </a:b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Equi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141640" y="990720"/>
              <a:ext cx="137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6600"/>
                  </a:solidFill>
                  <a:latin typeface="Arial"/>
                </a:rPr>
                <a:t>Operator A</a:t>
              </a:r>
              <a:br>
                <a:rPr sz="1800"/>
              </a:br>
              <a:r>
                <a:rPr b="1" lang="en-US" sz="1800" spc="-1" strike="noStrike">
                  <a:solidFill>
                    <a:srgbClr val="cc6600"/>
                  </a:solidFill>
                  <a:latin typeface="Arial"/>
                </a:rPr>
                <a:t>Brid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418360" y="990720"/>
              <a:ext cx="137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Operator B</a:t>
              </a:r>
              <a:br>
                <a:rPr sz="1800"/>
              </a:b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Brid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55028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254640" y="1676520"/>
              <a:ext cx="609840" cy="609480"/>
            </a:xfrm>
            <a:prstGeom prst="rect">
              <a:avLst/>
            </a:prstGeom>
            <a:solidFill>
              <a:srgbClr val="ff00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483240" y="1676520"/>
              <a:ext cx="15264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63588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25464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40240" y="1676520"/>
              <a:ext cx="609840" cy="609480"/>
            </a:xfrm>
            <a:prstGeom prst="rect">
              <a:avLst/>
            </a:prstGeom>
            <a:solidFill>
              <a:srgbClr val="ff66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568840" y="1676520"/>
              <a:ext cx="15264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72148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34024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425840" y="1676520"/>
              <a:ext cx="609840" cy="60948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654440" y="1676520"/>
              <a:ext cx="15264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80708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42584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435480" y="1676520"/>
              <a:ext cx="609480" cy="60948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664080" y="1676520"/>
              <a:ext cx="15228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81636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43548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521080" y="1676520"/>
              <a:ext cx="609480" cy="60948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749680" y="1676520"/>
              <a:ext cx="15228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0196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52108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159760" y="1676520"/>
              <a:ext cx="609480" cy="609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388360" y="1676520"/>
              <a:ext cx="15228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54064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815976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15960" y="1676520"/>
              <a:ext cx="609480" cy="609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844560" y="1676520"/>
              <a:ext cx="15228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15960" y="1981080"/>
              <a:ext cx="815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99684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1596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1834920" y="1676520"/>
              <a:ext cx="152280" cy="609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74720" y="16002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616120" y="16002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2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594240" y="16002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584600" y="16002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499000" y="16002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6349680" y="16002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6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318520" y="16002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530360" y="1600200"/>
              <a:ext cx="1676520" cy="762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178680" y="1600200"/>
              <a:ext cx="1676160" cy="762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143000" y="2743200"/>
              <a:ext cx="7086600" cy="0"/>
            </a:xfrm>
            <a:prstGeom prst="line">
              <a:avLst/>
            </a:prstGeom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066680" y="2666880"/>
              <a:ext cx="152640" cy="152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629400" y="2666880"/>
              <a:ext cx="152280" cy="1526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590920" y="2666880"/>
              <a:ext cx="152280" cy="152640"/>
            </a:xfrm>
            <a:prstGeom prst="ellipse">
              <a:avLst/>
            </a:prstGeom>
            <a:solidFill>
              <a:srgbClr val="33cc33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153280" y="2666880"/>
              <a:ext cx="152640" cy="15264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6" name=""/>
            <p:cNvGrpSpPr/>
            <p:nvPr/>
          </p:nvGrpSpPr>
          <p:grpSpPr>
            <a:xfrm>
              <a:off x="2666880" y="3276720"/>
              <a:ext cx="4038480" cy="152280"/>
              <a:chOff x="2666880" y="3276720"/>
              <a:chExt cx="4038480" cy="152280"/>
            </a:xfrm>
          </p:grpSpPr>
          <p:sp>
            <p:nvSpPr>
              <p:cNvPr id="1057" name=""/>
              <p:cNvSpPr/>
              <p:nvPr/>
            </p:nvSpPr>
            <p:spPr>
              <a:xfrm>
                <a:off x="2743200" y="3352680"/>
                <a:ext cx="38862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10080" y="32767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800600" y="32767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666880" y="3276720"/>
                <a:ext cx="15228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553080" y="3276720"/>
                <a:ext cx="15228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2" name=""/>
            <p:cNvGrpSpPr/>
            <p:nvPr/>
          </p:nvGrpSpPr>
          <p:grpSpPr>
            <a:xfrm>
              <a:off x="2514600" y="3429000"/>
              <a:ext cx="4343400" cy="152280"/>
              <a:chOff x="2514600" y="3429000"/>
              <a:chExt cx="4343400" cy="152280"/>
            </a:xfrm>
          </p:grpSpPr>
          <p:sp>
            <p:nvSpPr>
              <p:cNvPr id="1063" name=""/>
              <p:cNvSpPr/>
              <p:nvPr/>
            </p:nvSpPr>
            <p:spPr>
              <a:xfrm>
                <a:off x="2514600" y="3429000"/>
                <a:ext cx="152280" cy="15228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6705360" y="3429000"/>
                <a:ext cx="152640" cy="15228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5" name=""/>
            <p:cNvSpPr/>
            <p:nvPr/>
          </p:nvSpPr>
          <p:spPr>
            <a:xfrm>
              <a:off x="1143000" y="43434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781680" y="43434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962520" y="4343400"/>
              <a:ext cx="45720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971800" y="4343400"/>
              <a:ext cx="6094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952880" y="4343400"/>
              <a:ext cx="45720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867280" y="4343400"/>
              <a:ext cx="45720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8153280" y="4267080"/>
              <a:ext cx="15264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705720" y="4267080"/>
              <a:ext cx="15228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248520" y="4267080"/>
              <a:ext cx="15228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791320" y="4267080"/>
              <a:ext cx="15228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34120" y="4267080"/>
              <a:ext cx="15228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876920" y="4267080"/>
              <a:ext cx="15228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419720" y="4267080"/>
              <a:ext cx="15228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886200" y="4267080"/>
              <a:ext cx="15228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429000" y="4267080"/>
              <a:ext cx="15228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971800" y="4267080"/>
              <a:ext cx="15228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514600" y="4267080"/>
              <a:ext cx="15228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066680" y="4267080"/>
              <a:ext cx="15264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3" name=""/>
            <p:cNvGrpSpPr/>
            <p:nvPr/>
          </p:nvGrpSpPr>
          <p:grpSpPr>
            <a:xfrm>
              <a:off x="2666880" y="3733920"/>
              <a:ext cx="2209680" cy="152280"/>
              <a:chOff x="2666880" y="3733920"/>
              <a:chExt cx="2209680" cy="152280"/>
            </a:xfrm>
          </p:grpSpPr>
          <p:sp>
            <p:nvSpPr>
              <p:cNvPr id="1084" name=""/>
              <p:cNvSpPr/>
              <p:nvPr/>
            </p:nvSpPr>
            <p:spPr>
              <a:xfrm>
                <a:off x="2743200" y="3809880"/>
                <a:ext cx="205740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3504960" y="3733920"/>
                <a:ext cx="152640" cy="15228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95480" y="3733920"/>
                <a:ext cx="152280" cy="15228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666880" y="3733920"/>
                <a:ext cx="152280" cy="152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4724280" y="3733920"/>
                <a:ext cx="152280" cy="152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809880" y="3733920"/>
                <a:ext cx="152280" cy="15228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495680" y="3733920"/>
                <a:ext cx="152280" cy="15228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5486400" y="3733920"/>
              <a:ext cx="1218960" cy="152280"/>
              <a:chOff x="5486400" y="3733920"/>
              <a:chExt cx="1218960" cy="152280"/>
            </a:xfrm>
          </p:grpSpPr>
          <p:sp>
            <p:nvSpPr>
              <p:cNvPr id="1092" name=""/>
              <p:cNvSpPr/>
              <p:nvPr/>
            </p:nvSpPr>
            <p:spPr>
              <a:xfrm>
                <a:off x="5562360" y="3809880"/>
                <a:ext cx="1067040" cy="0"/>
              </a:xfrm>
              <a:prstGeom prst="line">
                <a:avLst/>
              </a:prstGeom>
              <a:ln w="2844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715000" y="3733920"/>
                <a:ext cx="152280" cy="152280"/>
              </a:xfrm>
              <a:prstGeom prst="ellipse">
                <a:avLst/>
              </a:prstGeom>
              <a:solidFill>
                <a:srgbClr val="d6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324480" y="3733920"/>
                <a:ext cx="152280" cy="152280"/>
              </a:xfrm>
              <a:prstGeom prst="ellipse">
                <a:avLst/>
              </a:prstGeom>
              <a:solidFill>
                <a:srgbClr val="d6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553080" y="3733920"/>
                <a:ext cx="152280" cy="152280"/>
              </a:xfrm>
              <a:prstGeom prst="rect">
                <a:avLst/>
              </a:prstGeom>
              <a:solidFill>
                <a:srgbClr val="d6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486400" y="3733920"/>
                <a:ext cx="152280" cy="152280"/>
              </a:xfrm>
              <a:prstGeom prst="rect">
                <a:avLst/>
              </a:prstGeom>
              <a:solidFill>
                <a:srgbClr val="d6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7" name=""/>
          <p:cNvSpPr/>
          <p:nvPr/>
        </p:nvSpPr>
        <p:spPr>
          <a:xfrm>
            <a:off x="457200" y="5867280"/>
            <a:ext cx="8001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2b and 6b do not allow for peering of L2CP + single service per customer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Additional MEs may be needed at Customer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"/>
          <p:cNvSpPr/>
          <p:nvPr/>
        </p:nvSpPr>
        <p:spPr>
          <a:xfrm flipH="1">
            <a:off x="4876200" y="1981080"/>
            <a:ext cx="3429000" cy="4038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H="1" rot="5400000">
            <a:off x="7092360" y="2890080"/>
            <a:ext cx="21351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Q Tagging “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838080" y="1981080"/>
            <a:ext cx="3429000" cy="4038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rot="16200000">
            <a:off x="-70920" y="2890080"/>
            <a:ext cx="21351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Q Tagging “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263600" y="117360"/>
            <a:ext cx="77169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Arial"/>
              </a:rPr>
              <a:t>Customer Bridge 1</a:t>
            </a:r>
            <a:br>
              <a:rPr sz="3200"/>
            </a:br>
            <a:r>
              <a:rPr b="1" lang="en-GB" sz="3200" spc="-1" strike="noStrike">
                <a:solidFill>
                  <a:srgbClr val="990000"/>
                </a:solidFill>
                <a:latin typeface="Arial"/>
              </a:rPr>
              <a:t>Example without ETH link M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838080" y="1295280"/>
            <a:ext cx="746784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057400" y="1600200"/>
            <a:ext cx="105264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033960" y="1600200"/>
            <a:ext cx="105264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404880" y="1395360"/>
            <a:ext cx="21736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 Layer Ent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447920" y="1600200"/>
            <a:ext cx="60948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057400" y="1600200"/>
            <a:ext cx="1052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447920" y="1981080"/>
            <a:ext cx="2819160" cy="37339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057400" y="1981080"/>
            <a:ext cx="2209680" cy="228600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rot="16200000">
            <a:off x="1073880" y="2964240"/>
            <a:ext cx="22831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ag Up CM S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267080" y="2819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rot="16200000">
            <a:off x="310680" y="3117960"/>
            <a:ext cx="25909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ag Down CM S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>
            <a:off x="4876200" y="1981080"/>
            <a:ext cx="2819160" cy="37339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4876920" y="1981080"/>
            <a:ext cx="2209680" cy="228600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rot="5400000">
            <a:off x="5786280" y="2964240"/>
            <a:ext cx="22831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ag Up CM S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876920" y="2819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H="1" rot="5400000">
            <a:off x="6255000" y="3117960"/>
            <a:ext cx="25909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ag Down CM S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086600" y="1600200"/>
            <a:ext cx="60948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838080" y="1600200"/>
            <a:ext cx="60984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96080" y="1600200"/>
            <a:ext cx="60984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838080" y="6019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267080" y="6019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876920" y="6019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05920" y="6019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V="1">
            <a:off x="5562720" y="2590920"/>
            <a:ext cx="0" cy="312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 flipV="1">
            <a:off x="5410080" y="2438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5334120" y="4952880"/>
            <a:ext cx="457200" cy="4572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FuturaA Bk BT"/>
              </a:rPr>
              <a:t>M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3124080" y="1981080"/>
            <a:ext cx="2923920" cy="838080"/>
            <a:chOff x="3124080" y="1981080"/>
            <a:chExt cx="2923920" cy="838080"/>
          </a:xfrm>
        </p:grpSpPr>
        <p:sp>
          <p:nvSpPr>
            <p:cNvPr id="1130" name=""/>
            <p:cNvSpPr/>
            <p:nvPr/>
          </p:nvSpPr>
          <p:spPr>
            <a:xfrm>
              <a:off x="3124080" y="1981080"/>
              <a:ext cx="29239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0"/>
                  </a:moveTo>
                  <a:lnTo>
                    <a:pt x="1200" y="0"/>
                  </a:lnTo>
                  <a:lnTo>
                    <a:pt x="720" y="528"/>
                  </a:lnTo>
                  <a:lnTo>
                    <a:pt x="480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241880" y="2080800"/>
              <a:ext cx="6879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l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/>
          <p:nvPr/>
        </p:nvSpPr>
        <p:spPr>
          <a:xfrm flipH="1">
            <a:off x="4876200" y="1981080"/>
            <a:ext cx="3429000" cy="4038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 rot="5400000">
            <a:off x="7092360" y="2890080"/>
            <a:ext cx="21351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Q Tagging “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838080" y="1981080"/>
            <a:ext cx="3429000" cy="4038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rot="16200000">
            <a:off x="-70920" y="2890080"/>
            <a:ext cx="21351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Q Tagging “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63600" y="117360"/>
            <a:ext cx="77169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Arial"/>
              </a:rPr>
              <a:t>Provider Bridge 2b</a:t>
            </a:r>
            <a:br>
              <a:rPr sz="3200"/>
            </a:br>
            <a:r>
              <a:rPr b="1" lang="en-GB" sz="3200" spc="-1" strike="noStrike">
                <a:solidFill>
                  <a:srgbClr val="990000"/>
                </a:solidFill>
                <a:latin typeface="Arial"/>
              </a:rPr>
              <a:t>Example without ETH link ME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838080" y="1295280"/>
            <a:ext cx="746784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057400" y="1600200"/>
            <a:ext cx="105264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6033960" y="1600200"/>
            <a:ext cx="105264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404880" y="1395360"/>
            <a:ext cx="21736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 Layer Ent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447920" y="1600200"/>
            <a:ext cx="60948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057400" y="1600200"/>
            <a:ext cx="1052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447920" y="1981080"/>
            <a:ext cx="2819160" cy="37339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057400" y="1981080"/>
            <a:ext cx="2209680" cy="228600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rot="16200000">
            <a:off x="1073880" y="2964240"/>
            <a:ext cx="22831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ag Up CM S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267080" y="2819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rot="16200000">
            <a:off x="310680" y="3117960"/>
            <a:ext cx="25909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ag Down CM S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H="1">
            <a:off x="4876200" y="1981080"/>
            <a:ext cx="2819160" cy="37339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4876920" y="1981080"/>
            <a:ext cx="2209680" cy="228600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 rot="5400000">
            <a:off x="5786280" y="2964240"/>
            <a:ext cx="22831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ag Up CM S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876920" y="2819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 rot="5400000">
            <a:off x="6255000" y="3117960"/>
            <a:ext cx="25909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ag Down CM S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3124080" y="1981080"/>
            <a:ext cx="2923920" cy="838080"/>
            <a:chOff x="3124080" y="1981080"/>
            <a:chExt cx="2923920" cy="838080"/>
          </a:xfrm>
        </p:grpSpPr>
        <p:sp>
          <p:nvSpPr>
            <p:cNvPr id="1154" name=""/>
            <p:cNvSpPr/>
            <p:nvPr/>
          </p:nvSpPr>
          <p:spPr>
            <a:xfrm>
              <a:off x="3124080" y="1981080"/>
              <a:ext cx="29239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0"/>
                  </a:moveTo>
                  <a:lnTo>
                    <a:pt x="1200" y="0"/>
                  </a:lnTo>
                  <a:lnTo>
                    <a:pt x="720" y="528"/>
                  </a:lnTo>
                  <a:lnTo>
                    <a:pt x="480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241880" y="2080800"/>
              <a:ext cx="6879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l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6" name=""/>
          <p:cNvSpPr/>
          <p:nvPr/>
        </p:nvSpPr>
        <p:spPr>
          <a:xfrm>
            <a:off x="7086600" y="1600200"/>
            <a:ext cx="60948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838080" y="1600200"/>
            <a:ext cx="60984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696080" y="1600200"/>
            <a:ext cx="60984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838080" y="6019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267080" y="6019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876920" y="6019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8305920" y="6019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V="1">
            <a:off x="3581280" y="2590920"/>
            <a:ext cx="0" cy="312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flipV="1">
            <a:off x="3581280" y="2438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352680" y="3200400"/>
            <a:ext cx="45720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FuturaA Bk BT"/>
              </a:rPr>
              <a:t>M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352680" y="2666880"/>
            <a:ext cx="457200" cy="45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FuturaA Bk BT"/>
              </a:rPr>
              <a:t>M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5562720" y="2590920"/>
            <a:ext cx="0" cy="312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 flipV="1">
            <a:off x="5410080" y="2438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5334120" y="4038480"/>
            <a:ext cx="457200" cy="45720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FuturaA Bk BT"/>
              </a:rPr>
              <a:t>M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352680" y="4038480"/>
            <a:ext cx="457200" cy="4572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FuturaA Bk BT"/>
              </a:rPr>
              <a:t>M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762120" y="1523880"/>
            <a:ext cx="7543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ual Relay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ndling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ngle Integrated Provider De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/>
          <p:nvPr/>
        </p:nvSpPr>
        <p:spPr>
          <a:xfrm>
            <a:off x="0" y="2590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-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84960" y="990720"/>
            <a:ext cx="8981640" cy="5105160"/>
            <a:chOff x="84960" y="990720"/>
            <a:chExt cx="8981640" cy="5105160"/>
          </a:xfrm>
        </p:grpSpPr>
        <p:sp>
          <p:nvSpPr>
            <p:cNvPr id="1174" name=""/>
            <p:cNvSpPr/>
            <p:nvPr/>
          </p:nvSpPr>
          <p:spPr>
            <a:xfrm>
              <a:off x="1682640" y="236232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98756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2597040" y="236232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290196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996840" y="236232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511440" y="236232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81636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50216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80708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41656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72148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33096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63588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24536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55028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9" name=""/>
            <p:cNvGrpSpPr/>
            <p:nvPr/>
          </p:nvGrpSpPr>
          <p:grpSpPr>
            <a:xfrm>
              <a:off x="990720" y="2362320"/>
              <a:ext cx="7397280" cy="3733200"/>
              <a:chOff x="990720" y="2362320"/>
              <a:chExt cx="7397280" cy="3733200"/>
            </a:xfrm>
          </p:grpSpPr>
          <p:sp>
            <p:nvSpPr>
              <p:cNvPr id="1190" name=""/>
              <p:cNvSpPr/>
              <p:nvPr/>
            </p:nvSpPr>
            <p:spPr>
              <a:xfrm>
                <a:off x="182952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67688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13444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98216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274500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259200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304956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289728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14336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99072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66012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50712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396468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81240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65120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49892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95648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80384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56632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41404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87160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71896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8144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32916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78672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63408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39656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24428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70184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54956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38800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823572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2" name=""/>
            <p:cNvSpPr/>
            <p:nvPr/>
          </p:nvSpPr>
          <p:spPr>
            <a:xfrm>
              <a:off x="823608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149480" y="6095880"/>
              <a:ext cx="533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968640" y="6095880"/>
              <a:ext cx="5335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702560" y="6095880"/>
              <a:ext cx="5335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139840" y="6095880"/>
              <a:ext cx="457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054240" y="6095880"/>
              <a:ext cx="457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959360" y="6095880"/>
              <a:ext cx="457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873760" y="6095880"/>
              <a:ext cx="457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788160" y="6095880"/>
              <a:ext cx="457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835280" y="609588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749680" y="609588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844560" y="609588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664080" y="609588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654440" y="609588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568840" y="609588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483240" y="609588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397640" y="609588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8388360" y="609588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12120" y="990720"/>
              <a:ext cx="136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Customer</a:t>
              </a:r>
              <a:br>
                <a:rPr sz="1800"/>
              </a:b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Equi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703280" y="990720"/>
              <a:ext cx="136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Customer</a:t>
              </a:r>
              <a:br>
                <a:rPr sz="1800"/>
              </a:b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Equi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141640" y="990720"/>
              <a:ext cx="137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6600"/>
                  </a:solidFill>
                  <a:latin typeface="Arial"/>
                </a:rPr>
                <a:t>Operator A</a:t>
              </a:r>
              <a:br>
                <a:rPr sz="1800"/>
              </a:br>
              <a:r>
                <a:rPr b="1" lang="en-US" sz="1800" spc="-1" strike="noStrike">
                  <a:solidFill>
                    <a:srgbClr val="cc6600"/>
                  </a:solidFill>
                  <a:latin typeface="Arial"/>
                </a:rPr>
                <a:t>Brid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418360" y="990720"/>
              <a:ext cx="137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Operator B</a:t>
              </a:r>
              <a:br>
                <a:rPr sz="1800"/>
              </a:b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Brid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169040" y="1676520"/>
              <a:ext cx="609840" cy="609480"/>
            </a:xfrm>
            <a:prstGeom prst="rect">
              <a:avLst/>
            </a:prstGeom>
            <a:solidFill>
              <a:srgbClr val="ff00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397640" y="1676520"/>
              <a:ext cx="15264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55028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16904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254640" y="1676520"/>
              <a:ext cx="609840" cy="609480"/>
            </a:xfrm>
            <a:prstGeom prst="rect">
              <a:avLst/>
            </a:prstGeom>
            <a:solidFill>
              <a:srgbClr val="ff00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483240" y="1676520"/>
              <a:ext cx="15264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63588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25464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340240" y="1676520"/>
              <a:ext cx="609840" cy="609480"/>
            </a:xfrm>
            <a:prstGeom prst="rect">
              <a:avLst/>
            </a:prstGeom>
            <a:solidFill>
              <a:srgbClr val="ff66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568840" y="1676520"/>
              <a:ext cx="15264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572148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34024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425840" y="1676520"/>
              <a:ext cx="609840" cy="60948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54440" y="1676520"/>
              <a:ext cx="15264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80708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42584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435480" y="1676520"/>
              <a:ext cx="609480" cy="60948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664080" y="1676520"/>
              <a:ext cx="15228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81636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43548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521080" y="1676520"/>
              <a:ext cx="609480" cy="60948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749680" y="1676520"/>
              <a:ext cx="15228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90196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52108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159760" y="1676520"/>
              <a:ext cx="609480" cy="609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8388360" y="1676520"/>
              <a:ext cx="15228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854064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815976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15960" y="1676520"/>
              <a:ext cx="609480" cy="609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606680" y="1676520"/>
              <a:ext cx="609480" cy="60948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835280" y="1676520"/>
              <a:ext cx="15228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44560" y="1676520"/>
              <a:ext cx="15228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15960" y="1981080"/>
              <a:ext cx="815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99684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1596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198756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60668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>
              <a:off x="1834920" y="1676520"/>
              <a:ext cx="152280" cy="609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2" name=""/>
            <p:cNvGrpSpPr/>
            <p:nvPr/>
          </p:nvGrpSpPr>
          <p:grpSpPr>
            <a:xfrm>
              <a:off x="2521080" y="5029200"/>
              <a:ext cx="4343400" cy="152280"/>
              <a:chOff x="2521080" y="5029200"/>
              <a:chExt cx="4343400" cy="152280"/>
            </a:xfrm>
          </p:grpSpPr>
          <p:sp>
            <p:nvSpPr>
              <p:cNvPr id="1283" name=""/>
              <p:cNvSpPr/>
              <p:nvPr/>
            </p:nvSpPr>
            <p:spPr>
              <a:xfrm>
                <a:off x="2521080" y="5029200"/>
                <a:ext cx="152280" cy="15228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711840" y="5029200"/>
                <a:ext cx="152640" cy="15228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5" name=""/>
            <p:cNvGrpSpPr/>
            <p:nvPr/>
          </p:nvGrpSpPr>
          <p:grpSpPr>
            <a:xfrm>
              <a:off x="2673360" y="4648320"/>
              <a:ext cx="4038480" cy="152280"/>
              <a:chOff x="2673360" y="4648320"/>
              <a:chExt cx="4038480" cy="152280"/>
            </a:xfrm>
          </p:grpSpPr>
          <p:sp>
            <p:nvSpPr>
              <p:cNvPr id="1286" name=""/>
              <p:cNvSpPr/>
              <p:nvPr/>
            </p:nvSpPr>
            <p:spPr>
              <a:xfrm>
                <a:off x="2749680" y="4724280"/>
                <a:ext cx="3886200" cy="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416560" y="4648320"/>
                <a:ext cx="152280" cy="1522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4807080" y="4648320"/>
                <a:ext cx="152280" cy="1522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673360" y="4648320"/>
                <a:ext cx="152280" cy="15228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559560" y="4648320"/>
                <a:ext cx="152280" cy="15228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1" name=""/>
            <p:cNvGrpSpPr/>
            <p:nvPr/>
          </p:nvGrpSpPr>
          <p:grpSpPr>
            <a:xfrm>
              <a:off x="1073160" y="2590920"/>
              <a:ext cx="7238880" cy="152280"/>
              <a:chOff x="1073160" y="2590920"/>
              <a:chExt cx="7238880" cy="152280"/>
            </a:xfrm>
          </p:grpSpPr>
          <p:sp>
            <p:nvSpPr>
              <p:cNvPr id="1292" name=""/>
              <p:cNvSpPr/>
              <p:nvPr/>
            </p:nvSpPr>
            <p:spPr>
              <a:xfrm>
                <a:off x="1149480" y="2667240"/>
                <a:ext cx="7086600" cy="0"/>
              </a:xfrm>
              <a:prstGeom prst="line">
                <a:avLst/>
              </a:prstGeom>
              <a:ln w="28440">
                <a:solidFill>
                  <a:srgbClr val="66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073160" y="2590920"/>
                <a:ext cx="152280" cy="152280"/>
              </a:xfrm>
              <a:prstGeom prst="rect">
                <a:avLst/>
              </a:prstGeom>
              <a:solidFill>
                <a:srgbClr val="66ff99"/>
              </a:solidFill>
              <a:ln w="9360">
                <a:solidFill>
                  <a:srgbClr val="66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550280" y="2590920"/>
                <a:ext cx="152280" cy="152280"/>
              </a:xfrm>
              <a:prstGeom prst="ellipse">
                <a:avLst/>
              </a:prstGeom>
              <a:solidFill>
                <a:srgbClr val="66ff99"/>
              </a:solidFill>
              <a:ln w="9360">
                <a:solidFill>
                  <a:srgbClr val="66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1682640" y="2590920"/>
                <a:ext cx="152640" cy="152280"/>
              </a:xfrm>
              <a:prstGeom prst="ellipse">
                <a:avLst/>
              </a:prstGeom>
              <a:solidFill>
                <a:srgbClr val="66ff99"/>
              </a:solidFill>
              <a:ln w="9360">
                <a:solidFill>
                  <a:srgbClr val="66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8159760" y="2590920"/>
                <a:ext cx="152280" cy="152280"/>
              </a:xfrm>
              <a:prstGeom prst="rect">
                <a:avLst/>
              </a:prstGeom>
              <a:solidFill>
                <a:srgbClr val="66ff99"/>
              </a:solidFill>
              <a:ln w="9360">
                <a:solidFill>
                  <a:srgbClr val="66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7" name=""/>
            <p:cNvSpPr/>
            <p:nvPr/>
          </p:nvSpPr>
          <p:spPr>
            <a:xfrm>
              <a:off x="692280" y="243828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84960" y="3886200"/>
              <a:ext cx="52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FuturaA Bk BT"/>
                </a:rPr>
                <a:t>E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149480" y="5715000"/>
              <a:ext cx="5331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702560" y="5715000"/>
              <a:ext cx="5335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968640" y="5715000"/>
              <a:ext cx="45720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978280" y="5715000"/>
              <a:ext cx="6094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959360" y="5715000"/>
              <a:ext cx="45720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873760" y="5715000"/>
              <a:ext cx="45720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8159760" y="5638680"/>
              <a:ext cx="15228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626240" y="5638680"/>
              <a:ext cx="15264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254640" y="5638680"/>
              <a:ext cx="15264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797440" y="5638680"/>
              <a:ext cx="15264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340240" y="5638680"/>
              <a:ext cx="15264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883040" y="5638680"/>
              <a:ext cx="15264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425840" y="5638680"/>
              <a:ext cx="15264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892680" y="5638680"/>
              <a:ext cx="15228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435480" y="5638680"/>
              <a:ext cx="15228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978280" y="5638680"/>
              <a:ext cx="15228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06680" y="5638680"/>
              <a:ext cx="15228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073160" y="5638680"/>
              <a:ext cx="15228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74720" y="16002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705320" y="160020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2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616120" y="16002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2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594240" y="16002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584600" y="16002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499000" y="16002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349680" y="16002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6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268040" y="1600200"/>
              <a:ext cx="41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6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318520" y="16002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6" name=""/>
            <p:cNvGrpSpPr/>
            <p:nvPr/>
          </p:nvGrpSpPr>
          <p:grpSpPr>
            <a:xfrm>
              <a:off x="1073160" y="3048120"/>
              <a:ext cx="7238880" cy="152280"/>
              <a:chOff x="1073160" y="3048120"/>
              <a:chExt cx="7238880" cy="152280"/>
            </a:xfrm>
          </p:grpSpPr>
          <p:sp>
            <p:nvSpPr>
              <p:cNvPr id="1327" name=""/>
              <p:cNvSpPr/>
              <p:nvPr/>
            </p:nvSpPr>
            <p:spPr>
              <a:xfrm>
                <a:off x="1149480" y="3124440"/>
                <a:ext cx="7086600" cy="0"/>
              </a:xfrm>
              <a:prstGeom prst="line">
                <a:avLst/>
              </a:prstGeom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1073160" y="3048120"/>
                <a:ext cx="152280" cy="1522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7550280" y="3048120"/>
                <a:ext cx="152280" cy="15228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1682640" y="3048120"/>
                <a:ext cx="152640" cy="152280"/>
              </a:xfrm>
              <a:prstGeom prst="ellipse">
                <a:avLst/>
              </a:prstGeom>
              <a:solidFill>
                <a:srgbClr val="006600"/>
              </a:solidFill>
              <a:ln w="93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8159760" y="3048120"/>
                <a:ext cx="152280" cy="152280"/>
              </a:xfrm>
              <a:prstGeom prst="rect">
                <a:avLst/>
              </a:prstGeom>
              <a:solidFill>
                <a:srgbClr val="006600"/>
              </a:solidFill>
              <a:ln w="93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2" name=""/>
            <p:cNvGrpSpPr/>
            <p:nvPr/>
          </p:nvGrpSpPr>
          <p:grpSpPr>
            <a:xfrm>
              <a:off x="1073160" y="2362320"/>
              <a:ext cx="7238880" cy="152280"/>
              <a:chOff x="1073160" y="2362320"/>
              <a:chExt cx="7238880" cy="152280"/>
            </a:xfrm>
          </p:grpSpPr>
          <p:sp>
            <p:nvSpPr>
              <p:cNvPr id="1333" name=""/>
              <p:cNvSpPr/>
              <p:nvPr/>
            </p:nvSpPr>
            <p:spPr>
              <a:xfrm>
                <a:off x="1149480" y="2438640"/>
                <a:ext cx="7086600" cy="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1073160" y="2362320"/>
                <a:ext cx="152280" cy="15228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550280" y="2362320"/>
                <a:ext cx="152280" cy="1522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1682640" y="2362320"/>
                <a:ext cx="152640" cy="15228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8159760" y="2362320"/>
                <a:ext cx="152280" cy="15228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8" name=""/>
            <p:cNvGrpSpPr/>
            <p:nvPr/>
          </p:nvGrpSpPr>
          <p:grpSpPr>
            <a:xfrm>
              <a:off x="1073160" y="2819520"/>
              <a:ext cx="7238880" cy="152280"/>
              <a:chOff x="1073160" y="2819520"/>
              <a:chExt cx="7238880" cy="152280"/>
            </a:xfrm>
          </p:grpSpPr>
          <p:sp>
            <p:nvSpPr>
              <p:cNvPr id="1339" name=""/>
              <p:cNvSpPr/>
              <p:nvPr/>
            </p:nvSpPr>
            <p:spPr>
              <a:xfrm>
                <a:off x="1149480" y="2895840"/>
                <a:ext cx="7086600" cy="0"/>
              </a:xfrm>
              <a:prstGeom prst="line">
                <a:avLst/>
              </a:prstGeom>
              <a:ln w="2844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1073160" y="2819520"/>
                <a:ext cx="152280" cy="152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7550280" y="2819520"/>
                <a:ext cx="152280" cy="1522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682640" y="2819520"/>
                <a:ext cx="152640" cy="1522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8159760" y="2819520"/>
                <a:ext cx="152280" cy="152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1758960" y="3505320"/>
              <a:ext cx="5867280" cy="152280"/>
              <a:chOff x="1758960" y="3505320"/>
              <a:chExt cx="5867280" cy="152280"/>
            </a:xfrm>
          </p:grpSpPr>
          <p:sp>
            <p:nvSpPr>
              <p:cNvPr id="1345" name=""/>
              <p:cNvSpPr/>
              <p:nvPr/>
            </p:nvSpPr>
            <p:spPr>
              <a:xfrm>
                <a:off x="1758960" y="3581640"/>
                <a:ext cx="5715000" cy="0"/>
              </a:xfrm>
              <a:prstGeom prst="line">
                <a:avLst/>
              </a:prstGeom>
              <a:ln w="28440">
                <a:solidFill>
                  <a:srgbClr val="99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1758960" y="3505320"/>
                <a:ext cx="152280" cy="152280"/>
              </a:xfrm>
              <a:prstGeom prst="rect">
                <a:avLst/>
              </a:prstGeom>
              <a:solidFill>
                <a:srgbClr val="9966ff"/>
              </a:solidFill>
              <a:ln w="9360">
                <a:solidFill>
                  <a:srgbClr val="99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7473960" y="3505320"/>
                <a:ext cx="152280" cy="152280"/>
              </a:xfrm>
              <a:prstGeom prst="rect">
                <a:avLst/>
              </a:prstGeom>
              <a:solidFill>
                <a:srgbClr val="9966ff"/>
              </a:solidFill>
              <a:ln w="9360">
                <a:solidFill>
                  <a:srgbClr val="99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8" name=""/>
            <p:cNvSpPr/>
            <p:nvPr/>
          </p:nvSpPr>
          <p:spPr>
            <a:xfrm>
              <a:off x="1758960" y="3809880"/>
              <a:ext cx="5715000" cy="0"/>
            </a:xfrm>
            <a:prstGeom prst="line">
              <a:avLst/>
            </a:prstGeom>
            <a:ln w="284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758960" y="3733920"/>
              <a:ext cx="152280" cy="152280"/>
            </a:xfrm>
            <a:prstGeom prst="rect">
              <a:avLst/>
            </a:prstGeom>
            <a:solidFill>
              <a:srgbClr val="9933ff"/>
            </a:soli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7473960" y="3733920"/>
              <a:ext cx="152280" cy="152280"/>
            </a:xfrm>
            <a:prstGeom prst="rect">
              <a:avLst/>
            </a:prstGeom>
            <a:solidFill>
              <a:srgbClr val="9933ff"/>
            </a:solidFill>
            <a:ln w="936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1" name=""/>
            <p:cNvGrpSpPr/>
            <p:nvPr/>
          </p:nvGrpSpPr>
          <p:grpSpPr>
            <a:xfrm>
              <a:off x="1758960" y="3962520"/>
              <a:ext cx="5867280" cy="152280"/>
              <a:chOff x="1758960" y="3962520"/>
              <a:chExt cx="5867280" cy="152280"/>
            </a:xfrm>
          </p:grpSpPr>
          <p:sp>
            <p:nvSpPr>
              <p:cNvPr id="1352" name=""/>
              <p:cNvSpPr/>
              <p:nvPr/>
            </p:nvSpPr>
            <p:spPr>
              <a:xfrm>
                <a:off x="1758960" y="4038840"/>
                <a:ext cx="5715000" cy="0"/>
              </a:xfrm>
              <a:prstGeom prst="line">
                <a:avLst/>
              </a:prstGeom>
              <a:ln w="2844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1758960" y="3962520"/>
                <a:ext cx="152280" cy="152280"/>
              </a:xfrm>
              <a:prstGeom prst="rect">
                <a:avLst/>
              </a:prstGeom>
              <a:solidFill>
                <a:srgbClr val="6600cc"/>
              </a:solidFill>
              <a:ln w="93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7473960" y="3962520"/>
                <a:ext cx="152280" cy="152280"/>
              </a:xfrm>
              <a:prstGeom prst="rect">
                <a:avLst/>
              </a:prstGeom>
              <a:solidFill>
                <a:srgbClr val="6600cc"/>
              </a:solidFill>
              <a:ln w="9360">
                <a:solidFill>
                  <a:srgbClr val="66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5" name=""/>
            <p:cNvGrpSpPr/>
            <p:nvPr/>
          </p:nvGrpSpPr>
          <p:grpSpPr>
            <a:xfrm>
              <a:off x="2673360" y="4876920"/>
              <a:ext cx="4038480" cy="152280"/>
              <a:chOff x="2673360" y="4876920"/>
              <a:chExt cx="4038480" cy="152280"/>
            </a:xfrm>
          </p:grpSpPr>
          <p:sp>
            <p:nvSpPr>
              <p:cNvPr id="1356" name=""/>
              <p:cNvSpPr/>
              <p:nvPr/>
            </p:nvSpPr>
            <p:spPr>
              <a:xfrm>
                <a:off x="2749680" y="4952880"/>
                <a:ext cx="38862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416560" y="48769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807080" y="4876920"/>
                <a:ext cx="152280" cy="15228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2673360" y="4876920"/>
                <a:ext cx="15228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559560" y="4876920"/>
                <a:ext cx="15228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1" name=""/>
            <p:cNvSpPr/>
            <p:nvPr/>
          </p:nvSpPr>
          <p:spPr>
            <a:xfrm>
              <a:off x="662400" y="22543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62400" y="24829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62400" y="27115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62400" y="29401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376640" y="31687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376640" y="33973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376640" y="36259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376640" y="38545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291040" y="457200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291040" y="47689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1" name=""/>
            <p:cNvGrpSpPr/>
            <p:nvPr/>
          </p:nvGrpSpPr>
          <p:grpSpPr>
            <a:xfrm>
              <a:off x="5492880" y="5181480"/>
              <a:ext cx="1218960" cy="152640"/>
              <a:chOff x="5492880" y="5181480"/>
              <a:chExt cx="1218960" cy="152640"/>
            </a:xfrm>
          </p:grpSpPr>
          <p:sp>
            <p:nvSpPr>
              <p:cNvPr id="1372" name=""/>
              <p:cNvSpPr/>
              <p:nvPr/>
            </p:nvSpPr>
            <p:spPr>
              <a:xfrm>
                <a:off x="5568840" y="5257800"/>
                <a:ext cx="1067040" cy="0"/>
              </a:xfrm>
              <a:prstGeom prst="line">
                <a:avLst/>
              </a:prstGeom>
              <a:ln w="2844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5721480" y="5181480"/>
                <a:ext cx="152280" cy="15264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330960" y="5181480"/>
                <a:ext cx="152280" cy="15264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559560" y="5181480"/>
                <a:ext cx="152280" cy="152640"/>
              </a:xfrm>
              <a:prstGeom prst="rect">
                <a:avLst/>
              </a:prstGeom>
              <a:solidFill>
                <a:srgbClr val="ff99ff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492880" y="5181480"/>
                <a:ext cx="152280" cy="152640"/>
              </a:xfrm>
              <a:prstGeom prst="rect">
                <a:avLst/>
              </a:prstGeom>
              <a:solidFill>
                <a:srgbClr val="ff99ff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2673360" y="5410080"/>
              <a:ext cx="2209680" cy="152640"/>
              <a:chOff x="2673360" y="5410080"/>
              <a:chExt cx="2209680" cy="152640"/>
            </a:xfrm>
          </p:grpSpPr>
          <p:sp>
            <p:nvSpPr>
              <p:cNvPr id="1378" name=""/>
              <p:cNvSpPr/>
              <p:nvPr/>
            </p:nvSpPr>
            <p:spPr>
              <a:xfrm>
                <a:off x="2749680" y="5486400"/>
                <a:ext cx="205740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3511440" y="5410080"/>
                <a:ext cx="152640" cy="15264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2901960" y="5410080"/>
                <a:ext cx="152280" cy="15264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2673360" y="5410080"/>
                <a:ext cx="152280" cy="1526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730760" y="5410080"/>
                <a:ext cx="152280" cy="1526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3816360" y="5410080"/>
                <a:ext cx="152280" cy="15264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4502160" y="5410080"/>
                <a:ext cx="152280" cy="15264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5" name=""/>
            <p:cNvGrpSpPr/>
            <p:nvPr/>
          </p:nvGrpSpPr>
          <p:grpSpPr>
            <a:xfrm>
              <a:off x="5492880" y="5410080"/>
              <a:ext cx="1218960" cy="152640"/>
              <a:chOff x="5492880" y="5410080"/>
              <a:chExt cx="1218960" cy="152640"/>
            </a:xfrm>
          </p:grpSpPr>
          <p:sp>
            <p:nvSpPr>
              <p:cNvPr id="1386" name=""/>
              <p:cNvSpPr/>
              <p:nvPr/>
            </p:nvSpPr>
            <p:spPr>
              <a:xfrm>
                <a:off x="5568840" y="5486400"/>
                <a:ext cx="1067040" cy="0"/>
              </a:xfrm>
              <a:prstGeom prst="line">
                <a:avLst/>
              </a:prstGeom>
              <a:ln w="2844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721480" y="5410080"/>
                <a:ext cx="152280" cy="152640"/>
              </a:xfrm>
              <a:prstGeom prst="ellipse">
                <a:avLst/>
              </a:prstGeom>
              <a:solidFill>
                <a:srgbClr val="d6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330960" y="5410080"/>
                <a:ext cx="152280" cy="152640"/>
              </a:xfrm>
              <a:prstGeom prst="ellipse">
                <a:avLst/>
              </a:prstGeom>
              <a:solidFill>
                <a:srgbClr val="d6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559560" y="5410080"/>
                <a:ext cx="152280" cy="152640"/>
              </a:xfrm>
              <a:prstGeom prst="rect">
                <a:avLst/>
              </a:prstGeom>
              <a:solidFill>
                <a:srgbClr val="d6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492880" y="5410080"/>
                <a:ext cx="152280" cy="152640"/>
              </a:xfrm>
              <a:prstGeom prst="rect">
                <a:avLst/>
              </a:prstGeom>
              <a:solidFill>
                <a:srgbClr val="d6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1" name=""/>
            <p:cNvGrpSpPr/>
            <p:nvPr/>
          </p:nvGrpSpPr>
          <p:grpSpPr>
            <a:xfrm>
              <a:off x="2673360" y="5181480"/>
              <a:ext cx="2209680" cy="152640"/>
              <a:chOff x="2673360" y="5181480"/>
              <a:chExt cx="2209680" cy="152640"/>
            </a:xfrm>
          </p:grpSpPr>
          <p:sp>
            <p:nvSpPr>
              <p:cNvPr id="1392" name=""/>
              <p:cNvSpPr/>
              <p:nvPr/>
            </p:nvSpPr>
            <p:spPr>
              <a:xfrm>
                <a:off x="2749680" y="5257800"/>
                <a:ext cx="2057400" cy="0"/>
              </a:xfrm>
              <a:prstGeom prst="line">
                <a:avLst/>
              </a:prstGeom>
              <a:ln w="2844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3511440" y="5181480"/>
                <a:ext cx="152640" cy="15264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901960" y="5181480"/>
                <a:ext cx="152280" cy="15264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673360" y="5181480"/>
                <a:ext cx="152280" cy="1526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4730760" y="5181480"/>
                <a:ext cx="152280" cy="1526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3816360" y="5181480"/>
                <a:ext cx="152280" cy="15264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502160" y="5181480"/>
                <a:ext cx="152280" cy="15264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9" name=""/>
            <p:cNvSpPr/>
            <p:nvPr/>
          </p:nvSpPr>
          <p:spPr>
            <a:xfrm>
              <a:off x="1530360" y="1600200"/>
              <a:ext cx="1676520" cy="762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178680" y="1600200"/>
              <a:ext cx="1676160" cy="762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1" name=""/>
            <p:cNvGrpSpPr/>
            <p:nvPr/>
          </p:nvGrpSpPr>
          <p:grpSpPr>
            <a:xfrm>
              <a:off x="2057400" y="4191120"/>
              <a:ext cx="5257800" cy="152280"/>
              <a:chOff x="2057400" y="4191120"/>
              <a:chExt cx="5257800" cy="152280"/>
            </a:xfrm>
          </p:grpSpPr>
          <p:sp>
            <p:nvSpPr>
              <p:cNvPr id="1402" name=""/>
              <p:cNvSpPr/>
              <p:nvPr/>
            </p:nvSpPr>
            <p:spPr>
              <a:xfrm>
                <a:off x="2133720" y="4267080"/>
                <a:ext cx="5105160" cy="0"/>
              </a:xfrm>
              <a:prstGeom prst="line">
                <a:avLst/>
              </a:prstGeom>
              <a:ln w="2844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629400" y="4191120"/>
                <a:ext cx="152280" cy="15228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2590920" y="4191120"/>
                <a:ext cx="152280" cy="15228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2057400" y="4191120"/>
                <a:ext cx="152280" cy="152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7162920" y="4191120"/>
                <a:ext cx="152280" cy="152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7" name=""/>
            <p:cNvGrpSpPr/>
            <p:nvPr/>
          </p:nvGrpSpPr>
          <p:grpSpPr>
            <a:xfrm>
              <a:off x="1758960" y="3276720"/>
              <a:ext cx="5867280" cy="152280"/>
              <a:chOff x="1758960" y="3276720"/>
              <a:chExt cx="5867280" cy="152280"/>
            </a:xfrm>
          </p:grpSpPr>
          <p:grpSp>
            <p:nvGrpSpPr>
              <p:cNvPr id="1408" name=""/>
              <p:cNvGrpSpPr/>
              <p:nvPr/>
            </p:nvGrpSpPr>
            <p:grpSpPr>
              <a:xfrm>
                <a:off x="1758960" y="3276720"/>
                <a:ext cx="5867280" cy="152280"/>
                <a:chOff x="1758960" y="3276720"/>
                <a:chExt cx="5867280" cy="152280"/>
              </a:xfrm>
            </p:grpSpPr>
            <p:sp>
              <p:nvSpPr>
                <p:cNvPr id="1409" name=""/>
                <p:cNvSpPr/>
                <p:nvPr/>
              </p:nvSpPr>
              <p:spPr>
                <a:xfrm>
                  <a:off x="1758960" y="3353040"/>
                  <a:ext cx="5715000" cy="0"/>
                </a:xfrm>
                <a:prstGeom prst="line">
                  <a:avLst/>
                </a:prstGeom>
                <a:ln w="28440">
                  <a:solidFill>
                    <a:srgbClr val="cc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1758960" y="3276720"/>
                  <a:ext cx="152280" cy="15228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cc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7473960" y="3276720"/>
                  <a:ext cx="152280" cy="152280"/>
                </a:xfrm>
                <a:prstGeom prst="rect">
                  <a:avLst/>
                </a:prstGeom>
                <a:solidFill>
                  <a:srgbClr val="cc99ff"/>
                </a:solidFill>
                <a:ln w="9360">
                  <a:solidFill>
                    <a:srgbClr val="cc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2" name=""/>
              <p:cNvSpPr/>
              <p:nvPr/>
            </p:nvSpPr>
            <p:spPr>
              <a:xfrm>
                <a:off x="1981080" y="3276720"/>
                <a:ext cx="152640" cy="1522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7238880" y="3276720"/>
                <a:ext cx="152640" cy="15228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2057400" y="4419720"/>
              <a:ext cx="5257800" cy="152280"/>
              <a:chOff x="2057400" y="4419720"/>
              <a:chExt cx="5257800" cy="152280"/>
            </a:xfrm>
          </p:grpSpPr>
          <p:sp>
            <p:nvSpPr>
              <p:cNvPr id="1415" name=""/>
              <p:cNvSpPr/>
              <p:nvPr/>
            </p:nvSpPr>
            <p:spPr>
              <a:xfrm>
                <a:off x="2133720" y="4495680"/>
                <a:ext cx="5105160" cy="0"/>
              </a:xfrm>
              <a:prstGeom prst="line">
                <a:avLst/>
              </a:prstGeom>
              <a:ln w="2844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629400" y="4419720"/>
                <a:ext cx="152280" cy="152280"/>
              </a:xfrm>
              <a:prstGeom prst="ellipse">
                <a:avLst/>
              </a:prstGeom>
              <a:solidFill>
                <a:srgbClr val="cc00cc"/>
              </a:solidFill>
              <a:ln w="93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2590920" y="4419720"/>
                <a:ext cx="152280" cy="152280"/>
              </a:xfrm>
              <a:prstGeom prst="ellipse">
                <a:avLst/>
              </a:prstGeom>
              <a:solidFill>
                <a:srgbClr val="cc00cc"/>
              </a:solidFill>
              <a:ln w="93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2057400" y="4419720"/>
                <a:ext cx="152280" cy="152280"/>
              </a:xfrm>
              <a:prstGeom prst="rect">
                <a:avLst/>
              </a:prstGeom>
              <a:solidFill>
                <a:srgbClr val="cc00cc"/>
              </a:solidFill>
              <a:ln w="93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162920" y="4419720"/>
                <a:ext cx="152280" cy="152280"/>
              </a:xfrm>
              <a:prstGeom prst="rect">
                <a:avLst/>
              </a:prstGeom>
              <a:solidFill>
                <a:srgbClr val="cc00cc"/>
              </a:solidFill>
              <a:ln w="93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0" name=""/>
            <p:cNvSpPr/>
            <p:nvPr/>
          </p:nvSpPr>
          <p:spPr>
            <a:xfrm>
              <a:off x="1981080" y="3505320"/>
              <a:ext cx="152640" cy="152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981080" y="3733920"/>
              <a:ext cx="152640" cy="152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238880" y="3505320"/>
              <a:ext cx="152640" cy="152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238880" y="3733920"/>
              <a:ext cx="152640" cy="152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238880" y="3962520"/>
              <a:ext cx="152640" cy="15228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52480" y="47242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-T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066680" y="426708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tagg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762120" y="35053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-T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9" name=""/>
            <p:cNvGrpSpPr/>
            <p:nvPr/>
          </p:nvGrpSpPr>
          <p:grpSpPr>
            <a:xfrm>
              <a:off x="1676520" y="4114800"/>
              <a:ext cx="6095880" cy="152280"/>
              <a:chOff x="1676520" y="4114800"/>
              <a:chExt cx="6095880" cy="152280"/>
            </a:xfrm>
          </p:grpSpPr>
          <p:sp>
            <p:nvSpPr>
              <p:cNvPr id="1430" name=""/>
              <p:cNvSpPr/>
              <p:nvPr/>
            </p:nvSpPr>
            <p:spPr>
              <a:xfrm>
                <a:off x="1676520" y="4114800"/>
                <a:ext cx="152280" cy="15228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620120" y="4114800"/>
                <a:ext cx="152280" cy="15228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32" name=""/>
          <p:cNvSpPr/>
          <p:nvPr/>
        </p:nvSpPr>
        <p:spPr>
          <a:xfrm>
            <a:off x="990720" y="152280"/>
            <a:ext cx="7924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Arial"/>
                <a:ea typeface="Arial"/>
              </a:rPr>
              <a:t>MEP, MIP, TCP for Dual-Relay Model:</a:t>
            </a:r>
            <a:br>
              <a:rPr sz="2800"/>
            </a:br>
            <a:r>
              <a:rPr b="1" lang="en-GB" sz="2800" spc="-1" strike="noStrike">
                <a:solidFill>
                  <a:srgbClr val="990000"/>
                </a:solidFill>
                <a:latin typeface="Arial"/>
                <a:ea typeface="Arial"/>
              </a:rPr>
              <a:t>Bundling -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  <a:ea typeface="Arial"/>
              </a:rPr>
              <a:t>Single Integrated Provider De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3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AM Layering 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"/>
          <p:cNvSpPr/>
          <p:nvPr/>
        </p:nvSpPr>
        <p:spPr>
          <a:xfrm flipH="1">
            <a:off x="4876200" y="1981080"/>
            <a:ext cx="3429000" cy="4038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H="1" rot="5400000">
            <a:off x="7092360" y="2890080"/>
            <a:ext cx="21351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Q Tagging “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838080" y="1981080"/>
            <a:ext cx="3429000" cy="4038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rot="16200000">
            <a:off x="-70920" y="2890080"/>
            <a:ext cx="21351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Q Tagging “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1263600" y="117360"/>
            <a:ext cx="77169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Arial"/>
              </a:rPr>
              <a:t>Customer Bridge 1</a:t>
            </a:r>
            <a:br>
              <a:rPr sz="3200"/>
            </a:br>
            <a:r>
              <a:rPr b="1" lang="en-GB" sz="3200" spc="-1" strike="noStrike">
                <a:solidFill>
                  <a:srgbClr val="990000"/>
                </a:solidFill>
                <a:latin typeface="Arial"/>
              </a:rPr>
              <a:t>Example without ETH link ME - TBD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838080" y="1295280"/>
            <a:ext cx="746784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057400" y="1600200"/>
            <a:ext cx="105264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033960" y="1600200"/>
            <a:ext cx="105264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404880" y="1395360"/>
            <a:ext cx="21736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 Layer Ent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447920" y="1600200"/>
            <a:ext cx="60948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057400" y="1600200"/>
            <a:ext cx="1052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447920" y="1981080"/>
            <a:ext cx="2819160" cy="37339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057400" y="1981080"/>
            <a:ext cx="2209680" cy="228600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 rot="16200000">
            <a:off x="1073880" y="2964240"/>
            <a:ext cx="22831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ag Up CM S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4267080" y="2819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rot="16200000">
            <a:off x="310680" y="3117960"/>
            <a:ext cx="25909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ag Down CM S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 flipH="1">
            <a:off x="4876200" y="1981080"/>
            <a:ext cx="2819160" cy="37339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H="1">
            <a:off x="4876920" y="1981080"/>
            <a:ext cx="2209680" cy="228600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 flipH="1" rot="5400000">
            <a:off x="5786280" y="2964240"/>
            <a:ext cx="22831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ag Up CM S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876920" y="2819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H="1" rot="5400000">
            <a:off x="6255000" y="3117960"/>
            <a:ext cx="25909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ag Down CM S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086600" y="1600200"/>
            <a:ext cx="60948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838080" y="1600200"/>
            <a:ext cx="60984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7696080" y="1600200"/>
            <a:ext cx="60984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838080" y="6019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267080" y="6019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876920" y="6019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8305920" y="6019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1" name=""/>
          <p:cNvGrpSpPr/>
          <p:nvPr/>
        </p:nvGrpSpPr>
        <p:grpSpPr>
          <a:xfrm>
            <a:off x="4952880" y="2742840"/>
            <a:ext cx="457200" cy="2972160"/>
            <a:chOff x="4952880" y="2742840"/>
            <a:chExt cx="457200" cy="2972160"/>
          </a:xfrm>
        </p:grpSpPr>
        <p:sp>
          <p:nvSpPr>
            <p:cNvPr id="1462" name=""/>
            <p:cNvSpPr/>
            <p:nvPr/>
          </p:nvSpPr>
          <p:spPr>
            <a:xfrm flipV="1">
              <a:off x="5181480" y="2895480"/>
              <a:ext cx="0" cy="2819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 flipV="1">
              <a:off x="5028840" y="2742840"/>
              <a:ext cx="1522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4952880" y="4952880"/>
              <a:ext cx="457200" cy="457200"/>
            </a:xfrm>
            <a:prstGeom prst="rect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FuturaA Bk BT"/>
                </a:rPr>
                <a:t>M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5" name=""/>
          <p:cNvGrpSpPr/>
          <p:nvPr/>
        </p:nvGrpSpPr>
        <p:grpSpPr>
          <a:xfrm>
            <a:off x="3124080" y="1981080"/>
            <a:ext cx="2923920" cy="838080"/>
            <a:chOff x="3124080" y="1981080"/>
            <a:chExt cx="2923920" cy="838080"/>
          </a:xfrm>
        </p:grpSpPr>
        <p:sp>
          <p:nvSpPr>
            <p:cNvPr id="1466" name=""/>
            <p:cNvSpPr/>
            <p:nvPr/>
          </p:nvSpPr>
          <p:spPr>
            <a:xfrm>
              <a:off x="3124080" y="1981080"/>
              <a:ext cx="29239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0"/>
                  </a:moveTo>
                  <a:lnTo>
                    <a:pt x="1200" y="0"/>
                  </a:lnTo>
                  <a:lnTo>
                    <a:pt x="720" y="528"/>
                  </a:lnTo>
                  <a:lnTo>
                    <a:pt x="480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241880" y="2080800"/>
              <a:ext cx="6879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l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5334120" y="2514600"/>
            <a:ext cx="609480" cy="3200400"/>
            <a:chOff x="5334120" y="2514600"/>
            <a:chExt cx="609480" cy="3200400"/>
          </a:xfrm>
        </p:grpSpPr>
        <p:sp>
          <p:nvSpPr>
            <p:cNvPr id="1469" name=""/>
            <p:cNvSpPr/>
            <p:nvPr/>
          </p:nvSpPr>
          <p:spPr>
            <a:xfrm flipV="1">
              <a:off x="5715000" y="2895480"/>
              <a:ext cx="0" cy="2819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 flipV="1">
              <a:off x="5334120" y="2514600"/>
              <a:ext cx="3808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>
              <a:off x="5486400" y="4952880"/>
              <a:ext cx="457200" cy="457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FuturaA Bk BT"/>
                </a:rPr>
                <a:t>M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5638680" y="2285640"/>
            <a:ext cx="838440" cy="3429360"/>
            <a:chOff x="5638680" y="2285640"/>
            <a:chExt cx="838440" cy="3429360"/>
          </a:xfrm>
        </p:grpSpPr>
        <p:sp>
          <p:nvSpPr>
            <p:cNvPr id="1473" name=""/>
            <p:cNvSpPr/>
            <p:nvPr/>
          </p:nvSpPr>
          <p:spPr>
            <a:xfrm flipV="1">
              <a:off x="6248520" y="2895480"/>
              <a:ext cx="0" cy="2819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 flipV="1">
              <a:off x="5638680" y="2285640"/>
              <a:ext cx="609840" cy="609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H="1">
              <a:off x="6019920" y="4952880"/>
              <a:ext cx="457200" cy="45720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FuturaA Bk BT"/>
                </a:rPr>
                <a:t>M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6" name=""/>
          <p:cNvGrpSpPr/>
          <p:nvPr/>
        </p:nvGrpSpPr>
        <p:grpSpPr>
          <a:xfrm>
            <a:off x="5943600" y="2057400"/>
            <a:ext cx="1066680" cy="3657600"/>
            <a:chOff x="5943600" y="2057400"/>
            <a:chExt cx="1066680" cy="3657600"/>
          </a:xfrm>
        </p:grpSpPr>
        <p:sp>
          <p:nvSpPr>
            <p:cNvPr id="1477" name=""/>
            <p:cNvSpPr/>
            <p:nvPr/>
          </p:nvSpPr>
          <p:spPr>
            <a:xfrm flipV="1">
              <a:off x="6781680" y="2895480"/>
              <a:ext cx="0" cy="2819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 flipV="1">
              <a:off x="5943600" y="2057400"/>
              <a:ext cx="83808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>
              <a:off x="6553080" y="4952880"/>
              <a:ext cx="457200" cy="45720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FuturaA Bk BT"/>
                </a:rPr>
                <a:t>M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"/>
          <p:cNvSpPr/>
          <p:nvPr/>
        </p:nvSpPr>
        <p:spPr>
          <a:xfrm flipH="1">
            <a:off x="4876200" y="1981080"/>
            <a:ext cx="3429000" cy="4038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H="1" rot="5400000">
            <a:off x="7092360" y="2890080"/>
            <a:ext cx="21351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Q Tagging “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838080" y="1981080"/>
            <a:ext cx="3429000" cy="4038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 rot="16200000">
            <a:off x="-70920" y="2890080"/>
            <a:ext cx="21351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Q Tagging “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263600" y="117360"/>
            <a:ext cx="77169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Arial"/>
              </a:rPr>
              <a:t>Provider Bridge 2a</a:t>
            </a:r>
            <a:br>
              <a:rPr sz="3200"/>
            </a:br>
            <a:r>
              <a:rPr b="1" lang="en-GB" sz="3200" spc="-1" strike="noStrike">
                <a:solidFill>
                  <a:srgbClr val="990000"/>
                </a:solidFill>
                <a:latin typeface="Arial"/>
              </a:rPr>
              <a:t>Example without ETH link ME - TBD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838080" y="1295280"/>
            <a:ext cx="746784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057400" y="1600200"/>
            <a:ext cx="105264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033960" y="1600200"/>
            <a:ext cx="105264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404880" y="1395360"/>
            <a:ext cx="21736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 Layer Ent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447920" y="1600200"/>
            <a:ext cx="60948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2057400" y="1600200"/>
            <a:ext cx="1052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447920" y="1981080"/>
            <a:ext cx="2819160" cy="37339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2057400" y="1981080"/>
            <a:ext cx="2209680" cy="228600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 rot="16200000">
            <a:off x="1073880" y="2964240"/>
            <a:ext cx="22831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ag Up CM S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4267080" y="2819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rot="16200000">
            <a:off x="310680" y="3117960"/>
            <a:ext cx="25909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ag Down CM S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H="1">
            <a:off x="4876200" y="1981080"/>
            <a:ext cx="2819160" cy="37339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H="1">
            <a:off x="4876920" y="1981080"/>
            <a:ext cx="2209680" cy="228600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flipH="1" rot="5400000">
            <a:off x="5786280" y="2964240"/>
            <a:ext cx="22831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ag Up CM S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4876920" y="2819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 rot="5400000">
            <a:off x="6255000" y="3117960"/>
            <a:ext cx="25909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ag Down CM S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3124080" y="1981080"/>
            <a:ext cx="2923920" cy="838080"/>
            <a:chOff x="3124080" y="1981080"/>
            <a:chExt cx="2923920" cy="838080"/>
          </a:xfrm>
        </p:grpSpPr>
        <p:sp>
          <p:nvSpPr>
            <p:cNvPr id="1502" name=""/>
            <p:cNvSpPr/>
            <p:nvPr/>
          </p:nvSpPr>
          <p:spPr>
            <a:xfrm>
              <a:off x="3124080" y="1981080"/>
              <a:ext cx="29239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0"/>
                  </a:moveTo>
                  <a:lnTo>
                    <a:pt x="1200" y="0"/>
                  </a:lnTo>
                  <a:lnTo>
                    <a:pt x="720" y="528"/>
                  </a:lnTo>
                  <a:lnTo>
                    <a:pt x="480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241880" y="2080800"/>
              <a:ext cx="6879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l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4" name=""/>
          <p:cNvSpPr/>
          <p:nvPr/>
        </p:nvSpPr>
        <p:spPr>
          <a:xfrm>
            <a:off x="7086600" y="1600200"/>
            <a:ext cx="60948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838080" y="1600200"/>
            <a:ext cx="60984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7696080" y="1600200"/>
            <a:ext cx="60984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838080" y="6019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4267080" y="6019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76920" y="6019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8305920" y="6019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5562720" y="2590920"/>
            <a:ext cx="0" cy="3124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 flipH="1" flipV="1">
            <a:off x="5410080" y="2438280"/>
            <a:ext cx="15264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 flipV="1">
            <a:off x="3962520" y="2819160"/>
            <a:ext cx="0" cy="28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 flipV="1">
            <a:off x="3962520" y="2666880"/>
            <a:ext cx="15228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3733920" y="4038480"/>
            <a:ext cx="457200" cy="45720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FuturaA Bk BT"/>
              </a:rPr>
              <a:t>M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733920" y="3200400"/>
            <a:ext cx="457200" cy="45720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FuturaA Bk BT"/>
              </a:rPr>
              <a:t>M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V="1">
            <a:off x="3429000" y="2819160"/>
            <a:ext cx="0" cy="28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3429000" y="2437920"/>
            <a:ext cx="38088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200400" y="4038480"/>
            <a:ext cx="457200" cy="45720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FuturaA Bk BT"/>
              </a:rPr>
              <a:t>M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200400" y="3200400"/>
            <a:ext cx="457200" cy="4572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FuturaA Bk BT"/>
              </a:rPr>
              <a:t>M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flipV="1">
            <a:off x="2895480" y="2819160"/>
            <a:ext cx="0" cy="28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 flipV="1">
            <a:off x="2895480" y="2209680"/>
            <a:ext cx="609840" cy="609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666880" y="4038480"/>
            <a:ext cx="457200" cy="457200"/>
          </a:xfrm>
          <a:prstGeom prst="ellipse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FuturaA Bk BT"/>
              </a:rPr>
              <a:t>M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2666880" y="3200400"/>
            <a:ext cx="457200" cy="457200"/>
          </a:xfrm>
          <a:prstGeom prst="rect">
            <a:avLst/>
          </a:pr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FuturaA Bk BT"/>
              </a:rPr>
              <a:t>M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V="1">
            <a:off x="2362320" y="2819160"/>
            <a:ext cx="0" cy="28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V="1">
            <a:off x="2362320" y="2057040"/>
            <a:ext cx="83808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2133720" y="4038480"/>
            <a:ext cx="457200" cy="45720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FuturaA Bk BT"/>
              </a:rPr>
              <a:t>M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2133720" y="3200400"/>
            <a:ext cx="457200" cy="4572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FuturaA Bk BT"/>
              </a:rPr>
              <a:t>M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"/>
          <p:cNvSpPr/>
          <p:nvPr/>
        </p:nvSpPr>
        <p:spPr>
          <a:xfrm flipH="1">
            <a:off x="4876200" y="1981080"/>
            <a:ext cx="3429000" cy="4038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 flipH="1" rot="5400000">
            <a:off x="7092360" y="2890080"/>
            <a:ext cx="21351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Q Tagging “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838080" y="1981080"/>
            <a:ext cx="3429000" cy="4038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rot="16200000">
            <a:off x="-70920" y="2890080"/>
            <a:ext cx="21351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Q Tagging “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1263600" y="117360"/>
            <a:ext cx="771696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Arial"/>
              </a:rPr>
              <a:t>Provider Bridge 2b</a:t>
            </a:r>
            <a:br>
              <a:rPr sz="3200"/>
            </a:br>
            <a:r>
              <a:rPr b="1" lang="en-GB" sz="3200" spc="-1" strike="noStrike">
                <a:solidFill>
                  <a:srgbClr val="990000"/>
                </a:solidFill>
                <a:latin typeface="Arial"/>
              </a:rPr>
              <a:t>Example without ETH link ME - TBD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838080" y="1295280"/>
            <a:ext cx="746784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057400" y="1600200"/>
            <a:ext cx="105264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6033960" y="1600200"/>
            <a:ext cx="105264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404880" y="1395360"/>
            <a:ext cx="21736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 Layer Ent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447920" y="1600200"/>
            <a:ext cx="60948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2057400" y="1600200"/>
            <a:ext cx="1052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1447920" y="1981080"/>
            <a:ext cx="2819160" cy="37339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2057400" y="1981080"/>
            <a:ext cx="2209680" cy="228600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rot="16200000">
            <a:off x="1073880" y="2964240"/>
            <a:ext cx="22831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ag Up CM S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267080" y="2819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rot="16200000">
            <a:off x="310680" y="3117960"/>
            <a:ext cx="25909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ag Down CM S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H="1">
            <a:off x="4876200" y="1981080"/>
            <a:ext cx="2819160" cy="373392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H="1">
            <a:off x="4876920" y="1981080"/>
            <a:ext cx="2209680" cy="228600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H="1" rot="5400000">
            <a:off x="5786280" y="2964240"/>
            <a:ext cx="22831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ag Up CM S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876920" y="28195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H="1" rot="5400000">
            <a:off x="6255000" y="3117960"/>
            <a:ext cx="25909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ag Down CM Sh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0" name=""/>
          <p:cNvGrpSpPr/>
          <p:nvPr/>
        </p:nvGrpSpPr>
        <p:grpSpPr>
          <a:xfrm>
            <a:off x="3124080" y="1981080"/>
            <a:ext cx="2923920" cy="838080"/>
            <a:chOff x="3124080" y="1981080"/>
            <a:chExt cx="2923920" cy="838080"/>
          </a:xfrm>
        </p:grpSpPr>
        <p:sp>
          <p:nvSpPr>
            <p:cNvPr id="1551" name=""/>
            <p:cNvSpPr/>
            <p:nvPr/>
          </p:nvSpPr>
          <p:spPr>
            <a:xfrm>
              <a:off x="3124080" y="1981080"/>
              <a:ext cx="29239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0"/>
                  </a:moveTo>
                  <a:lnTo>
                    <a:pt x="1200" y="0"/>
                  </a:lnTo>
                  <a:lnTo>
                    <a:pt x="720" y="528"/>
                  </a:lnTo>
                  <a:lnTo>
                    <a:pt x="480" y="5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241880" y="2080800"/>
              <a:ext cx="6879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l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3" name=""/>
          <p:cNvSpPr/>
          <p:nvPr/>
        </p:nvSpPr>
        <p:spPr>
          <a:xfrm>
            <a:off x="7086600" y="1600200"/>
            <a:ext cx="60948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38080" y="1600200"/>
            <a:ext cx="60984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7696080" y="1600200"/>
            <a:ext cx="609840" cy="380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838080" y="6019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4267080" y="6019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876920" y="6019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8305920" y="601992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3962520" y="274284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V="1">
            <a:off x="3962520" y="2666880"/>
            <a:ext cx="7596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733920" y="3505320"/>
            <a:ext cx="457200" cy="457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FuturaA Bk BT"/>
              </a:rPr>
              <a:t>M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733920" y="2895480"/>
            <a:ext cx="457200" cy="45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FuturaA Bk BT"/>
              </a:rPr>
              <a:t>M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4" name=""/>
          <p:cNvGrpSpPr/>
          <p:nvPr/>
        </p:nvGrpSpPr>
        <p:grpSpPr>
          <a:xfrm>
            <a:off x="4952880" y="2666880"/>
            <a:ext cx="457200" cy="3047760"/>
            <a:chOff x="4952880" y="2666880"/>
            <a:chExt cx="457200" cy="3047760"/>
          </a:xfrm>
        </p:grpSpPr>
        <p:sp>
          <p:nvSpPr>
            <p:cNvPr id="1565" name=""/>
            <p:cNvSpPr/>
            <p:nvPr/>
          </p:nvSpPr>
          <p:spPr>
            <a:xfrm flipV="1">
              <a:off x="5181480" y="2819160"/>
              <a:ext cx="0" cy="289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 flipV="1">
              <a:off x="5028840" y="2666880"/>
              <a:ext cx="15228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4952880" y="4038480"/>
              <a:ext cx="457200" cy="4572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FuturaA Bk BT"/>
                </a:rPr>
                <a:t>M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8" name=""/>
          <p:cNvSpPr/>
          <p:nvPr/>
        </p:nvSpPr>
        <p:spPr>
          <a:xfrm flipV="1">
            <a:off x="3429000" y="2742840"/>
            <a:ext cx="0" cy="297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flipV="1">
            <a:off x="3429000" y="2437920"/>
            <a:ext cx="30492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200400" y="3505320"/>
            <a:ext cx="457200" cy="4572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FuturaA Bk BT"/>
              </a:rPr>
              <a:t>M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200400" y="2895480"/>
            <a:ext cx="4572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FuturaA Bk BT"/>
              </a:rPr>
              <a:t>M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V="1">
            <a:off x="5715000" y="2819160"/>
            <a:ext cx="0" cy="289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H="1" flipV="1">
            <a:off x="5334120" y="2437920"/>
            <a:ext cx="38088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5486400" y="4038480"/>
            <a:ext cx="457200" cy="45720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FuturaA Bk BT"/>
              </a:rPr>
              <a:t>M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"/>
          <p:cNvSpPr/>
          <p:nvPr/>
        </p:nvSpPr>
        <p:spPr>
          <a:xfrm>
            <a:off x="762120" y="1523880"/>
            <a:ext cx="7543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ual Relay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ndling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ngle Relay as Provider De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1263600" y="28080"/>
            <a:ext cx="7716960" cy="9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Arial"/>
              </a:rPr>
              <a:t>MEP, MIP, TCP for Dual-Relay Model:</a:t>
            </a:r>
            <a:br>
              <a:rPr sz="2800"/>
            </a:br>
            <a:r>
              <a:rPr b="1" lang="en-GB" sz="2800" spc="-1" strike="noStrike">
                <a:solidFill>
                  <a:srgbClr val="990000"/>
                </a:solidFill>
                <a:latin typeface="Arial"/>
              </a:rPr>
              <a:t>Bundling -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Single Relay as Provider Device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0" y="2590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-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8" name=""/>
          <p:cNvGrpSpPr/>
          <p:nvPr/>
        </p:nvGrpSpPr>
        <p:grpSpPr>
          <a:xfrm>
            <a:off x="84960" y="990720"/>
            <a:ext cx="8981640" cy="5105160"/>
            <a:chOff x="84960" y="990720"/>
            <a:chExt cx="8981640" cy="5105160"/>
          </a:xfrm>
        </p:grpSpPr>
        <p:sp>
          <p:nvSpPr>
            <p:cNvPr id="1579" name=""/>
            <p:cNvSpPr/>
            <p:nvPr/>
          </p:nvSpPr>
          <p:spPr>
            <a:xfrm>
              <a:off x="1682640" y="236232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98756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2597040" y="236232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90196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996840" y="236232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511440" y="236232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81636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50216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80708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41656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72148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33096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63588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24536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55028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4" name=""/>
            <p:cNvGrpSpPr/>
            <p:nvPr/>
          </p:nvGrpSpPr>
          <p:grpSpPr>
            <a:xfrm>
              <a:off x="990720" y="2362320"/>
              <a:ext cx="7397280" cy="3733200"/>
              <a:chOff x="990720" y="2362320"/>
              <a:chExt cx="7397280" cy="3733200"/>
            </a:xfrm>
          </p:grpSpPr>
          <p:sp>
            <p:nvSpPr>
              <p:cNvPr id="1595" name=""/>
              <p:cNvSpPr/>
              <p:nvPr/>
            </p:nvSpPr>
            <p:spPr>
              <a:xfrm>
                <a:off x="182952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167688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3444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198216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274500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259200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04956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289728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14336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99072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66012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50712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96468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81240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465120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449892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495648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480384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556632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541404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87160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571896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648144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632916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678672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663408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39656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24428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70184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54956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838800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823572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7" name=""/>
            <p:cNvSpPr/>
            <p:nvPr/>
          </p:nvSpPr>
          <p:spPr>
            <a:xfrm>
              <a:off x="823608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149480" y="6095880"/>
              <a:ext cx="533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968640" y="6095880"/>
              <a:ext cx="5335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702560" y="6095880"/>
              <a:ext cx="5335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139840" y="6095880"/>
              <a:ext cx="457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054240" y="6095880"/>
              <a:ext cx="457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959360" y="6095880"/>
              <a:ext cx="457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5873760" y="6095880"/>
              <a:ext cx="457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788160" y="6095880"/>
              <a:ext cx="457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835280" y="609588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749680" y="609588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844560" y="609588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664080" y="609588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654440" y="609588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568840" y="609588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6483240" y="609588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397640" y="609588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8388360" y="609588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12120" y="990720"/>
              <a:ext cx="136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Customer</a:t>
              </a:r>
              <a:br>
                <a:rPr sz="1800"/>
              </a:b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Equi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703280" y="990720"/>
              <a:ext cx="136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Customer</a:t>
              </a:r>
              <a:br>
                <a:rPr sz="1800"/>
              </a:b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Equi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141640" y="990720"/>
              <a:ext cx="137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6600"/>
                  </a:solidFill>
                  <a:latin typeface="Arial"/>
                </a:rPr>
                <a:t>Operator A</a:t>
              </a:r>
              <a:br>
                <a:rPr sz="1800"/>
              </a:br>
              <a:r>
                <a:rPr b="1" lang="en-US" sz="1800" spc="-1" strike="noStrike">
                  <a:solidFill>
                    <a:srgbClr val="cc6600"/>
                  </a:solidFill>
                  <a:latin typeface="Arial"/>
                </a:rPr>
                <a:t>Brid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418360" y="990720"/>
              <a:ext cx="137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Operator B</a:t>
              </a:r>
              <a:br>
                <a:rPr sz="1800"/>
              </a:b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Brid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6254640" y="1676520"/>
              <a:ext cx="609840" cy="609480"/>
            </a:xfrm>
            <a:prstGeom prst="rect">
              <a:avLst/>
            </a:prstGeom>
            <a:solidFill>
              <a:srgbClr val="ff00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6483240" y="1676520"/>
              <a:ext cx="15264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63588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25464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340240" y="1676520"/>
              <a:ext cx="609840" cy="609480"/>
            </a:xfrm>
            <a:prstGeom prst="rect">
              <a:avLst/>
            </a:prstGeom>
            <a:solidFill>
              <a:srgbClr val="ff66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568840" y="1676520"/>
              <a:ext cx="15264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72148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34024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425840" y="1676520"/>
              <a:ext cx="609840" cy="60948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654440" y="1676520"/>
              <a:ext cx="15264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80708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42584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435480" y="1676520"/>
              <a:ext cx="609480" cy="60948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664080" y="1676520"/>
              <a:ext cx="15228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81636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43548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521080" y="1676520"/>
              <a:ext cx="609480" cy="60948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749680" y="1676520"/>
              <a:ext cx="15228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90196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52108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159760" y="1676520"/>
              <a:ext cx="609480" cy="609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388360" y="1676520"/>
              <a:ext cx="15228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854064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815976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615960" y="1676520"/>
              <a:ext cx="609480" cy="609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44560" y="1676520"/>
              <a:ext cx="15228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15960" y="1981080"/>
              <a:ext cx="815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99684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1596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flipH="1">
              <a:off x="1834920" y="1676520"/>
              <a:ext cx="152280" cy="609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9" name=""/>
            <p:cNvGrpSpPr/>
            <p:nvPr/>
          </p:nvGrpSpPr>
          <p:grpSpPr>
            <a:xfrm>
              <a:off x="2521080" y="4648320"/>
              <a:ext cx="4343400" cy="152280"/>
              <a:chOff x="2521080" y="4648320"/>
              <a:chExt cx="4343400" cy="152280"/>
            </a:xfrm>
          </p:grpSpPr>
          <p:sp>
            <p:nvSpPr>
              <p:cNvPr id="1680" name=""/>
              <p:cNvSpPr/>
              <p:nvPr/>
            </p:nvSpPr>
            <p:spPr>
              <a:xfrm>
                <a:off x="2521080" y="4648320"/>
                <a:ext cx="152280" cy="15228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6711840" y="4648320"/>
                <a:ext cx="152640" cy="15228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2" name=""/>
            <p:cNvGrpSpPr/>
            <p:nvPr/>
          </p:nvGrpSpPr>
          <p:grpSpPr>
            <a:xfrm>
              <a:off x="2673360" y="4267080"/>
              <a:ext cx="4038480" cy="152640"/>
              <a:chOff x="2673360" y="4267080"/>
              <a:chExt cx="4038480" cy="152640"/>
            </a:xfrm>
          </p:grpSpPr>
          <p:sp>
            <p:nvSpPr>
              <p:cNvPr id="1683" name=""/>
              <p:cNvSpPr/>
              <p:nvPr/>
            </p:nvSpPr>
            <p:spPr>
              <a:xfrm>
                <a:off x="2749680" y="4343400"/>
                <a:ext cx="3886200" cy="0"/>
              </a:xfrm>
              <a:prstGeom prst="line">
                <a:avLst/>
              </a:prstGeom>
              <a:ln w="284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5416560" y="4267080"/>
                <a:ext cx="152280" cy="1526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4807080" y="4267080"/>
                <a:ext cx="152280" cy="152640"/>
              </a:xfrm>
              <a:prstGeom prst="ellipse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673360" y="4267080"/>
                <a:ext cx="152280" cy="15264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6559560" y="4267080"/>
                <a:ext cx="152280" cy="15264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8" name=""/>
            <p:cNvSpPr/>
            <p:nvPr/>
          </p:nvSpPr>
          <p:spPr>
            <a:xfrm>
              <a:off x="1149480" y="2666880"/>
              <a:ext cx="7086600" cy="0"/>
            </a:xfrm>
            <a:prstGeom prst="line">
              <a:avLst/>
            </a:prstGeom>
            <a:ln w="2844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073160" y="2590920"/>
              <a:ext cx="152280" cy="152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629400" y="2590920"/>
              <a:ext cx="152280" cy="152280"/>
            </a:xfrm>
            <a:prstGeom prst="ellipse">
              <a:avLst/>
            </a:prstGeom>
            <a:solidFill>
              <a:srgbClr val="66ff99"/>
            </a:solidFill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590920" y="2590920"/>
              <a:ext cx="152280" cy="152280"/>
            </a:xfrm>
            <a:prstGeom prst="ellipse">
              <a:avLst/>
            </a:prstGeom>
            <a:solidFill>
              <a:srgbClr val="66ff99"/>
            </a:solidFill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8159760" y="2590920"/>
              <a:ext cx="152280" cy="152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92280" y="243828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84960" y="4495680"/>
              <a:ext cx="52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FuturaA Bk BT"/>
                </a:rPr>
                <a:t>E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149480" y="5715000"/>
              <a:ext cx="144144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781680" y="5715000"/>
              <a:ext cx="145440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3968640" y="5715000"/>
              <a:ext cx="45720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978280" y="5715000"/>
              <a:ext cx="6094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959360" y="5715000"/>
              <a:ext cx="45720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873760" y="5715000"/>
              <a:ext cx="45720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8159760" y="5638680"/>
              <a:ext cx="15228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705720" y="5638680"/>
              <a:ext cx="15228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254640" y="5638680"/>
              <a:ext cx="15264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797440" y="5638680"/>
              <a:ext cx="15264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340240" y="5638680"/>
              <a:ext cx="15264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883040" y="5638680"/>
              <a:ext cx="15264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425840" y="5638680"/>
              <a:ext cx="15264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892680" y="5638680"/>
              <a:ext cx="15228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435480" y="5638680"/>
              <a:ext cx="15228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2978280" y="5638680"/>
              <a:ext cx="15228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514600" y="5638680"/>
              <a:ext cx="15228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073160" y="5638680"/>
              <a:ext cx="15228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74720" y="16002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2616120" y="16002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2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594240" y="16002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4584600" y="16002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499000" y="16002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349680" y="16002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6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8318520" y="16002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149480" y="3124080"/>
              <a:ext cx="708660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073160" y="3048120"/>
              <a:ext cx="152280" cy="1522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629400" y="3048120"/>
              <a:ext cx="152280" cy="1522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590920" y="3048120"/>
              <a:ext cx="152280" cy="1522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8159760" y="3048120"/>
              <a:ext cx="152280" cy="1522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149480" y="2438280"/>
              <a:ext cx="708660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073160" y="2362320"/>
              <a:ext cx="152280" cy="152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629400" y="23623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590920" y="23623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8159760" y="2362320"/>
              <a:ext cx="152280" cy="152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149480" y="2895480"/>
              <a:ext cx="708660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073160" y="2819520"/>
              <a:ext cx="152280" cy="152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629400" y="281952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590920" y="281952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8159760" y="2819520"/>
              <a:ext cx="152280" cy="152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5" name=""/>
            <p:cNvGrpSpPr/>
            <p:nvPr/>
          </p:nvGrpSpPr>
          <p:grpSpPr>
            <a:xfrm>
              <a:off x="2673360" y="4495680"/>
              <a:ext cx="4038480" cy="152640"/>
              <a:chOff x="2673360" y="4495680"/>
              <a:chExt cx="4038480" cy="152640"/>
            </a:xfrm>
          </p:grpSpPr>
          <p:sp>
            <p:nvSpPr>
              <p:cNvPr id="1736" name=""/>
              <p:cNvSpPr/>
              <p:nvPr/>
            </p:nvSpPr>
            <p:spPr>
              <a:xfrm>
                <a:off x="2749680" y="4572000"/>
                <a:ext cx="38862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416560" y="4495680"/>
                <a:ext cx="152280" cy="15264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807080" y="4495680"/>
                <a:ext cx="152280" cy="15264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2673360" y="4495680"/>
                <a:ext cx="15228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6559560" y="4495680"/>
                <a:ext cx="15228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1" name=""/>
            <p:cNvSpPr/>
            <p:nvPr/>
          </p:nvSpPr>
          <p:spPr>
            <a:xfrm>
              <a:off x="662400" y="22543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62400" y="24829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62400" y="27115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662400" y="29401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2291040" y="41911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291040" y="43876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7" name=""/>
            <p:cNvGrpSpPr/>
            <p:nvPr/>
          </p:nvGrpSpPr>
          <p:grpSpPr>
            <a:xfrm>
              <a:off x="5492880" y="4952880"/>
              <a:ext cx="1218960" cy="152640"/>
              <a:chOff x="5492880" y="4952880"/>
              <a:chExt cx="1218960" cy="152640"/>
            </a:xfrm>
          </p:grpSpPr>
          <p:sp>
            <p:nvSpPr>
              <p:cNvPr id="1748" name=""/>
              <p:cNvSpPr/>
              <p:nvPr/>
            </p:nvSpPr>
            <p:spPr>
              <a:xfrm>
                <a:off x="5568840" y="5029200"/>
                <a:ext cx="1067040" cy="0"/>
              </a:xfrm>
              <a:prstGeom prst="line">
                <a:avLst/>
              </a:prstGeom>
              <a:ln w="2844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5721480" y="4952880"/>
                <a:ext cx="152280" cy="15264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330960" y="4952880"/>
                <a:ext cx="152280" cy="152640"/>
              </a:xfrm>
              <a:prstGeom prst="ellipse">
                <a:avLst/>
              </a:prstGeom>
              <a:solidFill>
                <a:srgbClr val="ff99ff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6559560" y="4952880"/>
                <a:ext cx="152280" cy="152640"/>
              </a:xfrm>
              <a:prstGeom prst="rect">
                <a:avLst/>
              </a:prstGeom>
              <a:solidFill>
                <a:srgbClr val="ff99ff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5492880" y="4952880"/>
                <a:ext cx="152280" cy="152640"/>
              </a:xfrm>
              <a:prstGeom prst="rect">
                <a:avLst/>
              </a:prstGeom>
              <a:solidFill>
                <a:srgbClr val="ff99ff"/>
              </a:solidFill>
              <a:ln w="936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3" name=""/>
            <p:cNvGrpSpPr/>
            <p:nvPr/>
          </p:nvGrpSpPr>
          <p:grpSpPr>
            <a:xfrm>
              <a:off x="2673360" y="5181480"/>
              <a:ext cx="2209680" cy="152640"/>
              <a:chOff x="2673360" y="5181480"/>
              <a:chExt cx="2209680" cy="152640"/>
            </a:xfrm>
          </p:grpSpPr>
          <p:sp>
            <p:nvSpPr>
              <p:cNvPr id="1754" name=""/>
              <p:cNvSpPr/>
              <p:nvPr/>
            </p:nvSpPr>
            <p:spPr>
              <a:xfrm>
                <a:off x="2749680" y="5257800"/>
                <a:ext cx="205740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511440" y="5181480"/>
                <a:ext cx="152640" cy="15264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2901960" y="5181480"/>
                <a:ext cx="152280" cy="15264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2673360" y="5181480"/>
                <a:ext cx="152280" cy="1526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730760" y="5181480"/>
                <a:ext cx="152280" cy="1526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816360" y="5181480"/>
                <a:ext cx="152280" cy="15264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502160" y="5181480"/>
                <a:ext cx="152280" cy="15264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1" name=""/>
            <p:cNvGrpSpPr/>
            <p:nvPr/>
          </p:nvGrpSpPr>
          <p:grpSpPr>
            <a:xfrm>
              <a:off x="5492880" y="5181480"/>
              <a:ext cx="1218960" cy="152640"/>
              <a:chOff x="5492880" y="5181480"/>
              <a:chExt cx="1218960" cy="152640"/>
            </a:xfrm>
          </p:grpSpPr>
          <p:sp>
            <p:nvSpPr>
              <p:cNvPr id="1762" name=""/>
              <p:cNvSpPr/>
              <p:nvPr/>
            </p:nvSpPr>
            <p:spPr>
              <a:xfrm>
                <a:off x="5568840" y="5257800"/>
                <a:ext cx="1067040" cy="0"/>
              </a:xfrm>
              <a:prstGeom prst="line">
                <a:avLst/>
              </a:prstGeom>
              <a:ln w="2844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721480" y="5181480"/>
                <a:ext cx="152280" cy="152640"/>
              </a:xfrm>
              <a:prstGeom prst="ellipse">
                <a:avLst/>
              </a:prstGeom>
              <a:solidFill>
                <a:srgbClr val="d6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330960" y="5181480"/>
                <a:ext cx="152280" cy="152640"/>
              </a:xfrm>
              <a:prstGeom prst="ellipse">
                <a:avLst/>
              </a:prstGeom>
              <a:solidFill>
                <a:srgbClr val="d6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6559560" y="5181480"/>
                <a:ext cx="152280" cy="152640"/>
              </a:xfrm>
              <a:prstGeom prst="rect">
                <a:avLst/>
              </a:prstGeom>
              <a:solidFill>
                <a:srgbClr val="d6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5492880" y="5181480"/>
                <a:ext cx="152280" cy="152640"/>
              </a:xfrm>
              <a:prstGeom prst="rect">
                <a:avLst/>
              </a:prstGeom>
              <a:solidFill>
                <a:srgbClr val="d6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7" name=""/>
            <p:cNvGrpSpPr/>
            <p:nvPr/>
          </p:nvGrpSpPr>
          <p:grpSpPr>
            <a:xfrm>
              <a:off x="2673360" y="4952880"/>
              <a:ext cx="2209680" cy="152640"/>
              <a:chOff x="2673360" y="4952880"/>
              <a:chExt cx="2209680" cy="152640"/>
            </a:xfrm>
          </p:grpSpPr>
          <p:sp>
            <p:nvSpPr>
              <p:cNvPr id="1768" name=""/>
              <p:cNvSpPr/>
              <p:nvPr/>
            </p:nvSpPr>
            <p:spPr>
              <a:xfrm>
                <a:off x="2749680" y="5029200"/>
                <a:ext cx="2057400" cy="0"/>
              </a:xfrm>
              <a:prstGeom prst="line">
                <a:avLst/>
              </a:prstGeom>
              <a:ln w="2844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511440" y="4952880"/>
                <a:ext cx="152640" cy="15264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2901960" y="4952880"/>
                <a:ext cx="152280" cy="15264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2673360" y="4952880"/>
                <a:ext cx="152280" cy="1526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730760" y="4952880"/>
                <a:ext cx="152280" cy="15264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816360" y="4952880"/>
                <a:ext cx="152280" cy="15264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4502160" y="4952880"/>
                <a:ext cx="152280" cy="152640"/>
              </a:xfrm>
              <a:prstGeom prst="ellipse">
                <a:avLst/>
              </a:prstGeom>
              <a:solidFill>
                <a:srgbClr val="ffcc99"/>
              </a:solidFill>
              <a:ln w="9360">
                <a:solidFill>
                  <a:srgbClr val="ff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5" name=""/>
            <p:cNvSpPr/>
            <p:nvPr/>
          </p:nvSpPr>
          <p:spPr>
            <a:xfrm>
              <a:off x="1530360" y="1600200"/>
              <a:ext cx="1676520" cy="762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6178680" y="1600200"/>
              <a:ext cx="1676160" cy="762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7" name=""/>
            <p:cNvGrpSpPr/>
            <p:nvPr/>
          </p:nvGrpSpPr>
          <p:grpSpPr>
            <a:xfrm>
              <a:off x="1066680" y="3581280"/>
              <a:ext cx="7239240" cy="152280"/>
              <a:chOff x="1066680" y="3581280"/>
              <a:chExt cx="7239240" cy="152280"/>
            </a:xfrm>
          </p:grpSpPr>
          <p:sp>
            <p:nvSpPr>
              <p:cNvPr id="1778" name=""/>
              <p:cNvSpPr/>
              <p:nvPr/>
            </p:nvSpPr>
            <p:spPr>
              <a:xfrm>
                <a:off x="1143000" y="3657240"/>
                <a:ext cx="7086600" cy="0"/>
              </a:xfrm>
              <a:prstGeom prst="line">
                <a:avLst/>
              </a:prstGeom>
              <a:ln w="2844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6629400" y="3581280"/>
                <a:ext cx="152280" cy="15228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2590920" y="3581280"/>
                <a:ext cx="152280" cy="152280"/>
              </a:xfrm>
              <a:prstGeom prst="ellipse">
                <a:avLst/>
              </a:prstGeom>
              <a:solidFill>
                <a:srgbClr val="ff99cc"/>
              </a:solidFill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1066680" y="3581280"/>
                <a:ext cx="152640" cy="152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8153280" y="3581280"/>
                <a:ext cx="152640" cy="152280"/>
              </a:xfrm>
              <a:prstGeom prst="rect">
                <a:avLst/>
              </a:prstGeom>
              <a:solidFill>
                <a:srgbClr val="ff99cc"/>
              </a:solidFill>
              <a:ln w="93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3" name=""/>
            <p:cNvSpPr/>
            <p:nvPr/>
          </p:nvSpPr>
          <p:spPr>
            <a:xfrm>
              <a:off x="1143000" y="3962520"/>
              <a:ext cx="7086600" cy="0"/>
            </a:xfrm>
            <a:prstGeom prst="line">
              <a:avLst/>
            </a:prstGeom>
            <a:ln w="2844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6629400" y="38862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590920" y="3886200"/>
              <a:ext cx="152280" cy="152280"/>
            </a:xfrm>
            <a:prstGeom prst="ellipse">
              <a:avLst/>
            </a:prstGeom>
            <a:solidFill>
              <a:srgbClr val="cc00cc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066680" y="3886200"/>
              <a:ext cx="152640" cy="152280"/>
            </a:xfrm>
            <a:prstGeom prst="rect">
              <a:avLst/>
            </a:prstGeom>
            <a:solidFill>
              <a:srgbClr val="cc00cc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8153280" y="3886200"/>
              <a:ext cx="152640" cy="152280"/>
            </a:xfrm>
            <a:prstGeom prst="rect">
              <a:avLst/>
            </a:prstGeom>
            <a:solidFill>
              <a:srgbClr val="cc00cc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752480" y="434340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-T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52280" y="37339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tagg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914400" y="3276720"/>
              <a:ext cx="152280" cy="15228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8305920" y="3276720"/>
              <a:ext cx="152280" cy="15228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"/>
          <p:cNvSpPr/>
          <p:nvPr/>
        </p:nvSpPr>
        <p:spPr>
          <a:xfrm>
            <a:off x="762120" y="1523880"/>
            <a:ext cx="7543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ual Relay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l-to-One Bundling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ngle Relay as Provider De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1263600" y="28080"/>
            <a:ext cx="7716960" cy="9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Arial"/>
              </a:rPr>
              <a:t>MEP, MIP, TCP for Dual-Relay Model:</a:t>
            </a:r>
            <a:br>
              <a:rPr sz="2800"/>
            </a:br>
            <a:r>
              <a:rPr b="1" lang="en-GB" sz="2800" spc="-1" strike="noStrike">
                <a:solidFill>
                  <a:srgbClr val="990000"/>
                </a:solidFill>
                <a:latin typeface="Arial"/>
              </a:rPr>
              <a:t>All-to-One Bundling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0" y="2590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-T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5" name=""/>
          <p:cNvGrpSpPr/>
          <p:nvPr/>
        </p:nvGrpSpPr>
        <p:grpSpPr>
          <a:xfrm>
            <a:off x="76320" y="990720"/>
            <a:ext cx="8990280" cy="5105160"/>
            <a:chOff x="76320" y="990720"/>
            <a:chExt cx="8990280" cy="5105160"/>
          </a:xfrm>
        </p:grpSpPr>
        <p:sp>
          <p:nvSpPr>
            <p:cNvPr id="1796" name=""/>
            <p:cNvSpPr/>
            <p:nvPr/>
          </p:nvSpPr>
          <p:spPr>
            <a:xfrm>
              <a:off x="1682640" y="236232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98756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2597040" y="236232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290196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996840" y="236232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3511440" y="236232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381636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50216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80708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41656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72148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33096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663588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24536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55028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1" name=""/>
            <p:cNvGrpSpPr/>
            <p:nvPr/>
          </p:nvGrpSpPr>
          <p:grpSpPr>
            <a:xfrm>
              <a:off x="990720" y="2362320"/>
              <a:ext cx="7397280" cy="3733200"/>
              <a:chOff x="990720" y="2362320"/>
              <a:chExt cx="7397280" cy="3733200"/>
            </a:xfrm>
          </p:grpSpPr>
          <p:sp>
            <p:nvSpPr>
              <p:cNvPr id="1812" name=""/>
              <p:cNvSpPr/>
              <p:nvPr/>
            </p:nvSpPr>
            <p:spPr>
              <a:xfrm>
                <a:off x="182952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167688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213444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198216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274500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259200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04956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289728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114336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99072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366012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350712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396468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381240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65120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49892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95648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80384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556632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541404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87160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571896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648144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632916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678672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663408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739656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724428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70184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754956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838800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8235720" y="2362320"/>
                <a:ext cx="0" cy="373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4" name=""/>
            <p:cNvSpPr/>
            <p:nvPr/>
          </p:nvSpPr>
          <p:spPr>
            <a:xfrm>
              <a:off x="8236080" y="23623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149480" y="6095880"/>
              <a:ext cx="533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968640" y="6095880"/>
              <a:ext cx="5335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702560" y="6095880"/>
              <a:ext cx="5335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139840" y="6095880"/>
              <a:ext cx="457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054240" y="6095880"/>
              <a:ext cx="457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959360" y="6095880"/>
              <a:ext cx="457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873760" y="6095880"/>
              <a:ext cx="457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788160" y="6095880"/>
              <a:ext cx="457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835280" y="609588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749680" y="609588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844560" y="609588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3664080" y="609588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654440" y="609588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568840" y="609588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483240" y="609588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397640" y="609588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8388360" y="609588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12120" y="990720"/>
              <a:ext cx="136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Customer</a:t>
              </a:r>
              <a:br>
                <a:rPr sz="1800"/>
              </a:b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Equi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7703280" y="990720"/>
              <a:ext cx="136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Customer</a:t>
              </a:r>
              <a:br>
                <a:rPr sz="1800"/>
              </a:b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Equi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2141640" y="990720"/>
              <a:ext cx="137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6600"/>
                  </a:solidFill>
                  <a:latin typeface="Arial"/>
                </a:rPr>
                <a:t>Operator A</a:t>
              </a:r>
              <a:br>
                <a:rPr sz="1800"/>
              </a:br>
              <a:r>
                <a:rPr b="1" lang="en-US" sz="1800" spc="-1" strike="noStrike">
                  <a:solidFill>
                    <a:srgbClr val="cc6600"/>
                  </a:solidFill>
                  <a:latin typeface="Arial"/>
                </a:rPr>
                <a:t>Brid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5418360" y="990720"/>
              <a:ext cx="137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Operator B</a:t>
              </a:r>
              <a:br>
                <a:rPr sz="1800"/>
              </a:b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Brid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254640" y="1676520"/>
              <a:ext cx="609840" cy="609480"/>
            </a:xfrm>
            <a:prstGeom prst="rect">
              <a:avLst/>
            </a:prstGeom>
            <a:solidFill>
              <a:srgbClr val="ff00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483240" y="1676520"/>
              <a:ext cx="15264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63588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25464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340240" y="1676520"/>
              <a:ext cx="609840" cy="609480"/>
            </a:xfrm>
            <a:prstGeom prst="rect">
              <a:avLst/>
            </a:prstGeom>
            <a:solidFill>
              <a:srgbClr val="ff66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568840" y="1676520"/>
              <a:ext cx="15264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72148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34024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425840" y="1676520"/>
              <a:ext cx="609840" cy="60948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4654440" y="1676520"/>
              <a:ext cx="15264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80708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42584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435480" y="1676520"/>
              <a:ext cx="609480" cy="60948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664080" y="1676520"/>
              <a:ext cx="15228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81636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43548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521080" y="1676520"/>
              <a:ext cx="609480" cy="60948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749680" y="1676520"/>
              <a:ext cx="15228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290196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52108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8159760" y="1676520"/>
              <a:ext cx="609480" cy="609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8388360" y="1676520"/>
              <a:ext cx="15228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854064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815976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15960" y="1676520"/>
              <a:ext cx="609480" cy="609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844560" y="1676520"/>
              <a:ext cx="15228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15960" y="1981080"/>
              <a:ext cx="815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99684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15960" y="19051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H="1">
              <a:off x="1834920" y="1676520"/>
              <a:ext cx="152280" cy="609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6" name=""/>
            <p:cNvGrpSpPr/>
            <p:nvPr/>
          </p:nvGrpSpPr>
          <p:grpSpPr>
            <a:xfrm>
              <a:off x="2521080" y="4191120"/>
              <a:ext cx="4343400" cy="152280"/>
              <a:chOff x="2521080" y="4191120"/>
              <a:chExt cx="4343400" cy="152280"/>
            </a:xfrm>
          </p:grpSpPr>
          <p:sp>
            <p:nvSpPr>
              <p:cNvPr id="1897" name=""/>
              <p:cNvSpPr/>
              <p:nvPr/>
            </p:nvSpPr>
            <p:spPr>
              <a:xfrm>
                <a:off x="2521080" y="4191120"/>
                <a:ext cx="152280" cy="15228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711840" y="4191120"/>
                <a:ext cx="152640" cy="152280"/>
              </a:xfrm>
              <a:prstGeom prst="diamond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9" name=""/>
            <p:cNvSpPr/>
            <p:nvPr/>
          </p:nvSpPr>
          <p:spPr>
            <a:xfrm>
              <a:off x="1149480" y="2666880"/>
              <a:ext cx="7086600" cy="0"/>
            </a:xfrm>
            <a:prstGeom prst="line">
              <a:avLst/>
            </a:prstGeom>
            <a:ln w="2844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073160" y="2590920"/>
              <a:ext cx="152280" cy="152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629400" y="2590920"/>
              <a:ext cx="152280" cy="152280"/>
            </a:xfrm>
            <a:prstGeom prst="ellipse">
              <a:avLst/>
            </a:prstGeom>
            <a:solidFill>
              <a:srgbClr val="66ff99"/>
            </a:solidFill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590920" y="2590920"/>
              <a:ext cx="152280" cy="152280"/>
            </a:xfrm>
            <a:prstGeom prst="ellipse">
              <a:avLst/>
            </a:prstGeom>
            <a:solidFill>
              <a:srgbClr val="66ff99"/>
            </a:solidFill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8159760" y="2590920"/>
              <a:ext cx="152280" cy="152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92280" y="243828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84960" y="4495680"/>
              <a:ext cx="52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FuturaA Bk BT"/>
                </a:rPr>
                <a:t>E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149480" y="5715000"/>
              <a:ext cx="144144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781680" y="5715000"/>
              <a:ext cx="145440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3968640" y="5715000"/>
              <a:ext cx="45720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78280" y="5715000"/>
              <a:ext cx="60948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959360" y="5715000"/>
              <a:ext cx="45720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5873760" y="5715000"/>
              <a:ext cx="45720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8159760" y="5638680"/>
              <a:ext cx="15228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705720" y="5638680"/>
              <a:ext cx="15228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254640" y="5638680"/>
              <a:ext cx="15264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797440" y="5638680"/>
              <a:ext cx="15264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340240" y="5638680"/>
              <a:ext cx="15264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883040" y="5638680"/>
              <a:ext cx="15264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4425840" y="5638680"/>
              <a:ext cx="15264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892680" y="5638680"/>
              <a:ext cx="15228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435480" y="5638680"/>
              <a:ext cx="15228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978280" y="5638680"/>
              <a:ext cx="15228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2514600" y="5638680"/>
              <a:ext cx="15228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073160" y="5638680"/>
              <a:ext cx="152280" cy="152640"/>
            </a:xfrm>
            <a:prstGeom prst="rect">
              <a:avLst/>
            </a:prstGeom>
            <a:solidFill>
              <a:srgbClr val="990000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774720" y="16002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2616120" y="16002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2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594240" y="16002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584600" y="16002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499000" y="16002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349680" y="160020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6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8318520" y="16002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149480" y="3124080"/>
              <a:ext cx="708660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073160" y="3048120"/>
              <a:ext cx="152280" cy="1522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629400" y="3048120"/>
              <a:ext cx="152280" cy="1522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2590920" y="3048120"/>
              <a:ext cx="152280" cy="152280"/>
            </a:xfrm>
            <a:prstGeom prst="ellipse">
              <a:avLst/>
            </a:prstGeom>
            <a:solidFill>
              <a:srgbClr val="0066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8159760" y="3048120"/>
              <a:ext cx="152280" cy="152280"/>
            </a:xfrm>
            <a:prstGeom prst="rect">
              <a:avLst/>
            </a:prstGeom>
            <a:solidFill>
              <a:srgbClr val="006600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149480" y="2438280"/>
              <a:ext cx="708660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073160" y="2362320"/>
              <a:ext cx="152280" cy="152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629400" y="23623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2590920" y="2362320"/>
              <a:ext cx="152280" cy="1522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8159760" y="2362320"/>
              <a:ext cx="152280" cy="152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149480" y="2895480"/>
              <a:ext cx="708660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073160" y="2819520"/>
              <a:ext cx="152280" cy="152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6629400" y="281952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590920" y="2819520"/>
              <a:ext cx="152280" cy="1522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8159760" y="2819520"/>
              <a:ext cx="152280" cy="152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6" name=""/>
            <p:cNvGrpSpPr/>
            <p:nvPr/>
          </p:nvGrpSpPr>
          <p:grpSpPr>
            <a:xfrm>
              <a:off x="2673360" y="4038480"/>
              <a:ext cx="4038480" cy="152640"/>
              <a:chOff x="2673360" y="4038480"/>
              <a:chExt cx="4038480" cy="152640"/>
            </a:xfrm>
          </p:grpSpPr>
          <p:sp>
            <p:nvSpPr>
              <p:cNvPr id="1947" name=""/>
              <p:cNvSpPr/>
              <p:nvPr/>
            </p:nvSpPr>
            <p:spPr>
              <a:xfrm>
                <a:off x="2749680" y="4114800"/>
                <a:ext cx="388620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5416560" y="4038480"/>
                <a:ext cx="152280" cy="15264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807080" y="4038480"/>
                <a:ext cx="152280" cy="15264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2673360" y="4038480"/>
                <a:ext cx="15228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6559560" y="4038480"/>
                <a:ext cx="15228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2" name=""/>
            <p:cNvSpPr/>
            <p:nvPr/>
          </p:nvSpPr>
          <p:spPr>
            <a:xfrm>
              <a:off x="662400" y="22543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662400" y="24829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662400" y="27115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662400" y="29401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291040" y="39304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FuturaA Bk BT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7" name=""/>
            <p:cNvGrpSpPr/>
            <p:nvPr/>
          </p:nvGrpSpPr>
          <p:grpSpPr>
            <a:xfrm>
              <a:off x="2673360" y="4495680"/>
              <a:ext cx="2209680" cy="152640"/>
              <a:chOff x="2673360" y="4495680"/>
              <a:chExt cx="2209680" cy="152640"/>
            </a:xfrm>
          </p:grpSpPr>
          <p:sp>
            <p:nvSpPr>
              <p:cNvPr id="1958" name=""/>
              <p:cNvSpPr/>
              <p:nvPr/>
            </p:nvSpPr>
            <p:spPr>
              <a:xfrm>
                <a:off x="2749680" y="4572000"/>
                <a:ext cx="2057400" cy="0"/>
              </a:xfrm>
              <a:prstGeom prst="line">
                <a:avLst/>
              </a:prstGeom>
              <a:ln w="2844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3511440" y="4495680"/>
                <a:ext cx="152640" cy="15264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2901960" y="4495680"/>
                <a:ext cx="152280" cy="15264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2673360" y="4495680"/>
                <a:ext cx="152280" cy="1526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4730760" y="4495680"/>
                <a:ext cx="152280" cy="1526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816360" y="4495680"/>
                <a:ext cx="152280" cy="15264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502160" y="4495680"/>
                <a:ext cx="152280" cy="152640"/>
              </a:xfrm>
              <a:prstGeom prst="ellipse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5" name=""/>
            <p:cNvGrpSpPr/>
            <p:nvPr/>
          </p:nvGrpSpPr>
          <p:grpSpPr>
            <a:xfrm>
              <a:off x="5492880" y="4495680"/>
              <a:ext cx="1218960" cy="152640"/>
              <a:chOff x="5492880" y="4495680"/>
              <a:chExt cx="1218960" cy="152640"/>
            </a:xfrm>
          </p:grpSpPr>
          <p:sp>
            <p:nvSpPr>
              <p:cNvPr id="1966" name=""/>
              <p:cNvSpPr/>
              <p:nvPr/>
            </p:nvSpPr>
            <p:spPr>
              <a:xfrm>
                <a:off x="5568840" y="4572000"/>
                <a:ext cx="1067040" cy="0"/>
              </a:xfrm>
              <a:prstGeom prst="line">
                <a:avLst/>
              </a:prstGeom>
              <a:ln w="2844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721480" y="4495680"/>
                <a:ext cx="152280" cy="152640"/>
              </a:xfrm>
              <a:prstGeom prst="ellipse">
                <a:avLst/>
              </a:prstGeom>
              <a:solidFill>
                <a:srgbClr val="d6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6330960" y="4495680"/>
                <a:ext cx="152280" cy="152640"/>
              </a:xfrm>
              <a:prstGeom prst="ellipse">
                <a:avLst/>
              </a:prstGeom>
              <a:solidFill>
                <a:srgbClr val="d6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6559560" y="4495680"/>
                <a:ext cx="152280" cy="152640"/>
              </a:xfrm>
              <a:prstGeom prst="rect">
                <a:avLst/>
              </a:prstGeom>
              <a:solidFill>
                <a:srgbClr val="d6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5492880" y="4495680"/>
                <a:ext cx="152280" cy="152640"/>
              </a:xfrm>
              <a:prstGeom prst="rect">
                <a:avLst/>
              </a:prstGeom>
              <a:solidFill>
                <a:srgbClr val="d6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1" name=""/>
            <p:cNvSpPr/>
            <p:nvPr/>
          </p:nvSpPr>
          <p:spPr>
            <a:xfrm>
              <a:off x="1530360" y="1600200"/>
              <a:ext cx="1676520" cy="762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178680" y="1600200"/>
              <a:ext cx="1676160" cy="762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3" name=""/>
            <p:cNvGrpSpPr/>
            <p:nvPr/>
          </p:nvGrpSpPr>
          <p:grpSpPr>
            <a:xfrm>
              <a:off x="1066680" y="3581280"/>
              <a:ext cx="7239240" cy="152280"/>
              <a:chOff x="1066680" y="3581280"/>
              <a:chExt cx="7239240" cy="152280"/>
            </a:xfrm>
          </p:grpSpPr>
          <p:sp>
            <p:nvSpPr>
              <p:cNvPr id="1974" name=""/>
              <p:cNvSpPr/>
              <p:nvPr/>
            </p:nvSpPr>
            <p:spPr>
              <a:xfrm>
                <a:off x="1143000" y="3657600"/>
                <a:ext cx="7086600" cy="0"/>
              </a:xfrm>
              <a:prstGeom prst="line">
                <a:avLst/>
              </a:prstGeom>
              <a:ln w="2844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6629400" y="3581280"/>
                <a:ext cx="152280" cy="152280"/>
              </a:xfrm>
              <a:prstGeom prst="ellipse">
                <a:avLst/>
              </a:prstGeom>
              <a:solidFill>
                <a:srgbClr val="cc00cc"/>
              </a:solidFill>
              <a:ln w="93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590920" y="3581280"/>
                <a:ext cx="152280" cy="152280"/>
              </a:xfrm>
              <a:prstGeom prst="ellipse">
                <a:avLst/>
              </a:prstGeom>
              <a:solidFill>
                <a:srgbClr val="cc00cc"/>
              </a:solidFill>
              <a:ln w="93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066680" y="3581280"/>
                <a:ext cx="152640" cy="152280"/>
              </a:xfrm>
              <a:prstGeom prst="rect">
                <a:avLst/>
              </a:prstGeom>
              <a:solidFill>
                <a:srgbClr val="cc00cc"/>
              </a:solidFill>
              <a:ln w="93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8153280" y="3581280"/>
                <a:ext cx="152640" cy="152280"/>
              </a:xfrm>
              <a:prstGeom prst="rect">
                <a:avLst/>
              </a:prstGeom>
              <a:solidFill>
                <a:srgbClr val="cc00cc"/>
              </a:solidFill>
              <a:ln w="93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9" name=""/>
            <p:cNvSpPr/>
            <p:nvPr/>
          </p:nvSpPr>
          <p:spPr>
            <a:xfrm>
              <a:off x="1752480" y="39625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-Ta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76320" y="350532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Untagg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914400" y="3276720"/>
              <a:ext cx="152280" cy="15228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305920" y="3276720"/>
              <a:ext cx="152280" cy="152280"/>
            </a:xfrm>
            <a:prstGeom prst="diamond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16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Ethernet OAM Layering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2209680"/>
            <a:ext cx="0" cy="236232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2209680"/>
            <a:ext cx="0" cy="236232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2209680"/>
            <a:ext cx="0" cy="236232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2209680"/>
            <a:ext cx="0" cy="236232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91520" y="2209680"/>
            <a:ext cx="0" cy="236232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77320" y="2209680"/>
            <a:ext cx="0" cy="236232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3200400"/>
            <a:ext cx="152640" cy="152280"/>
          </a:xfrm>
          <a:prstGeom prst="rect">
            <a:avLst/>
          </a:prstGeom>
          <a:solidFill>
            <a:srgbClr val="66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01000" y="3200400"/>
            <a:ext cx="152280" cy="152280"/>
          </a:xfrm>
          <a:prstGeom prst="rect">
            <a:avLst/>
          </a:prstGeom>
          <a:solidFill>
            <a:srgbClr val="66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15200" y="3200400"/>
            <a:ext cx="15228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19920" y="3200400"/>
            <a:ext cx="15228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3200400"/>
            <a:ext cx="15228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3200400"/>
            <a:ext cx="152280" cy="152280"/>
          </a:xfrm>
          <a:prstGeom prst="rect">
            <a:avLst/>
          </a:prstGeom>
          <a:solidFill>
            <a:srgbClr val="ffcc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3352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3352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-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162920" y="3352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-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67280" y="3352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-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3352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-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48720" y="3352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0" y="320040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3200400"/>
            <a:ext cx="15264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3200" y="2362320"/>
            <a:ext cx="0" cy="8380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1981080"/>
            <a:ext cx="0" cy="121932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3200400"/>
            <a:ext cx="152640" cy="152280"/>
          </a:xfrm>
          <a:prstGeom prst="rect">
            <a:avLst/>
          </a:prstGeom>
          <a:solidFill>
            <a:srgbClr val="ff33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86200" y="1905120"/>
            <a:ext cx="0" cy="12952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3200400"/>
            <a:ext cx="152280" cy="152280"/>
          </a:xfrm>
          <a:prstGeom prst="rect">
            <a:avLst/>
          </a:prstGeom>
          <a:solidFill>
            <a:srgbClr val="ff33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4120" y="1905120"/>
            <a:ext cx="0" cy="12952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3200400"/>
            <a:ext cx="152280" cy="152280"/>
          </a:xfrm>
          <a:prstGeom prst="rect">
            <a:avLst/>
          </a:prstGeom>
          <a:solidFill>
            <a:srgbClr val="ff33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2438280"/>
            <a:ext cx="0" cy="76212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33526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33526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33526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33526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33526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33526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3200400"/>
            <a:ext cx="152280" cy="152280"/>
          </a:xfrm>
          <a:prstGeom prst="rect">
            <a:avLst/>
          </a:prstGeom>
          <a:solidFill>
            <a:srgbClr val="ff33cc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2438280"/>
            <a:ext cx="0" cy="76212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27672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320" y="313992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vice  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6320" y="4038480"/>
            <a:ext cx="8762760" cy="520200"/>
            <a:chOff x="76320" y="4038480"/>
            <a:chExt cx="8762760" cy="520200"/>
          </a:xfrm>
        </p:grpSpPr>
        <p:sp>
          <p:nvSpPr>
            <p:cNvPr id="125" name=""/>
            <p:cNvSpPr/>
            <p:nvPr/>
          </p:nvSpPr>
          <p:spPr>
            <a:xfrm>
              <a:off x="1143000" y="4267080"/>
              <a:ext cx="6934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86000" y="41907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66880" y="4190760"/>
              <a:ext cx="15264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8120" y="41907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19920" y="41907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15200" y="41907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01000" y="41907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66680" y="4190760"/>
              <a:ext cx="15264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28800" y="4190760"/>
              <a:ext cx="15228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320" y="4038480"/>
              <a:ext cx="99036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thernet Lay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05920" y="4038480"/>
              <a:ext cx="533160" cy="457200"/>
            </a:xfrm>
            <a:prstGeom prst="leftArrow">
              <a:avLst>
                <a:gd name="adj1" fmla="val 50000"/>
                <a:gd name="adj2" fmla="val 29154"/>
              </a:avLst>
            </a:prstGeom>
            <a:solidFill>
              <a:srgbClr val="99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Cloud"/>
          <p:cNvSpPr/>
          <p:nvPr/>
        </p:nvSpPr>
        <p:spPr>
          <a:xfrm>
            <a:off x="533520" y="1676520"/>
            <a:ext cx="838080" cy="758880"/>
          </a:xfrm>
          <a:prstGeom prst="pie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Cloud"/>
          <p:cNvSpPr/>
          <p:nvPr/>
        </p:nvSpPr>
        <p:spPr>
          <a:xfrm>
            <a:off x="1828800" y="1447920"/>
            <a:ext cx="1295280" cy="1172880"/>
          </a:xfrm>
          <a:prstGeom prst="pie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Cloud"/>
          <p:cNvSpPr/>
          <p:nvPr/>
        </p:nvSpPr>
        <p:spPr>
          <a:xfrm>
            <a:off x="3200400" y="1295280"/>
            <a:ext cx="2895480" cy="1379520"/>
          </a:xfrm>
          <a:prstGeom prst="pie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Cloud"/>
          <p:cNvSpPr/>
          <p:nvPr/>
        </p:nvSpPr>
        <p:spPr>
          <a:xfrm>
            <a:off x="6248520" y="1371600"/>
            <a:ext cx="1295280" cy="1173240"/>
          </a:xfrm>
          <a:prstGeom prst="pie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Cloud"/>
          <p:cNvSpPr/>
          <p:nvPr/>
        </p:nvSpPr>
        <p:spPr>
          <a:xfrm>
            <a:off x="8077320" y="1603440"/>
            <a:ext cx="838080" cy="758880"/>
          </a:xfrm>
          <a:prstGeom prst="pie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90720" y="1828800"/>
            <a:ext cx="380880" cy="380520"/>
            <a:chOff x="990720" y="1828800"/>
            <a:chExt cx="380880" cy="380520"/>
          </a:xfrm>
        </p:grpSpPr>
        <p:sp>
          <p:nvSpPr>
            <p:cNvPr id="142" name=""/>
            <p:cNvSpPr/>
            <p:nvPr/>
          </p:nvSpPr>
          <p:spPr>
            <a:xfrm>
              <a:off x="990720" y="1870920"/>
              <a:ext cx="380880" cy="3384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3280" y="1870920"/>
              <a:ext cx="95040" cy="3384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28680" y="1998000"/>
              <a:ext cx="142560" cy="84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90720" y="1998000"/>
              <a:ext cx="142560" cy="84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90800" y="1828800"/>
              <a:ext cx="18360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924680" y="1828800"/>
            <a:ext cx="304920" cy="380520"/>
            <a:chOff x="7924680" y="1828800"/>
            <a:chExt cx="304920" cy="380520"/>
          </a:xfrm>
        </p:grpSpPr>
        <p:sp>
          <p:nvSpPr>
            <p:cNvPr id="148" name=""/>
            <p:cNvSpPr/>
            <p:nvPr/>
          </p:nvSpPr>
          <p:spPr>
            <a:xfrm>
              <a:off x="7924680" y="1870920"/>
              <a:ext cx="304920" cy="3384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38800" y="1870920"/>
              <a:ext cx="75960" cy="3384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15120" y="1998000"/>
              <a:ext cx="114120" cy="84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24680" y="1998000"/>
              <a:ext cx="114120" cy="84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986600" y="1828800"/>
              <a:ext cx="18432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752480" y="1828800"/>
            <a:ext cx="381240" cy="380520"/>
            <a:chOff x="1752480" y="1828800"/>
            <a:chExt cx="381240" cy="380520"/>
          </a:xfrm>
        </p:grpSpPr>
        <p:sp>
          <p:nvSpPr>
            <p:cNvPr id="154" name=""/>
            <p:cNvSpPr/>
            <p:nvPr/>
          </p:nvSpPr>
          <p:spPr>
            <a:xfrm>
              <a:off x="1752480" y="1870920"/>
              <a:ext cx="381240" cy="3384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95040" y="1870920"/>
              <a:ext cx="95400" cy="3384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990800" y="1997640"/>
              <a:ext cx="142560" cy="8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52480" y="1997640"/>
              <a:ext cx="142560" cy="8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52920" y="1828800"/>
              <a:ext cx="1839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971800" y="1828800"/>
            <a:ext cx="380880" cy="380520"/>
            <a:chOff x="2971800" y="1828800"/>
            <a:chExt cx="380880" cy="380520"/>
          </a:xfrm>
        </p:grpSpPr>
        <p:sp>
          <p:nvSpPr>
            <p:cNvPr id="160" name=""/>
            <p:cNvSpPr/>
            <p:nvPr/>
          </p:nvSpPr>
          <p:spPr>
            <a:xfrm>
              <a:off x="2971800" y="1870920"/>
              <a:ext cx="380880" cy="3384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14360" y="1870920"/>
              <a:ext cx="95040" cy="3384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09760" y="1997640"/>
              <a:ext cx="142560" cy="8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71800" y="1997640"/>
              <a:ext cx="142560" cy="8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72240" y="1828800"/>
              <a:ext cx="183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943600" y="1828800"/>
            <a:ext cx="380880" cy="380520"/>
            <a:chOff x="5943600" y="1828800"/>
            <a:chExt cx="380880" cy="380520"/>
          </a:xfrm>
        </p:grpSpPr>
        <p:sp>
          <p:nvSpPr>
            <p:cNvPr id="166" name=""/>
            <p:cNvSpPr/>
            <p:nvPr/>
          </p:nvSpPr>
          <p:spPr>
            <a:xfrm>
              <a:off x="5943600" y="1870920"/>
              <a:ext cx="380880" cy="3384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86160" y="1870920"/>
              <a:ext cx="95040" cy="3384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181560" y="1997640"/>
              <a:ext cx="142560" cy="8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943600" y="1997640"/>
              <a:ext cx="142560" cy="8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44040" y="1828800"/>
              <a:ext cx="183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7238880" y="1828800"/>
            <a:ext cx="381240" cy="380520"/>
            <a:chOff x="7238880" y="1828800"/>
            <a:chExt cx="381240" cy="380520"/>
          </a:xfrm>
        </p:grpSpPr>
        <p:sp>
          <p:nvSpPr>
            <p:cNvPr id="172" name=""/>
            <p:cNvSpPr/>
            <p:nvPr/>
          </p:nvSpPr>
          <p:spPr>
            <a:xfrm>
              <a:off x="7238880" y="1870920"/>
              <a:ext cx="381240" cy="33840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81440" y="1870920"/>
              <a:ext cx="95400" cy="3384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77200" y="1997640"/>
              <a:ext cx="142560" cy="8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238880" y="1997640"/>
              <a:ext cx="142560" cy="8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307280" y="1828800"/>
              <a:ext cx="247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209680" y="1600200"/>
            <a:ext cx="380880" cy="380880"/>
            <a:chOff x="2209680" y="1600200"/>
            <a:chExt cx="380880" cy="380880"/>
          </a:xfrm>
        </p:grpSpPr>
        <p:sp>
          <p:nvSpPr>
            <p:cNvPr id="178" name=""/>
            <p:cNvSpPr/>
            <p:nvPr/>
          </p:nvSpPr>
          <p:spPr>
            <a:xfrm>
              <a:off x="2209680" y="1643040"/>
              <a:ext cx="380880" cy="33804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52600" y="1643040"/>
              <a:ext cx="95040" cy="3380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47640" y="1770120"/>
              <a:ext cx="142920" cy="8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09680" y="1770120"/>
              <a:ext cx="142920" cy="8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400" y="160020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733560" y="1523160"/>
            <a:ext cx="381240" cy="381960"/>
            <a:chOff x="3733560" y="1523160"/>
            <a:chExt cx="381240" cy="381960"/>
          </a:xfrm>
        </p:grpSpPr>
        <p:sp>
          <p:nvSpPr>
            <p:cNvPr id="184" name=""/>
            <p:cNvSpPr/>
            <p:nvPr/>
          </p:nvSpPr>
          <p:spPr>
            <a:xfrm>
              <a:off x="3733920" y="1566720"/>
              <a:ext cx="380880" cy="338400"/>
            </a:xfrm>
            <a:prstGeom prst="rect">
              <a:avLst/>
            </a:prstGeom>
            <a:solidFill>
              <a:srgbClr val="ff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76840" y="1566720"/>
              <a:ext cx="95040" cy="3384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71880" y="1523880"/>
              <a:ext cx="142920" cy="8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733920" y="1820880"/>
              <a:ext cx="142920" cy="8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33640" y="15238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 rot="16200000">
              <a:off x="3703680" y="1552320"/>
              <a:ext cx="142920" cy="8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 rot="16200000">
              <a:off x="4001040" y="1790280"/>
              <a:ext cx="142920" cy="8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419360" y="2057400"/>
            <a:ext cx="381240" cy="380520"/>
            <a:chOff x="4419360" y="2057400"/>
            <a:chExt cx="381240" cy="380520"/>
          </a:xfrm>
        </p:grpSpPr>
        <p:sp>
          <p:nvSpPr>
            <p:cNvPr id="192" name=""/>
            <p:cNvSpPr/>
            <p:nvPr/>
          </p:nvSpPr>
          <p:spPr>
            <a:xfrm>
              <a:off x="4419720" y="2099880"/>
              <a:ext cx="380880" cy="338040"/>
            </a:xfrm>
            <a:prstGeom prst="rect">
              <a:avLst/>
            </a:prstGeom>
            <a:solidFill>
              <a:srgbClr val="ff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562640" y="2099880"/>
              <a:ext cx="95040" cy="3380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57680" y="2057400"/>
              <a:ext cx="142920" cy="8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19720" y="2354040"/>
              <a:ext cx="142920" cy="8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19440" y="2057400"/>
              <a:ext cx="184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 flipV="1" rot="16200000">
              <a:off x="4389480" y="2086560"/>
              <a:ext cx="142560" cy="8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 rot="16200000">
              <a:off x="4687200" y="2324520"/>
              <a:ext cx="142560" cy="8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5105160" y="1523160"/>
            <a:ext cx="381240" cy="381960"/>
            <a:chOff x="5105160" y="1523160"/>
            <a:chExt cx="381240" cy="381960"/>
          </a:xfrm>
        </p:grpSpPr>
        <p:sp>
          <p:nvSpPr>
            <p:cNvPr id="200" name=""/>
            <p:cNvSpPr/>
            <p:nvPr/>
          </p:nvSpPr>
          <p:spPr>
            <a:xfrm>
              <a:off x="5105520" y="1566720"/>
              <a:ext cx="380880" cy="338400"/>
            </a:xfrm>
            <a:prstGeom prst="rect">
              <a:avLst/>
            </a:prstGeom>
            <a:solidFill>
              <a:srgbClr val="ff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48440" y="1566720"/>
              <a:ext cx="95040" cy="3384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343480" y="1523880"/>
              <a:ext cx="142920" cy="8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05520" y="1820880"/>
              <a:ext cx="142920" cy="8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05240" y="15238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 rot="16200000">
              <a:off x="5075280" y="1552320"/>
              <a:ext cx="142920" cy="8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 rot="16200000">
              <a:off x="5372640" y="1790280"/>
              <a:ext cx="142920" cy="8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514600" y="1981080"/>
            <a:ext cx="380880" cy="380880"/>
            <a:chOff x="2514600" y="1981080"/>
            <a:chExt cx="380880" cy="380880"/>
          </a:xfrm>
        </p:grpSpPr>
        <p:sp>
          <p:nvSpPr>
            <p:cNvPr id="208" name=""/>
            <p:cNvSpPr/>
            <p:nvPr/>
          </p:nvSpPr>
          <p:spPr>
            <a:xfrm>
              <a:off x="2514600" y="2023920"/>
              <a:ext cx="380880" cy="33804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57520" y="2023920"/>
              <a:ext cx="95040" cy="3380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52560" y="2151000"/>
              <a:ext cx="142920" cy="8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14600" y="2151000"/>
              <a:ext cx="142920" cy="8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14320" y="19810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981080" y="2514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th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8480" y="25146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PLS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24480" y="25146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PLS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6705360" y="2057400"/>
            <a:ext cx="381240" cy="380520"/>
            <a:chOff x="6705360" y="2057400"/>
            <a:chExt cx="381240" cy="380520"/>
          </a:xfrm>
        </p:grpSpPr>
        <p:sp>
          <p:nvSpPr>
            <p:cNvPr id="217" name=""/>
            <p:cNvSpPr/>
            <p:nvPr/>
          </p:nvSpPr>
          <p:spPr>
            <a:xfrm>
              <a:off x="6705720" y="2099880"/>
              <a:ext cx="380880" cy="338040"/>
            </a:xfrm>
            <a:prstGeom prst="rect">
              <a:avLst/>
            </a:prstGeom>
            <a:solidFill>
              <a:srgbClr val="ff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48640" y="2099880"/>
              <a:ext cx="95040" cy="3380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43680" y="2057400"/>
              <a:ext cx="142920" cy="8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05720" y="2354040"/>
              <a:ext cx="142920" cy="8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05440" y="2057400"/>
              <a:ext cx="184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 rot="16200000">
              <a:off x="6675480" y="2086560"/>
              <a:ext cx="142560" cy="8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 rot="16200000">
              <a:off x="6973200" y="2324520"/>
              <a:ext cx="142560" cy="8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1676520" y="1143000"/>
            <a:ext cx="6019560" cy="1752480"/>
          </a:xfrm>
          <a:prstGeom prst="rect">
            <a:avLst/>
          </a:prstGeom>
          <a:noFill/>
          <a:ln w="1260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848720" y="1143000"/>
            <a:ext cx="1143000" cy="1752480"/>
          </a:xfrm>
          <a:prstGeom prst="rect">
            <a:avLst/>
          </a:prstGeom>
          <a:noFill/>
          <a:ln w="1260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0880" y="1143000"/>
            <a:ext cx="1143000" cy="1752480"/>
          </a:xfrm>
          <a:prstGeom prst="rect">
            <a:avLst/>
          </a:prstGeom>
          <a:noFill/>
          <a:ln w="1260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11430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848720" y="11430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52480" y="11430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rvice Pro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71600" y="20574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0120" y="20574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510552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An example to highlight network/service involving Ethernet and other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The Ethernet Layer implies the visibility to Ethernet fr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74400"/>
            <a:ext cx="771696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OAM Domain – Service/Network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4" name="Cloud"/>
          <p:cNvSpPr/>
          <p:nvPr/>
        </p:nvSpPr>
        <p:spPr>
          <a:xfrm>
            <a:off x="533520" y="2057400"/>
            <a:ext cx="838080" cy="758880"/>
          </a:xfrm>
          <a:prstGeom prst="pie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Cloud"/>
          <p:cNvSpPr/>
          <p:nvPr/>
        </p:nvSpPr>
        <p:spPr>
          <a:xfrm>
            <a:off x="1828800" y="1828800"/>
            <a:ext cx="1295280" cy="1173240"/>
          </a:xfrm>
          <a:prstGeom prst="pie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Cloud"/>
          <p:cNvSpPr/>
          <p:nvPr/>
        </p:nvSpPr>
        <p:spPr>
          <a:xfrm>
            <a:off x="3200400" y="1676520"/>
            <a:ext cx="2895480" cy="1379520"/>
          </a:xfrm>
          <a:prstGeom prst="pie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Cloud"/>
          <p:cNvSpPr/>
          <p:nvPr/>
        </p:nvSpPr>
        <p:spPr>
          <a:xfrm>
            <a:off x="6248520" y="1752480"/>
            <a:ext cx="1295280" cy="1173240"/>
          </a:xfrm>
          <a:prstGeom prst="pie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Cloud"/>
          <p:cNvSpPr/>
          <p:nvPr/>
        </p:nvSpPr>
        <p:spPr>
          <a:xfrm>
            <a:off x="8077320" y="1984320"/>
            <a:ext cx="838080" cy="758880"/>
          </a:xfrm>
          <a:prstGeom prst="pie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990720" y="2209680"/>
            <a:ext cx="380880" cy="380880"/>
            <a:chOff x="990720" y="2209680"/>
            <a:chExt cx="380880" cy="380880"/>
          </a:xfrm>
        </p:grpSpPr>
        <p:sp>
          <p:nvSpPr>
            <p:cNvPr id="240" name=""/>
            <p:cNvSpPr/>
            <p:nvPr/>
          </p:nvSpPr>
          <p:spPr>
            <a:xfrm>
              <a:off x="990720" y="2251800"/>
              <a:ext cx="380880" cy="33876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3280" y="2251800"/>
              <a:ext cx="95040" cy="3387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28680" y="2379240"/>
              <a:ext cx="142560" cy="84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90720" y="2379240"/>
              <a:ext cx="142560" cy="84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90800" y="2209680"/>
              <a:ext cx="18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924680" y="2209680"/>
            <a:ext cx="304920" cy="380880"/>
            <a:chOff x="7924680" y="2209680"/>
            <a:chExt cx="304920" cy="380880"/>
          </a:xfrm>
        </p:grpSpPr>
        <p:sp>
          <p:nvSpPr>
            <p:cNvPr id="246" name=""/>
            <p:cNvSpPr/>
            <p:nvPr/>
          </p:nvSpPr>
          <p:spPr>
            <a:xfrm>
              <a:off x="7924680" y="2251800"/>
              <a:ext cx="304920" cy="33876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038800" y="2251800"/>
              <a:ext cx="75960" cy="3387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15120" y="2379240"/>
              <a:ext cx="114120" cy="84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924680" y="2379240"/>
              <a:ext cx="114120" cy="84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986600" y="2209680"/>
              <a:ext cx="18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752480" y="2209680"/>
            <a:ext cx="381240" cy="380880"/>
            <a:chOff x="1752480" y="2209680"/>
            <a:chExt cx="381240" cy="380880"/>
          </a:xfrm>
        </p:grpSpPr>
        <p:sp>
          <p:nvSpPr>
            <p:cNvPr id="252" name=""/>
            <p:cNvSpPr/>
            <p:nvPr/>
          </p:nvSpPr>
          <p:spPr>
            <a:xfrm>
              <a:off x="1752480" y="2251800"/>
              <a:ext cx="381240" cy="3387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95040" y="2251800"/>
              <a:ext cx="95400" cy="3387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90800" y="2378880"/>
              <a:ext cx="142560" cy="84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52480" y="2378880"/>
              <a:ext cx="142560" cy="84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52920" y="2209680"/>
              <a:ext cx="183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2971800" y="2209680"/>
            <a:ext cx="380880" cy="380880"/>
            <a:chOff x="2971800" y="2209680"/>
            <a:chExt cx="380880" cy="380880"/>
          </a:xfrm>
        </p:grpSpPr>
        <p:sp>
          <p:nvSpPr>
            <p:cNvPr id="258" name=""/>
            <p:cNvSpPr/>
            <p:nvPr/>
          </p:nvSpPr>
          <p:spPr>
            <a:xfrm>
              <a:off x="2971800" y="2251800"/>
              <a:ext cx="380880" cy="3387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114360" y="2251800"/>
              <a:ext cx="95040" cy="3387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09760" y="2378880"/>
              <a:ext cx="142560" cy="84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71800" y="2378880"/>
              <a:ext cx="142560" cy="84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72240" y="2209680"/>
              <a:ext cx="18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943600" y="2209680"/>
            <a:ext cx="380880" cy="380880"/>
            <a:chOff x="5943600" y="2209680"/>
            <a:chExt cx="380880" cy="380880"/>
          </a:xfrm>
        </p:grpSpPr>
        <p:sp>
          <p:nvSpPr>
            <p:cNvPr id="264" name=""/>
            <p:cNvSpPr/>
            <p:nvPr/>
          </p:nvSpPr>
          <p:spPr>
            <a:xfrm>
              <a:off x="5943600" y="2251800"/>
              <a:ext cx="380880" cy="3387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86160" y="2251800"/>
              <a:ext cx="95040" cy="3387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81560" y="2378880"/>
              <a:ext cx="142560" cy="84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943600" y="2378880"/>
              <a:ext cx="142560" cy="84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044040" y="2209680"/>
              <a:ext cx="18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7238880" y="2209680"/>
            <a:ext cx="381240" cy="380880"/>
            <a:chOff x="7238880" y="2209680"/>
            <a:chExt cx="381240" cy="380880"/>
          </a:xfrm>
        </p:grpSpPr>
        <p:sp>
          <p:nvSpPr>
            <p:cNvPr id="270" name=""/>
            <p:cNvSpPr/>
            <p:nvPr/>
          </p:nvSpPr>
          <p:spPr>
            <a:xfrm>
              <a:off x="7238880" y="2251800"/>
              <a:ext cx="381240" cy="3387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81440" y="2251800"/>
              <a:ext cx="95400" cy="3387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77200" y="2378880"/>
              <a:ext cx="142560" cy="84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38880" y="2378880"/>
              <a:ext cx="142560" cy="84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07280" y="2209680"/>
              <a:ext cx="24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143000" y="2590920"/>
            <a:ext cx="0" cy="23619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2590920"/>
            <a:ext cx="0" cy="23619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2590920"/>
            <a:ext cx="0" cy="23619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5880" y="2590920"/>
            <a:ext cx="0" cy="23619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91520" y="2590920"/>
            <a:ext cx="0" cy="23619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077320" y="2590920"/>
            <a:ext cx="0" cy="23619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981080" y="2895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th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38480" y="2895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PLS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24480" y="2895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PLS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76520" y="1523880"/>
            <a:ext cx="6019560" cy="1752840"/>
          </a:xfrm>
          <a:prstGeom prst="rect">
            <a:avLst/>
          </a:prstGeom>
          <a:noFill/>
          <a:ln w="1260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848720" y="1523880"/>
            <a:ext cx="1143000" cy="1752840"/>
          </a:xfrm>
          <a:prstGeom prst="rect">
            <a:avLst/>
          </a:prstGeom>
          <a:noFill/>
          <a:ln w="1260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1523880"/>
            <a:ext cx="1143000" cy="1752840"/>
          </a:xfrm>
          <a:prstGeom prst="rect">
            <a:avLst/>
          </a:prstGeom>
          <a:noFill/>
          <a:ln w="1260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15238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848720" y="15238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752480" y="15238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rvice Pro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43000" y="3657600"/>
            <a:ext cx="6934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05120" y="426708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051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48006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58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733920" y="3657600"/>
            <a:ext cx="21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stomer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9880" y="42670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vider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09880" y="48006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erator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48520" y="481644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erator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57400" y="48164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erator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95280" y="24382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543800" y="24382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880" y="5638680"/>
            <a:ext cx="7925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Domains concept is necessary to contain OAM flows &amp; bound OAM responsi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71660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aintenance Entity Points (MEP) &amp; </a:t>
            </a:r>
            <a:br>
              <a:rPr sz="2800"/>
            </a:b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Maintenance Intermediate Points (MIP)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90720" y="2286000"/>
            <a:ext cx="0" cy="236232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52480" y="2286000"/>
            <a:ext cx="0" cy="236232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971800" y="2286000"/>
            <a:ext cx="0" cy="236232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43600" y="2286000"/>
            <a:ext cx="0" cy="236232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38880" y="2286000"/>
            <a:ext cx="0" cy="236232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924680" y="2286000"/>
            <a:ext cx="0" cy="236232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90720" y="3352680"/>
            <a:ext cx="6933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52480" y="38862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52480" y="43434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71800" y="4343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43600" y="43434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33526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stomer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38862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vider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657600" y="434340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erator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5880" y="43592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erator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05120" y="441972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erator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Cloud"/>
          <p:cNvSpPr/>
          <p:nvPr/>
        </p:nvSpPr>
        <p:spPr>
          <a:xfrm>
            <a:off x="380880" y="1828800"/>
            <a:ext cx="838440" cy="758880"/>
          </a:xfrm>
          <a:prstGeom prst="pie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Cloud"/>
          <p:cNvSpPr/>
          <p:nvPr/>
        </p:nvSpPr>
        <p:spPr>
          <a:xfrm>
            <a:off x="1676520" y="1600200"/>
            <a:ext cx="1295280" cy="1173240"/>
          </a:xfrm>
          <a:prstGeom prst="pie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Cloud"/>
          <p:cNvSpPr/>
          <p:nvPr/>
        </p:nvSpPr>
        <p:spPr>
          <a:xfrm>
            <a:off x="3048120" y="1447920"/>
            <a:ext cx="2895480" cy="1379520"/>
          </a:xfrm>
          <a:prstGeom prst="pie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Cloud"/>
          <p:cNvSpPr/>
          <p:nvPr/>
        </p:nvSpPr>
        <p:spPr>
          <a:xfrm>
            <a:off x="6095880" y="1523880"/>
            <a:ext cx="1295640" cy="1173240"/>
          </a:xfrm>
          <a:prstGeom prst="pie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Cloud"/>
          <p:cNvSpPr/>
          <p:nvPr/>
        </p:nvSpPr>
        <p:spPr>
          <a:xfrm>
            <a:off x="7924680" y="1755720"/>
            <a:ext cx="838440" cy="758880"/>
          </a:xfrm>
          <a:prstGeom prst="pie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838080" y="1981080"/>
            <a:ext cx="381240" cy="380880"/>
            <a:chOff x="838080" y="1981080"/>
            <a:chExt cx="381240" cy="380880"/>
          </a:xfrm>
        </p:grpSpPr>
        <p:sp>
          <p:nvSpPr>
            <p:cNvPr id="326" name=""/>
            <p:cNvSpPr/>
            <p:nvPr/>
          </p:nvSpPr>
          <p:spPr>
            <a:xfrm>
              <a:off x="838080" y="2023200"/>
              <a:ext cx="381240" cy="33876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81000" y="2023200"/>
              <a:ext cx="95040" cy="3387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76400" y="2150640"/>
              <a:ext cx="142920" cy="84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38080" y="2150640"/>
              <a:ext cx="142920" cy="84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38160" y="1981080"/>
              <a:ext cx="18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7772400" y="1981080"/>
            <a:ext cx="304920" cy="380880"/>
            <a:chOff x="7772400" y="1981080"/>
            <a:chExt cx="304920" cy="380880"/>
          </a:xfrm>
        </p:grpSpPr>
        <p:sp>
          <p:nvSpPr>
            <p:cNvPr id="332" name=""/>
            <p:cNvSpPr/>
            <p:nvPr/>
          </p:nvSpPr>
          <p:spPr>
            <a:xfrm>
              <a:off x="7772400" y="2023200"/>
              <a:ext cx="304920" cy="33876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86520" y="2023200"/>
              <a:ext cx="75960" cy="3387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62840" y="2150640"/>
              <a:ext cx="114120" cy="84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772400" y="2150640"/>
              <a:ext cx="114120" cy="84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834320" y="1981080"/>
              <a:ext cx="18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1600200" y="1981080"/>
            <a:ext cx="380880" cy="380880"/>
            <a:chOff x="1600200" y="1981080"/>
            <a:chExt cx="380880" cy="380880"/>
          </a:xfrm>
        </p:grpSpPr>
        <p:sp>
          <p:nvSpPr>
            <p:cNvPr id="338" name=""/>
            <p:cNvSpPr/>
            <p:nvPr/>
          </p:nvSpPr>
          <p:spPr>
            <a:xfrm>
              <a:off x="1600200" y="2023200"/>
              <a:ext cx="380880" cy="3387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42760" y="2023200"/>
              <a:ext cx="95040" cy="3387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38160" y="2150280"/>
              <a:ext cx="142560" cy="84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600200" y="2150280"/>
              <a:ext cx="142560" cy="84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00640" y="1981080"/>
              <a:ext cx="18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2819520" y="1981080"/>
            <a:ext cx="380880" cy="380880"/>
            <a:chOff x="2819520" y="1981080"/>
            <a:chExt cx="380880" cy="380880"/>
          </a:xfrm>
        </p:grpSpPr>
        <p:sp>
          <p:nvSpPr>
            <p:cNvPr id="344" name=""/>
            <p:cNvSpPr/>
            <p:nvPr/>
          </p:nvSpPr>
          <p:spPr>
            <a:xfrm>
              <a:off x="2819520" y="2023200"/>
              <a:ext cx="380880" cy="3387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962080" y="2023200"/>
              <a:ext cx="95040" cy="3387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057480" y="2150280"/>
              <a:ext cx="142560" cy="84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819520" y="2150280"/>
              <a:ext cx="142560" cy="84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919960" y="1981080"/>
              <a:ext cx="18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791320" y="1981080"/>
            <a:ext cx="380880" cy="380880"/>
            <a:chOff x="5791320" y="1981080"/>
            <a:chExt cx="380880" cy="380880"/>
          </a:xfrm>
        </p:grpSpPr>
        <p:sp>
          <p:nvSpPr>
            <p:cNvPr id="350" name=""/>
            <p:cNvSpPr/>
            <p:nvPr/>
          </p:nvSpPr>
          <p:spPr>
            <a:xfrm>
              <a:off x="5791320" y="2023200"/>
              <a:ext cx="380880" cy="3387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933880" y="2023200"/>
              <a:ext cx="95040" cy="3387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29280" y="2150280"/>
              <a:ext cx="142560" cy="84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91320" y="2150280"/>
              <a:ext cx="142560" cy="84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91760" y="1981080"/>
              <a:ext cx="18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7086600" y="1981080"/>
            <a:ext cx="380880" cy="380880"/>
            <a:chOff x="7086600" y="1981080"/>
            <a:chExt cx="380880" cy="380880"/>
          </a:xfrm>
        </p:grpSpPr>
        <p:sp>
          <p:nvSpPr>
            <p:cNvPr id="356" name=""/>
            <p:cNvSpPr/>
            <p:nvPr/>
          </p:nvSpPr>
          <p:spPr>
            <a:xfrm>
              <a:off x="7086600" y="2023200"/>
              <a:ext cx="380880" cy="338760"/>
            </a:xfrm>
            <a:prstGeom prst="rect">
              <a:avLst/>
            </a:prstGeom>
            <a:solidFill>
              <a:srgbClr val="ffcc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229160" y="2023200"/>
              <a:ext cx="95040" cy="3387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24560" y="2150280"/>
              <a:ext cx="142560" cy="84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86600" y="2150280"/>
              <a:ext cx="142560" cy="84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155000" y="1981080"/>
              <a:ext cx="247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057400" y="1752480"/>
            <a:ext cx="380880" cy="380880"/>
            <a:chOff x="2057400" y="1752480"/>
            <a:chExt cx="380880" cy="380880"/>
          </a:xfrm>
        </p:grpSpPr>
        <p:sp>
          <p:nvSpPr>
            <p:cNvPr id="362" name=""/>
            <p:cNvSpPr/>
            <p:nvPr/>
          </p:nvSpPr>
          <p:spPr>
            <a:xfrm>
              <a:off x="2057400" y="1795320"/>
              <a:ext cx="380880" cy="33804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00320" y="1795320"/>
              <a:ext cx="95040" cy="3380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95360" y="1922400"/>
              <a:ext cx="142920" cy="8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057400" y="1922400"/>
              <a:ext cx="142920" cy="8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57120" y="17524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3580920" y="1676520"/>
            <a:ext cx="381240" cy="380520"/>
            <a:chOff x="3580920" y="1676520"/>
            <a:chExt cx="381240" cy="380520"/>
          </a:xfrm>
        </p:grpSpPr>
        <p:sp>
          <p:nvSpPr>
            <p:cNvPr id="368" name=""/>
            <p:cNvSpPr/>
            <p:nvPr/>
          </p:nvSpPr>
          <p:spPr>
            <a:xfrm>
              <a:off x="3581280" y="1719000"/>
              <a:ext cx="380880" cy="338040"/>
            </a:xfrm>
            <a:prstGeom prst="rect">
              <a:avLst/>
            </a:prstGeom>
            <a:solidFill>
              <a:srgbClr val="ff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24200" y="1719000"/>
              <a:ext cx="95040" cy="3380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19240" y="1676520"/>
              <a:ext cx="142920" cy="8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581280" y="1973160"/>
              <a:ext cx="142920" cy="8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81000" y="1676520"/>
              <a:ext cx="184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 rot="16200000">
              <a:off x="3551040" y="1705680"/>
              <a:ext cx="142560" cy="8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 rot="16200000">
              <a:off x="3848760" y="1943640"/>
              <a:ext cx="142560" cy="8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4266720" y="2208960"/>
            <a:ext cx="381240" cy="381960"/>
            <a:chOff x="4266720" y="2208960"/>
            <a:chExt cx="381240" cy="381960"/>
          </a:xfrm>
        </p:grpSpPr>
        <p:sp>
          <p:nvSpPr>
            <p:cNvPr id="376" name=""/>
            <p:cNvSpPr/>
            <p:nvPr/>
          </p:nvSpPr>
          <p:spPr>
            <a:xfrm>
              <a:off x="4267080" y="2252520"/>
              <a:ext cx="380880" cy="338400"/>
            </a:xfrm>
            <a:prstGeom prst="rect">
              <a:avLst/>
            </a:prstGeom>
            <a:solidFill>
              <a:srgbClr val="ff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410000" y="2252520"/>
              <a:ext cx="95040" cy="3384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505040" y="2209680"/>
              <a:ext cx="142920" cy="8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67080" y="2506680"/>
              <a:ext cx="142920" cy="8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66800" y="22096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flipV="1" rot="16200000">
              <a:off x="4236840" y="2238120"/>
              <a:ext cx="142920" cy="8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 rot="16200000">
              <a:off x="4534200" y="2476080"/>
              <a:ext cx="142920" cy="8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4952520" y="1676520"/>
            <a:ext cx="381240" cy="380520"/>
            <a:chOff x="4952520" y="1676520"/>
            <a:chExt cx="381240" cy="380520"/>
          </a:xfrm>
        </p:grpSpPr>
        <p:sp>
          <p:nvSpPr>
            <p:cNvPr id="384" name=""/>
            <p:cNvSpPr/>
            <p:nvPr/>
          </p:nvSpPr>
          <p:spPr>
            <a:xfrm>
              <a:off x="4952880" y="1719000"/>
              <a:ext cx="380880" cy="338040"/>
            </a:xfrm>
            <a:prstGeom prst="rect">
              <a:avLst/>
            </a:prstGeom>
            <a:solidFill>
              <a:srgbClr val="ff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95800" y="1719000"/>
              <a:ext cx="95040" cy="3380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190840" y="1676520"/>
              <a:ext cx="142920" cy="8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952880" y="1973160"/>
              <a:ext cx="142920" cy="8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052600" y="1676520"/>
              <a:ext cx="184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 rot="16200000">
              <a:off x="4922640" y="1705680"/>
              <a:ext cx="142560" cy="8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 rot="16200000">
              <a:off x="5220360" y="1943640"/>
              <a:ext cx="142560" cy="8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2362320" y="2133720"/>
            <a:ext cx="380880" cy="380880"/>
            <a:chOff x="2362320" y="2133720"/>
            <a:chExt cx="380880" cy="380880"/>
          </a:xfrm>
        </p:grpSpPr>
        <p:sp>
          <p:nvSpPr>
            <p:cNvPr id="392" name=""/>
            <p:cNvSpPr/>
            <p:nvPr/>
          </p:nvSpPr>
          <p:spPr>
            <a:xfrm>
              <a:off x="2362320" y="2176560"/>
              <a:ext cx="380880" cy="33804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505240" y="2176560"/>
              <a:ext cx="95040" cy="3380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600280" y="2303640"/>
              <a:ext cx="142920" cy="8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62320" y="2303640"/>
              <a:ext cx="142920" cy="8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462040" y="213372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1828800" y="26668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th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886200" y="26668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PLS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172200" y="26668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PLS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552720" y="2208960"/>
            <a:ext cx="381240" cy="381960"/>
            <a:chOff x="6552720" y="2208960"/>
            <a:chExt cx="381240" cy="381960"/>
          </a:xfrm>
        </p:grpSpPr>
        <p:sp>
          <p:nvSpPr>
            <p:cNvPr id="401" name=""/>
            <p:cNvSpPr/>
            <p:nvPr/>
          </p:nvSpPr>
          <p:spPr>
            <a:xfrm>
              <a:off x="6553080" y="2252520"/>
              <a:ext cx="380880" cy="338400"/>
            </a:xfrm>
            <a:prstGeom prst="rect">
              <a:avLst/>
            </a:prstGeom>
            <a:solidFill>
              <a:srgbClr val="ff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96000" y="2252520"/>
              <a:ext cx="95040" cy="3384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791040" y="2209680"/>
              <a:ext cx="142920" cy="8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53080" y="2506680"/>
              <a:ext cx="142920" cy="8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652800" y="22096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 rot="16200000">
              <a:off x="6522840" y="2238120"/>
              <a:ext cx="142920" cy="83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 rot="16200000">
              <a:off x="6820200" y="2476080"/>
              <a:ext cx="142920" cy="8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1523880" y="1295280"/>
            <a:ext cx="6019920" cy="1752840"/>
          </a:xfrm>
          <a:prstGeom prst="rect">
            <a:avLst/>
          </a:prstGeom>
          <a:noFill/>
          <a:ln w="1260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96080" y="1295280"/>
            <a:ext cx="1143000" cy="1752840"/>
          </a:xfrm>
          <a:prstGeom prst="rect">
            <a:avLst/>
          </a:prstGeom>
          <a:noFill/>
          <a:ln w="1260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" y="1295280"/>
            <a:ext cx="1143000" cy="1752840"/>
          </a:xfrm>
          <a:prstGeom prst="rect">
            <a:avLst/>
          </a:prstGeom>
          <a:noFill/>
          <a:ln w="1260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4920" y="12952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96080" y="12952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00200" y="1295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rvice Pro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19320" y="220968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467480" y="220968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14400" y="3276720"/>
            <a:ext cx="152280" cy="1522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848720" y="3276720"/>
            <a:ext cx="152280" cy="1522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676520" y="327672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162920" y="327672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67280" y="3809880"/>
            <a:ext cx="15264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895480" y="3809880"/>
            <a:ext cx="15264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76520" y="3809880"/>
            <a:ext cx="152280" cy="1526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09880"/>
            <a:ext cx="152280" cy="1526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62920" y="4267080"/>
            <a:ext cx="152280" cy="1526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791320" y="4267080"/>
            <a:ext cx="152280" cy="1526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971800" y="4267080"/>
            <a:ext cx="152280" cy="1526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819520" y="4267080"/>
            <a:ext cx="152280" cy="1526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752480" y="4267080"/>
            <a:ext cx="152640" cy="1526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943600" y="4267080"/>
            <a:ext cx="152280" cy="15264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133720" y="4267080"/>
            <a:ext cx="15228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14600" y="4267080"/>
            <a:ext cx="15228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971800" y="518148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943600" y="51814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09880" y="533412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PLS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248520" y="533412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PLS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162920" y="5105520"/>
            <a:ext cx="152280" cy="1522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791320" y="5105520"/>
            <a:ext cx="152280" cy="1522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971800" y="5105520"/>
            <a:ext cx="152280" cy="1522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943600" y="5105520"/>
            <a:ext cx="152280" cy="15228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09880" y="5105520"/>
            <a:ext cx="15264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95680" y="5105520"/>
            <a:ext cx="15264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05520" y="5105520"/>
            <a:ext cx="1522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553080" y="5105520"/>
            <a:ext cx="15264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76320" y="5334120"/>
            <a:ext cx="3276000" cy="685800"/>
            <a:chOff x="76320" y="5334120"/>
            <a:chExt cx="3276000" cy="685800"/>
          </a:xfrm>
        </p:grpSpPr>
        <p:sp>
          <p:nvSpPr>
            <p:cNvPr id="445" name=""/>
            <p:cNvSpPr/>
            <p:nvPr/>
          </p:nvSpPr>
          <p:spPr>
            <a:xfrm>
              <a:off x="228600" y="5486760"/>
              <a:ext cx="151920" cy="152280"/>
            </a:xfrm>
            <a:prstGeom prst="rect">
              <a:avLst/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0880" y="5410440"/>
              <a:ext cx="274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ntenance Entity Po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28600" y="5715360"/>
              <a:ext cx="15192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0880" y="5639040"/>
              <a:ext cx="297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ntenance Intermediate Po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320" y="5334120"/>
              <a:ext cx="297144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304920" y="609588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Location of MEPs and MIPs is dependent on Business Models &amp; Deployment 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153280" y="3200400"/>
            <a:ext cx="76320" cy="838080"/>
          </a:xfrm>
          <a:custGeom>
            <a:avLst/>
            <a:gdLst>
              <a:gd name="textAreaLeft" fmla="*/ 0 w 76320"/>
              <a:gd name="textAreaRight" fmla="*/ 2736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153280" y="411480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05920" y="441972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etwork O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305920" y="359712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rvice O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696080" y="487692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772400" y="495288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W/MPLS   O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9144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Arial"/>
              </a:rPr>
              <a:t>Service/Network OAM – 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Arial"/>
              </a:rPr>
              <a:t>How does it come togeth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09480" y="1447920"/>
            <a:ext cx="8001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914400" y="1828800"/>
            <a:ext cx="6781320" cy="2647440"/>
            <a:chOff x="914400" y="1828800"/>
            <a:chExt cx="6781320" cy="2647440"/>
          </a:xfrm>
        </p:grpSpPr>
        <p:sp>
          <p:nvSpPr>
            <p:cNvPr id="460" name=""/>
            <p:cNvSpPr/>
            <p:nvPr/>
          </p:nvSpPr>
          <p:spPr>
            <a:xfrm>
              <a:off x="914400" y="1828800"/>
              <a:ext cx="6781320" cy="8823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14400" y="2790360"/>
              <a:ext cx="6781320" cy="16858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430000" y="3673080"/>
              <a:ext cx="1194840" cy="687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thernet link O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624840" y="3673080"/>
              <a:ext cx="1596240" cy="687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PW/MP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O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221440" y="3673080"/>
              <a:ext cx="1357560" cy="687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oSONET O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579000" y="3673080"/>
              <a:ext cx="878040" cy="6876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Other O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30000" y="2951280"/>
              <a:ext cx="4628160" cy="39816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Network O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30000" y="2150280"/>
              <a:ext cx="4628160" cy="396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Service O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92880" y="3673080"/>
              <a:ext cx="1393560" cy="62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"/>
                  <a:ea typeface="SimSun"/>
                </a:rPr>
                <a:t>Transport Link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92880" y="2951280"/>
              <a:ext cx="119808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"/>
                  <a:ea typeface="SimSun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92880" y="2150280"/>
              <a:ext cx="119808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800000"/>
                  </a:solidFill>
                  <a:latin typeface="Arial"/>
                  <a:ea typeface="SimSun"/>
                </a:rPr>
                <a:t>Servi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457200" y="51055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OAM Interworking possible to utilize OAM across 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However, each layer must support OAM capabilities independ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3520" y="2133360"/>
            <a:ext cx="8316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.3/13</a:t>
            </a:r>
            <a:br>
              <a:rPr sz="3600"/>
            </a:br>
            <a:br>
              <a:rPr sz="16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tenance Entity Points (MEP)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amp;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tenance Intermediate Points (MIP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169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00"/>
                </a:solidFill>
                <a:latin typeface="Arial"/>
              </a:rPr>
              <a:t>Networks using MEPs &amp; MIP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768240" y="2590920"/>
            <a:ext cx="7696080" cy="2133360"/>
            <a:chOff x="768240" y="2590920"/>
            <a:chExt cx="7696080" cy="2133360"/>
          </a:xfrm>
        </p:grpSpPr>
        <p:sp>
          <p:nvSpPr>
            <p:cNvPr id="475" name=""/>
            <p:cNvSpPr/>
            <p:nvPr/>
          </p:nvSpPr>
          <p:spPr>
            <a:xfrm>
              <a:off x="1606320" y="259092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911240" y="25909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520720" y="259092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25640" y="25909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20520" y="259092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435120" y="259092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740040" y="25909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25840" y="25909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30760" y="25909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340240" y="25909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645160" y="25909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54640" y="25909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559560" y="25909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69040" y="25909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473960" y="25909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920520" y="2590920"/>
              <a:ext cx="7391520" cy="2133360"/>
              <a:chOff x="920520" y="2590920"/>
              <a:chExt cx="7391520" cy="2133360"/>
            </a:xfrm>
          </p:grpSpPr>
          <p:sp>
            <p:nvSpPr>
              <p:cNvPr id="491" name=""/>
              <p:cNvSpPr/>
              <p:nvPr/>
            </p:nvSpPr>
            <p:spPr>
              <a:xfrm>
                <a:off x="1758960" y="2590920"/>
                <a:ext cx="0" cy="21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606320" y="2590920"/>
                <a:ext cx="0" cy="21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063520" y="2590920"/>
                <a:ext cx="0" cy="21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911240" y="2590920"/>
                <a:ext cx="0" cy="21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673360" y="2590920"/>
                <a:ext cx="0" cy="21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520720" y="2590920"/>
                <a:ext cx="0" cy="21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977920" y="2590920"/>
                <a:ext cx="0" cy="21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825640" y="2590920"/>
                <a:ext cx="0" cy="21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073160" y="2590920"/>
                <a:ext cx="0" cy="21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920520" y="2590920"/>
                <a:ext cx="0" cy="21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587760" y="2590920"/>
                <a:ext cx="0" cy="21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435120" y="2590920"/>
                <a:ext cx="0" cy="21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892320" y="2590920"/>
                <a:ext cx="0" cy="21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740040" y="2590920"/>
                <a:ext cx="0" cy="21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578120" y="2590920"/>
                <a:ext cx="0" cy="21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425840" y="2590920"/>
                <a:ext cx="0" cy="21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883040" y="2590920"/>
                <a:ext cx="0" cy="21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730760" y="2590920"/>
                <a:ext cx="0" cy="21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492520" y="2590920"/>
                <a:ext cx="0" cy="21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340240" y="2590920"/>
                <a:ext cx="0" cy="21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797440" y="2590920"/>
                <a:ext cx="0" cy="21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645160" y="2590920"/>
                <a:ext cx="0" cy="21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406920" y="2590920"/>
                <a:ext cx="0" cy="21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54640" y="2590920"/>
                <a:ext cx="0" cy="21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711840" y="2590920"/>
                <a:ext cx="0" cy="21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559560" y="2590920"/>
                <a:ext cx="0" cy="21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321320" y="2590920"/>
                <a:ext cx="0" cy="21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169040" y="2590920"/>
                <a:ext cx="0" cy="21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626240" y="2590920"/>
                <a:ext cx="0" cy="21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473960" y="2590920"/>
                <a:ext cx="0" cy="21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312040" y="2590920"/>
                <a:ext cx="0" cy="21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8159760" y="2590920"/>
                <a:ext cx="0" cy="213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>
              <a:off x="8159760" y="259092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073160" y="4724280"/>
              <a:ext cx="5331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92320" y="4724280"/>
              <a:ext cx="5335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626240" y="4724280"/>
              <a:ext cx="5335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063520" y="4724280"/>
              <a:ext cx="457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77920" y="4724280"/>
              <a:ext cx="457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883040" y="4724280"/>
              <a:ext cx="457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797440" y="4724280"/>
              <a:ext cx="457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711840" y="4724280"/>
              <a:ext cx="457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58960" y="472428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673360" y="472428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68240" y="472428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87760" y="472428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578120" y="472428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492520" y="472428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406920" y="472428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21320" y="4724280"/>
              <a:ext cx="152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8312040" y="4724280"/>
              <a:ext cx="152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236160" y="1219320"/>
            <a:ext cx="8754480" cy="1295280"/>
            <a:chOff x="236160" y="1219320"/>
            <a:chExt cx="8754480" cy="1295280"/>
          </a:xfrm>
        </p:grpSpPr>
        <p:sp>
          <p:nvSpPr>
            <p:cNvPr id="542" name=""/>
            <p:cNvSpPr/>
            <p:nvPr/>
          </p:nvSpPr>
          <p:spPr>
            <a:xfrm>
              <a:off x="236160" y="1219320"/>
              <a:ext cx="136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Customer</a:t>
              </a:r>
              <a:br>
                <a:rPr sz="1800"/>
              </a:b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Equi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627320" y="1219320"/>
              <a:ext cx="136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Customer</a:t>
              </a:r>
              <a:br>
                <a:rPr sz="1800"/>
              </a:b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Equi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065680" y="1219320"/>
              <a:ext cx="137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6600"/>
                  </a:solidFill>
                  <a:latin typeface="Arial"/>
                </a:rPr>
                <a:t>Operator A</a:t>
              </a:r>
              <a:br>
                <a:rPr sz="1800"/>
              </a:br>
              <a:r>
                <a:rPr b="1" lang="en-US" sz="1800" spc="-1" strike="noStrike">
                  <a:solidFill>
                    <a:srgbClr val="cc6600"/>
                  </a:solidFill>
                  <a:latin typeface="Arial"/>
                </a:rPr>
                <a:t>Brid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342400" y="1219320"/>
              <a:ext cx="137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Operator B</a:t>
              </a:r>
              <a:br>
                <a:rPr sz="1800"/>
              </a:br>
              <a:r>
                <a:rPr b="1" lang="en-US" sz="1800" spc="-1" strike="noStrike">
                  <a:solidFill>
                    <a:srgbClr val="660033"/>
                  </a:solidFill>
                  <a:latin typeface="Arial"/>
                </a:rPr>
                <a:t>Brid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093080" y="1905120"/>
              <a:ext cx="609840" cy="609480"/>
            </a:xfrm>
            <a:prstGeom prst="rect">
              <a:avLst/>
            </a:prstGeom>
            <a:solidFill>
              <a:srgbClr val="ff66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321680" y="1905120"/>
              <a:ext cx="15264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47432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9308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178680" y="1905120"/>
              <a:ext cx="609840" cy="609480"/>
            </a:xfrm>
            <a:prstGeom prst="rect">
              <a:avLst/>
            </a:prstGeom>
            <a:solidFill>
              <a:srgbClr val="ff66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407280" y="1905120"/>
              <a:ext cx="15264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5992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7868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64280" y="1905120"/>
              <a:ext cx="609840" cy="609480"/>
            </a:xfrm>
            <a:prstGeom prst="rect">
              <a:avLst/>
            </a:prstGeom>
            <a:solidFill>
              <a:srgbClr val="ff66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492880" y="1905120"/>
              <a:ext cx="15264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64552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26428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349880" y="1905120"/>
              <a:ext cx="609840" cy="609480"/>
            </a:xfrm>
            <a:prstGeom prst="rect">
              <a:avLst/>
            </a:prstGeom>
            <a:solidFill>
              <a:srgbClr val="ff66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78480" y="1905120"/>
              <a:ext cx="15264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73112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34988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359520" y="1905120"/>
              <a:ext cx="609480" cy="60948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588120" y="1905120"/>
              <a:ext cx="15228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74040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5952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45120" y="1905120"/>
              <a:ext cx="609480" cy="60948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73720" y="1905120"/>
              <a:ext cx="15228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2600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44512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083800" y="1905120"/>
              <a:ext cx="609480" cy="609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312400" y="1905120"/>
              <a:ext cx="15228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46468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08380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0000" y="1905120"/>
              <a:ext cx="609480" cy="6094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530720" y="1905120"/>
              <a:ext cx="609480" cy="60948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759320" y="1905120"/>
              <a:ext cx="15228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68600" y="1905120"/>
              <a:ext cx="152280" cy="6094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40000" y="2209680"/>
              <a:ext cx="815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92088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4000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1160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530720" y="2133720"/>
              <a:ext cx="22860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1758960" y="1905120"/>
              <a:ext cx="152280" cy="609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1073160" y="2819520"/>
            <a:ext cx="7086600" cy="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682640" y="3505320"/>
            <a:ext cx="57150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82640" y="3962520"/>
            <a:ext cx="205740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578480" y="3962520"/>
            <a:ext cx="2819160" cy="0"/>
          </a:xfrm>
          <a:prstGeom prst="line">
            <a:avLst/>
          </a:prstGeom>
          <a:ln w="2844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30360" y="3048120"/>
            <a:ext cx="152280" cy="15228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550280" y="3048120"/>
            <a:ext cx="152280" cy="15228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96840" y="2743200"/>
            <a:ext cx="152640" cy="1522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473960" y="2743200"/>
            <a:ext cx="152280" cy="1522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425840" y="3429000"/>
            <a:ext cx="152640" cy="152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740040" y="3429000"/>
            <a:ext cx="152640" cy="152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730760" y="3886200"/>
            <a:ext cx="152280" cy="1522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340240" y="3886200"/>
            <a:ext cx="152640" cy="1522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645160" y="3886200"/>
            <a:ext cx="152280" cy="1522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254640" y="3886200"/>
            <a:ext cx="152640" cy="1522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559560" y="3886200"/>
            <a:ext cx="152280" cy="1522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69040" y="3886200"/>
            <a:ext cx="152640" cy="152280"/>
          </a:xfrm>
          <a:prstGeom prst="ellipse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435480" y="3886200"/>
            <a:ext cx="152280" cy="1522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825640" y="3886200"/>
            <a:ext cx="152640" cy="1522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21080" y="3886200"/>
            <a:ext cx="152280" cy="1522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911240" y="3886200"/>
            <a:ext cx="152640" cy="15228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682640" y="3886200"/>
            <a:ext cx="152640" cy="152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64080" y="3886200"/>
            <a:ext cx="152280" cy="152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502160" y="3886200"/>
            <a:ext cx="152280" cy="15228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682640" y="3429000"/>
            <a:ext cx="152640" cy="152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606680" y="2743200"/>
            <a:ext cx="152280" cy="1522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7397640" y="3886200"/>
            <a:ext cx="152640" cy="15228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97640" y="3429000"/>
            <a:ext cx="152640" cy="152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083440" y="2743200"/>
            <a:ext cx="152640" cy="1522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44560" y="2666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05640" y="320040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E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6480" y="4114800"/>
            <a:ext cx="8146800" cy="609480"/>
            <a:chOff x="6480" y="4114800"/>
            <a:chExt cx="8146800" cy="609480"/>
          </a:xfrm>
        </p:grpSpPr>
        <p:sp>
          <p:nvSpPr>
            <p:cNvPr id="615" name=""/>
            <p:cNvSpPr/>
            <p:nvPr/>
          </p:nvSpPr>
          <p:spPr>
            <a:xfrm>
              <a:off x="990720" y="4419720"/>
              <a:ext cx="5331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543800" y="4419720"/>
              <a:ext cx="5335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809880" y="441972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905120" y="4419720"/>
              <a:ext cx="6094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819520" y="4419720"/>
              <a:ext cx="6094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800600" y="441972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15000" y="441972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629400" y="441972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001000" y="4343400"/>
              <a:ext cx="152280" cy="1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467480" y="4343400"/>
              <a:ext cx="152640" cy="1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010280" y="4343400"/>
              <a:ext cx="152640" cy="1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553080" y="4343400"/>
              <a:ext cx="152640" cy="1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095880" y="4343400"/>
              <a:ext cx="152640" cy="1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638680" y="4343400"/>
              <a:ext cx="152640" cy="1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181480" y="4343400"/>
              <a:ext cx="152640" cy="1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724280" y="4343400"/>
              <a:ext cx="152640" cy="1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267080" y="4343400"/>
              <a:ext cx="152640" cy="1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733920" y="4343400"/>
              <a:ext cx="152280" cy="1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276720" y="4343400"/>
              <a:ext cx="152280" cy="1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819520" y="4343400"/>
              <a:ext cx="152280" cy="1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362320" y="4343400"/>
              <a:ext cx="152280" cy="1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905120" y="4343400"/>
              <a:ext cx="152280" cy="1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47920" y="4343400"/>
              <a:ext cx="152280" cy="1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914400" y="4343400"/>
              <a:ext cx="152280" cy="1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80" y="4114800"/>
              <a:ext cx="758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FuturaA Bk BT"/>
                </a:rPr>
                <a:t>ETH 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FuturaA Bk BT"/>
                </a:rPr>
                <a:t>SR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62120" y="41148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698400" y="1828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uturaA Bk BT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689120" y="1828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uturaA Bk BT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603520" y="1828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uturaA Bk BT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517920" y="1828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uturaA Bk BT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08640" y="1828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uturaA Bk BT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423040" y="1828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uturaA Bk BT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337440" y="1828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uturaA Bk BT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51840" y="1828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uturaA Bk BT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242200" y="1828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FuturaA Bk BT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6320" y="5638680"/>
            <a:ext cx="883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MEPs and MIPs used to identify Maintenance Entities (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MEs identifies what need to be mana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80880" y="50292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intenance Entity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0880" y="5257800"/>
            <a:ext cx="29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intenance Intermediate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6320" y="4952880"/>
            <a:ext cx="297180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" y="5334120"/>
            <a:ext cx="152280" cy="152280"/>
          </a:xfrm>
          <a:prstGeom prst="ellipse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28600" y="5105520"/>
            <a:ext cx="152280" cy="15228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990720" y="1828800"/>
            <a:ext cx="7010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ual Relay Mod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ngle Integrated Provider Dev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2T22:06:13Z</dcterms:created>
  <dc:creator>Dinesh Mohan</dc:creator>
  <dc:description/>
  <dc:language>en-US</dc:language>
  <cp:lastModifiedBy>mohand</cp:lastModifiedBy>
  <dcterms:modified xsi:type="dcterms:W3CDTF">2004-03-16T13:56:04Z</dcterms:modified>
  <cp:revision>156</cp:revision>
  <dc:subject/>
  <dc:title>IETF59-VPLS-OAM-V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50459824</vt:r8>
  </property>
  <property fmtid="{D5CDD505-2E9C-101B-9397-08002B2CF9AE}" pid="3" name="_AuthorEmail">
    <vt:lpwstr>mohand@americasm01.nt.com</vt:lpwstr>
  </property>
  <property fmtid="{D5CDD505-2E9C-101B-9397-08002B2CF9AE}" pid="4" name="_AuthorEmailDisplayName">
    <vt:lpwstr>Mohan, Dinesh [CAR:1A11:EXCH]</vt:lpwstr>
  </property>
  <property fmtid="{D5CDD505-2E9C-101B-9397-08002B2CF9AE}" pid="5" name="_EmailSubject">
    <vt:lpwstr>Slides for tomorrow on OAM</vt:lpwstr>
  </property>
  <property fmtid="{D5CDD505-2E9C-101B-9397-08002B2CF9AE}" pid="6" name="_PreviousAdHocReviewCycleID">
    <vt:r8>776681118</vt:r8>
  </property>
</Properties>
</file>