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64E-B682-48E0-829D-67C5D971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7B5-570A-4A67-984F-0EE151F4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F78-E705-4499-B1CB-599C1B42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5ED-6240-4E7B-83EC-205A5D59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8B33-7B40-414B-83BE-B457D1F2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69C8-6846-44A8-9CCC-28F6D62F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1BAA-9C0A-46E7-B0F2-3469138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763B-9FA5-4531-A31A-3BD26808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1B01-4B32-4E8A-AF4F-95445DDD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096-B687-44A7-88A9-95937AAF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C158-E91D-449D-A381-D773080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F6B-E2FF-4A66-B311-6648A44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B069-3CFF-4EF1-BB1D-1C50FD1C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9F7-8B91-4638-90E5-1B402D0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50E-D181-4CAB-B81A-7F89D812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F894-8159-46BC-9BAB-578B0786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51FA-3A7B-4D1A-B41A-3E7EB27B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EB6-AA1D-44D6-BBA0-ECEE5EC8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970-DF9E-4F8C-88DA-97BC0F27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1FA-30F0-4842-9E72-E4945FFB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79A-D946-45EE-9F47-94B90225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A56-1AC9-4D2E-B11A-D8BB4995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966-6D0E-41FD-99B5-EA26C595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C23-CFAB-4E40-AD6B-0C5AA16A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BA0F-4AF0-4D08-B8B3-345189CD52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CA74-9804-4852-ACE6-EEF60AAFDA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IETF Bridge WG Transition to IEEE 802.1 W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 Harr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Romasc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n2004 – IEEE Interim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nard Aboba (IAB/IEEE liaison), Bert Wijnen (IETF Area Director), Dave Harrington (Bridge EG co-chair), Dan Romascanu (Bridge and Hubmib co-chair) meet with IEEE 802 Executive Committee and 802.x chairs to discuss cross-SDO co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oint “default” liaisons in 802 and IET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organization review of new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dge MIB WG efforts will transition to 802.1 (pil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TF MIB Doctors will provide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Advisor and MIB Doctor advice accepted in 802.1 W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 will develop management controls, with SMIv2-compliant MIB module as an illu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802.1 MIB modules will be published in ASCII format, free of charge, at http://www.ieee802.org/1/pages/MIB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B Doctor reviews done for 802.1AB (drafts 9, 10, 11) and 802.1A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AB and 802.1AE documents updated to match IETF mib-review-guidelines (to a deg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IEEE standards work will include the corresponding MIB mod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on new MIB modules for existing IEEE standards, and IEEE updates of existing IETF MIB modules will require following IEEE PAR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s MIB module proposals and 5-criteria are now being considered for a P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 0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 RFC1493 update, RFC2674 update, RSTP-M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0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dge WG documents to Proposed 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B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 0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a (802.1X update)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E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publishes 802.1af standard, with MIB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sion Stat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imeliness and effectiveness of standard MIB module 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the editing/publishing work 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MIB module development to the content exp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cross-SDO standardization of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idge/802.1 Transition Go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edited by the 802.1 edit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available when 802.1 technology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 experts consider device, network and service mgmt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modules developed by content expe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IETF/IEEE technology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’s Sit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dge MIB modules years behind approved 802.1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s (2002) – no standard MIB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t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u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v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w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ETF in progress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x (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ncluding MIB module (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AB (~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including MIB module (~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200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’s Sit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work not being accepted in Bridge W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ing for existing work to be comple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s MIB module and other MIB modules not being started on a timely basis in IETF; cannot complete on a timely ba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id We Get He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TF NM experts write standard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e-spread deployment of MIB and SNMP for I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SG: protocol WGs should write own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: protocol-independent management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te 9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/voice converg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ross-SDO liaison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id We Get Her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rly 0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matic increase in IETF standard MIB modules to manage non-IETF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00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Os for non-IETF technologies encouraged to write their own MIB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TF willing to help MIB module development via mib-review-guidelines, MIB design advice, MIB Doctor reviews, etc. O&amp;M area working to clarify the nature and amount of help we can prov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vailable Op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dge WG contin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SNMP experts involved in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- Unsatisfactory MIB module timel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- Personnel must attend both IETF and IEEE to understand technology to do timely MIB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02.1 WG takes on 802.1 mi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IEEE process promotes com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Timely delivery of MIB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– Personnel only need attend IEEE mee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 - IETF assists with MIB module design advice, informal MIB Doctor review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us 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has been discussed by IEEE and IETF le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ition is proceeding smooth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02.1 transition may take a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editors must attend IEEE mee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B editors need to learn IEEE style, starting projects, voting rul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3:03:51Z</dcterms:created>
  <dc:creator>David Harrington</dc:creator>
  <dc:description/>
  <dc:language>en-US</dc:language>
  <cp:lastModifiedBy>David Harrington</cp:lastModifiedBy>
  <dcterms:modified xsi:type="dcterms:W3CDTF">2004-11-02T22:06:50Z</dcterms:modified>
  <cp:revision>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