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3D8-F4B8-42B2-B6C0-79B78A6D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B55-6E91-47C0-9ABA-F3D3B9C8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67A-E2BA-41B4-84A4-C80FA0ED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AD7-A08C-4B88-B641-F7C5EA55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3545-BA95-4991-BE19-287B8861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F00F-7A59-444A-B2E1-F667DDE0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B893-BA54-4E09-A2F4-AB7D77D1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FAC5-73CB-4CE9-BD17-158415F2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1EE8-898D-4568-8A69-546FBEB9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508C-9648-411B-A811-EBD0ED3B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B9D7-AB56-4D75-9D30-E0F5BEDE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2B1-2B73-4F4A-9F6A-CA62BF1F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9880-3841-4D91-8C30-1DDFC356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070D-CA59-4E77-A9FA-DD177D9F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1086-9B42-42A8-9C85-99BB3A21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2D93-7321-4865-817A-59F4CA3D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D354-893A-4086-BF78-AF727241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0D9-094A-40B7-A15F-7F128CB1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262-09AC-40E7-8FA4-972F26E5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D89-F354-4B7B-B1DA-918B88D6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C9E-12B8-4AA2-9D6F-95F74665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15D-A6B2-4438-BE5D-2D98FD1C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85E-89E6-4F29-B14C-02E7066F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031-FAEA-4D67-8705-E03B8482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3D28-01C6-4C84-BC29-502FC536DF9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E9B4-25AF-4A67-8DE8-047596830B2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IETF Bridge WG Transition to IEEE 802.1 W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e Harr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Romasc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gre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n2004 – IEEE Interim Me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nard Aboba (IAB/IEEE liaison), Bert Wijnen (IETF Area Director), Dave Harrington (Bridge EG co-chair), Dan Romascanu (Bridge and Hubmib co-chair) meet with IEEE 802 Executive Committee and 802.x chairs to discuss cross-SDO coop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oint “default” liaisons in 802 and IET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organization review of new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dge MIB WG efforts will transition to 802.1 (pilo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TF MIB Doctors will provide r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gre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cal Advisor and MIB Doctor advice accepted in 802.1 W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 will develop management controls, with SMIv2-compliant MIB module as an illu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 802.1 MIB modules will be published in ASCII format, free of charge, at http://www.ieee802.org/1/pages/MIBS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B Doctor reviews done for 802.1AB (drafts 9, 10, 11) and 802.1A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AB and 802.1AE documents updated to match IETF mib-review-guidelines (to a deg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gre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IEEE standards work will include the corresponding MIB mod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on new MIB modules for existing IEEE standards, and IEEE updates of existing IETF MIB modules will require following IEEE PAR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2.1s MIB module proposals and 5-criteria are now being considered for a P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du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v 0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sh RFC1493 update, RFC2674 update, RSTP-M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05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dge WG documents to Proposed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publishes 802.1AB standard, with MIB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 05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publishes 802.1aa (802.1X update) with MIB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publishes 802.1AE standard, with MIB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publishes 802.1af standard, with MIB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ision Stat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timeliness and effectiveness of standard MIB modul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e the editing/publishing work lo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ition MIB module development to the content expe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cross-SDO standardization of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ridge/802.1 Transition Goa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B modules edited by the 802.1 edi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B modules available when 802.1 technology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2.1 experts consider device, network and service mgmt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B modules developed by content expe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IETF/IEEE technology sha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day’s Situ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dge MIB modules years behind approved 802.1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s (2002) – no standard MIB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t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ETF in progres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u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ETF in progres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v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ETF in progres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w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ETF in progres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x (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ncluding MIB module (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AB (~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ncluding MIB module (~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day’s Situ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work not being accepted in Bridge W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iting for existing work to be comple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s MIB module and other MIB modules not being started on a timely basis in IETF; cannot complete on a timely ba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id We Get Her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ly 90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TF NM experts write standard MIB mo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90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e-spread deployment of MIB and SNMP for IP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SG: protocol WGs should write own MIB mo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: protocol-independent management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te 90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/voice converg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ross-SDO liaison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id We Get Her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ly 00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matic increase in IETF standard MIB modules to manage non-IETF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00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DOs for non-IETF technologies encouraged to write their own MIB mo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TF willing to help MIB module development via mib-review-guidelines, MIB design advice, MIB Doctor reviews, etc. O&amp;M area working to clarify the nature and amount of help we can prov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vailable Op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dge WG contin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 - SNMP experts involved in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 - Unsatisfactory MIB module timel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 - Personnel must attend both IETF and IEEE to understand technology to do timely MIB mo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 WG takes on 802.1 mi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 - IEEE process promotes compl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 - Timely delivery of MIB mo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 – Personnel only need attend IEEE mee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 - IETF assists with MIB module design advice, informal MIB Doctor review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us 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ition has been discussed by IEEE and IETF le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ition is proceeding smooth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2.1 transition may take a y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B editors must attend IEEE meet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B editors need to learn IEEE style, starting projects, voting rule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13:03:51Z</dcterms:created>
  <dc:creator>David Harrington</dc:creator>
  <dc:description/>
  <dc:language>en-US</dc:language>
  <cp:lastModifiedBy>David Harrington</cp:lastModifiedBy>
  <dcterms:modified xsi:type="dcterms:W3CDTF">2004-11-02T22:06:50Z</dcterms:modified>
  <cp:revision>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