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8CE-6853-48D7-BFB9-25FFE55E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155-7744-4B7C-B49C-E01CB3B3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4BA-3799-4C17-9D5B-B9E91AED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55F-1DCE-4BDE-A9B9-5C485E03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74E0-82A5-4A27-9ACE-EF1AB37D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6F48-5125-4EAF-9EC4-403F0419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C0D5-B75A-4856-9DBD-29FE975D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8778-8544-47F7-83ED-1D02F0E8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7DA0-D353-4C90-9B9E-E468056E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EF3F-2A4D-4A12-A75D-825531F7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590F-FCA4-4BA4-A7A1-21866444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248-9381-4D00-AAAE-D092AF2E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A29F-EEBC-403E-AA05-F8D12FF9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452B-FD12-4BF3-A3A0-560034B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3945-567B-4E46-A8F5-619CA1F6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5D2F-6C67-4BA0-85E6-5ECBC86D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F9C4-F891-4212-9AC0-92105E9C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D25-1AEF-4EF8-8C71-C898E330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FCC-158A-4881-8F24-5897E0FD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DA7-A6C8-4875-8EE9-0544BD87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4E2-B47B-498A-AE11-977DF11B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11A-9334-45EB-B603-61B48EAE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927-23E6-4AD0-910B-985C3706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229-F047-42D1-85CD-63F002C1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70E5-7A66-4287-B51E-80FF3BB793E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6102-8E25-4686-BDE0-8B42AACC979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IETF Bridge WG Transition to IEEE 802.1 W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Harr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Romasc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n2004 – IEEE Interim Me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nard Aboba (IAB/IEEE liaison), Bert Wijnen (IETF Area Director), Dave Harrington (Bridge EG co-chair), Dan Romascanu (Bridge and Hubmib co-chair) meet with IEEE 802 Executive Committee and 802.x chairs to discuss cross-SDO coop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oint “default” liaisons in 802 and IET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organization review of new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dge MIB WG efforts will transition to 802.1 (pilo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TF MIB Doctors will provide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Advisor and MIB Doctor advice accepted in 802.1 W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 will develop management controls, with SMIv2-compliant MIB module as an illu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802.1 MIB modules will be published in ASCII format, free of charge, at http://www.ieee802.org/1/pages/MIBS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B Doctor reviews done for 802.1AB (drafts 9, 10, 11) and 802.1A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AB and 802.1AE documents updated to match IETF mib-review-guidelines (to a deg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IEEE standards work will include the corresponding MIB mod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on new MIB modules for existing IEEE standards, and IEEE updates of existing IETF MIB modules will require following IEEE PAR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2.1s MIB module proposals and 5-criteria are now being considered for a P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du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v 0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 RFC1493 update, RFC2674 update, RSTP-M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05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dge WG documents to Proposed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publishes 802.1AB standard, with MIB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 05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publishes 802.1aa (802.1X update) with MIB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publishes 802.1AE standard, with MIB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publishes 802.1af standard, with MIB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sion Stat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timeliness and effectiveness of standard MIB modul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e the editing/publishing work lo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ition MIB module development to the content expe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cross-SDO standardization of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ridge/802.1 Transition Goa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modules edited by the 802.1 ed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modules available when 802.1 technology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2.1 experts consider device, network and service mgmt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modules developed by content expe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IETF/IEEE technology 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day’s Situ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dge MIB modules years behind approved 802.1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s (2002) – no standard MIB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t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ETF in progre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u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ETF in progre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v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ETF in progre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w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ETF in progre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x (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ncluding MIB module (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AB (~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ncluding MIB module (~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day’s Situ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work not being accepted in Bridge W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iting for existing work to be comple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s MIB module and other MIB modules not being started on a timely basis in IETF; cannot complete on a timely ba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id We Get Her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9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TF NM experts write standard MIB mo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9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e-spread deployment of MIB and SNMP for I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SG: protocol WGs should write own MIB mo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: protocol-independent management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te 9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/voice converg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ross-SDO liaison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id We Get Her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0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matic increase in IETF standard MIB modules to manage non-IETF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0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DOs for non-IETF technologies encouraged to write their own MIB mo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TF willing to help MIB module development via mib-review-guidelines, MIB design advice, MIB Doctor reviews, etc. O&amp;M area working to clarify the nature and amount of help we can prov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vailable Op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dge WG contin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- SNMP experts involved in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- Unsatisfactory MIB module timel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- Personnel must attend both IETF and IEEE to understand technology to do timely MIB mo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 WG takes on 802.1 mi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- IEEE process promotes compl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- Timely delivery of MIB mo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– Personnel only need attend IEEE mee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- IETF assists with MIB module design advice, informal MIB Doctor review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us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ition has been discussed by IEEE and IETF le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ition is proceeding smooth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2.1 transition may take a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editors must attend IEEE meet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editors need to learn IEEE style, starting projects, voting rul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3:03:51Z</dcterms:created>
  <dc:creator>David Harrington</dc:creator>
  <dc:description/>
  <dc:language>en-US</dc:language>
  <cp:lastModifiedBy>David Harrington</cp:lastModifiedBy>
  <dcterms:modified xsi:type="dcterms:W3CDTF">2004-11-02T22:06:50Z</dcterms:modified>
  <cp:revision>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