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9BDAD8F-5879-4919-9B98-CB84A090552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B4E1F8F-EF58-4C51-A576-1BA2BBAED81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771CB6E-262C-4019-9B6B-DA9882A0214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516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3059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ivity Fault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ft 0.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4800240"/>
            <a:ext cx="7027920" cy="1569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n Fin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0680" y="1623960"/>
            <a:ext cx="78246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3160" y="1508040"/>
            <a:ext cx="856440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Customers’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7200" y="1471680"/>
            <a:ext cx="858384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 Level: (ME Level) One of 8 levels of concurrent CFM oper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End Point: (MEP) Active component.  Faces other MEPs.  0 or 1 per bridge port, VLAN, ME Level, and direction (into or out of bridge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Intermediate Point: (MIP) Responsive component.  Ephemeral.  Is at some ME Level. 0 or 1 per bridge port and VLAN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: (ME) A point-to-point relationship between two MEPs, with 0 or more MIPs in between. Is at some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Each MEP is associated with a VLAN, but VLAN and/or encapsulation mappings may associate cause VLANs to be different for MEPs and/or MIPs in the same ME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E Group: (MEG) A full mesh of MEs among two or more MEPs, along with their current sets of MIP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ice Instance: (SI) The union of ME Groups whose MEPs and MIPs, at some bridge port, can be distinguished only by their ME Levels (and not by VLAN)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ntenance Domain: A collection of ME Groups, all at the same ME Level, but from different Service Instanc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65180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ing CFM in a Bridge: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30208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ht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184480"/>
            <a:ext cx="845820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8371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3: Defini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4: Abbrevi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8: Principles of CF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19: CFM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I: CFM Protocol Desig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: Alternatives to Spanning Tree Protoco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Z: Running Comment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uses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Simple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38320" y="1371600"/>
            <a:ext cx="648180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989840" cy="32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“B2” in 18-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41664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ce through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014880" cy="41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-View of integrated U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404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tinuity Check Message (CC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Message (LB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oopback Reply (LB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Message (LTM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nktrace Reply (LT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arm Indication Signal (AI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periodical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to all MEPs at sender’s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MEG Name (globally unique) and MIP ID (a small integer) to ensure proper connectivit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rries its state and bridge port’s stat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new) Carries list of MEPs at the next-higher ME Level that are “behind” sender’s ME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by command from MIB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nicast to a MEP or MIP in same ME Group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ponse is a Loopback Reply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ME Group ID not correct, no response should be genera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ply can/should be done in hardwar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back Message and Loopback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initiates a Linktrace Message with a MEP (or other?) MAC address as the targ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ridges (MIPs?) along the path respond with Linktrace Replie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itiating MEP can assemble Linktrace Replies into an ordered sequence of MIP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trace Message and Linktrace Re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 sends AIS “backward” (opposite to CCM direction) to indicate a failure to the higher ME Level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IS includes a list of MEPs at higher ME Level that may be affect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’s MIP promotes AIS to its own ME Level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Ps receiving AISs suppress fault alarms for MEPs listed in AI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use structure is insufficiently matched to 802.1D, 802.1Q, P802.1a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5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Even the distinction between Clauses 18 and 19 has not been clearly maintained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ex J is mislabeled as a second Annex I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ulticast “Connectivity Check Trigger” was suggested at the Q.3/13 meeting but has not been incorporated, ye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n inadequacies of Draft 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CCM Trigger: MEP sends trigger to cause other MEPs to send CCM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urn Defect Indication: (RDI) Sent in opposite direction to AIS to ensure that the other end(s) of the failed Maintenance Entities agree that the ME has fail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Message Typ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uity Check Mess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437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arm Indication Sig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9437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S Ces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888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882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e Brain” vs. Por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340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Message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Destination MAC Addr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1317600"/>
            <a:ext cx="51735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78000" y="2971800"/>
            <a:ext cx="830880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 Group Identifier TL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2548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 of AIS/RDI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71516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ilities for ME Group Na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88356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-Specific TLV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12628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P List (needed for AI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2994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collects MEP list from both dire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eft” list given to highest “right” MEP under MIP for transmission in CCMs, right list given to highest left ME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en MEP A detects loss of MEPs B and C, it passes list of MEP B’s and MEP C’s higher MEPs up to its MIP, which is at the same ME Level as the lis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us, MIP issuing AISs can pass list of lost MEPs at its own ME Level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22492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s same information makes Linktrace work (when looking for MEPs, anyway) without use of MAC filtering database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b92b38"/>
                </a:solidFill>
                <a:latin typeface="Arial"/>
                <a:ea typeface="Arial"/>
              </a:rPr>
              <a:t>One big question: Is the proper functioning of AIS and Linktrace worth the cost of collecting, tracking, and timing out the CCM information at every node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M/AIS Information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295280"/>
            <a:ext cx="8458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99"/>
                </a:solidFill>
                <a:latin typeface="Arial"/>
              </a:rPr>
              <a:t>Connectivity Faul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4380E56-32BC-4AC7-BA80-8BBD4D0EF17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0960" y="6629400"/>
            <a:ext cx="17622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nnectivity Fault Management Draft 0.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5760" y="6629400"/>
            <a:ext cx="1504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IEEE 802.1 interim, October, 200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5078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lice through Referenc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86728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View” of Figure 18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22124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ps in ME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88320" cy="510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9560" y="3657600"/>
            <a:ext cx="2941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ME Level 3 anyw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 M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7997760" cy="462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3:58:20Z</dcterms:created>
  <dc:creator>Norman Finn</dc:creator>
  <dc:description/>
  <dc:language>en-US</dc:language>
  <cp:lastModifiedBy>Cisco</cp:lastModifiedBy>
  <cp:lastPrinted>1999-01-27T00:54:54Z</cp:lastPrinted>
  <dcterms:modified xsi:type="dcterms:W3CDTF">2004-10-04T14:54:25Z</dcterms:modified>
  <cp:revision>0</cp:revision>
  <dc:subject>A walk-through of Draft 0.1 of P802.1ag Connectivity Fault Management</dc:subject>
  <dc:title>Connectivity Fault Management Draft 0.1</dc:title>
</cp:coreProperties>
</file>