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04920"/>
            <a:ext cx="8839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477120"/>
            <a:ext cx="8839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36440" y="22320"/>
            <a:ext cx="1547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tember 19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613560" y="22320"/>
            <a:ext cx="2448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3/159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0480" y="6499080"/>
            <a:ext cx="1260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3870360" y="6499080"/>
            <a:ext cx="905040" cy="3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468B464B-7CF3-4C81-8A24-803A36C9A7B0}" type="slidenum"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918480" y="6499080"/>
            <a:ext cx="1943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ick White, Motor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981080" y="14479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ame Prioritization in a CSMA/CA Media Access Control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336840" y="3176640"/>
            <a:ext cx="243216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k 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reless Data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nsparent R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501920" y="2435400"/>
            <a:ext cx="611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5 - Physical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49200" y="2736720"/>
            <a:ext cx="660708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90720" y="160020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hancement of existing  MAC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rts Time Bounded Services without the requirement of a TDMA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windowing of multi-packet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transparent relay when an Access Point is 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s synchronization in a frequency hopp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ows Physical Layer to transmit packets independent of the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ization using Timed Interframe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19920" y="383364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95960" y="3887640"/>
            <a:ext cx="252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19920" y="340524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724280" y="3459240"/>
            <a:ext cx="3098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9920" y="297648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152960" y="3030480"/>
            <a:ext cx="367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19920" y="254808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81280" y="2602080"/>
            <a:ext cx="424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19920" y="211932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09960" y="2173320"/>
            <a:ext cx="4813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09800" y="3817800"/>
            <a:ext cx="1415880" cy="4158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93600" y="3801960"/>
            <a:ext cx="1447920" cy="447840"/>
          </a:xfrm>
          <a:prstGeom prst="rect">
            <a:avLst/>
          </a:prstGeom>
          <a:noFill/>
          <a:ln w="25560">
            <a:solidFill>
              <a:srgbClr val="1f1f1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3600" y="423072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010360" y="423072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09800" y="4230720"/>
            <a:ext cx="69883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159080" y="2817720"/>
            <a:ext cx="0" cy="1432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587760" y="2389320"/>
            <a:ext cx="0" cy="1860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5302080" y="3675240"/>
            <a:ext cx="0" cy="57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730760" y="3246480"/>
            <a:ext cx="0" cy="1003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22440" y="4246560"/>
            <a:ext cx="190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22440" y="3801960"/>
            <a:ext cx="190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22440" y="3817800"/>
            <a:ext cx="1908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38280" y="380196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93600" y="380196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09800" y="3801960"/>
            <a:ext cx="14158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016080" y="1960560"/>
            <a:ext cx="0" cy="2289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68480" y="3875040"/>
            <a:ext cx="1454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y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44760" y="4309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16080" y="4309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7760" y="4309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59080" y="4309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30760" y="4309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02080" y="4309920"/>
            <a:ext cx="0" cy="289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282760" y="45576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55840" y="46674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854440" y="45576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927520" y="46674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425760" y="45576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498840" y="46674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97440" y="45576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070520" y="46674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760" y="45576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1840" y="46674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140440" y="455760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213520" y="466740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52880" y="2055960"/>
            <a:ext cx="103824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11560" y="2004840"/>
            <a:ext cx="100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iority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00520" y="2484360"/>
            <a:ext cx="92376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782880" y="2438280"/>
            <a:ext cx="10177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iority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95880" y="2913120"/>
            <a:ext cx="961920" cy="21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78240" y="2862360"/>
            <a:ext cx="100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iority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67200" y="3341520"/>
            <a:ext cx="107640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25880" y="3268800"/>
            <a:ext cx="100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iority 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8880" y="3770280"/>
            <a:ext cx="1038240" cy="19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7560" y="3719520"/>
            <a:ext cx="100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riority 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ization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022400" y="2060640"/>
            <a:ext cx="7099200" cy="1368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990720" y="3809880"/>
            <a:ext cx="71629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y 1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y 5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ity 2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ffic 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21720" y="367524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97400" y="3728880"/>
            <a:ext cx="2527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21720" y="324648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726080" y="3300480"/>
            <a:ext cx="3098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821720" y="281772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154400" y="2871720"/>
            <a:ext cx="3670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21720" y="238932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583080" y="2443320"/>
            <a:ext cx="424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21720" y="1960560"/>
            <a:ext cx="178200" cy="82800"/>
          </a:xfrm>
          <a:custGeom>
            <a:avLst/>
            <a:gdLst/>
            <a:ahLst/>
            <a:rect l="0" t="0" r="r" b="b"/>
            <a:pathLst>
              <a:path w="495" h="230">
                <a:moveTo>
                  <a:pt x="0" y="0"/>
                </a:moveTo>
                <a:lnTo>
                  <a:pt x="495" y="114"/>
                </a:lnTo>
                <a:lnTo>
                  <a:pt x="0" y="230"/>
                </a:lnTo>
                <a:lnTo>
                  <a:pt x="0" y="1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011400" y="2014560"/>
            <a:ext cx="4813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408560" y="2786040"/>
            <a:ext cx="275436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08560" y="2786040"/>
            <a:ext cx="262260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011240" y="4008600"/>
            <a:ext cx="1415880" cy="41580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5400" y="3992400"/>
            <a:ext cx="1447920" cy="447840"/>
          </a:xfrm>
          <a:prstGeom prst="rect">
            <a:avLst/>
          </a:prstGeom>
          <a:noFill/>
          <a:ln w="25560">
            <a:solidFill>
              <a:srgbClr val="1f1f1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95400" y="442116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12160" y="442116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11240" y="4421160"/>
            <a:ext cx="69883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160880" y="2722680"/>
            <a:ext cx="0" cy="1717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89200" y="2293920"/>
            <a:ext cx="0" cy="214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303880" y="3579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732200" y="3151080"/>
            <a:ext cx="0" cy="1289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24240" y="4437000"/>
            <a:ext cx="190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24240" y="3992400"/>
            <a:ext cx="19080" cy="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24240" y="4008600"/>
            <a:ext cx="19080" cy="41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40080" y="399240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95400" y="3992400"/>
            <a:ext cx="324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3992400"/>
            <a:ext cx="141588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17880" y="1865160"/>
            <a:ext cx="0" cy="2575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14680" y="2687760"/>
            <a:ext cx="2755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oint Coordination 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62000" y="4065480"/>
            <a:ext cx="1454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y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46200" y="45165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17880" y="45165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89200" y="45165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60880" y="45165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732200" y="45165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03880" y="4516560"/>
            <a:ext cx="0" cy="288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276640" y="4764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349360" y="48578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847960" y="4764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21040" y="48578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419640" y="4764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492360" y="48578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90960" y="4764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064040" y="48578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2640" y="4764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35360" y="48578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33960" y="4764240"/>
            <a:ext cx="260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207040" y="48578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35720" y="3627360"/>
            <a:ext cx="154296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35720" y="3627360"/>
            <a:ext cx="1558800" cy="225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964040" y="3135240"/>
            <a:ext cx="225756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4040" y="3135240"/>
            <a:ext cx="2273400" cy="241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57680" y="2357280"/>
            <a:ext cx="184464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57680" y="2357280"/>
            <a:ext cx="1860480" cy="225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1840" y="1928880"/>
            <a:ext cx="13366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1840" y="1928880"/>
            <a:ext cx="1352520" cy="225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01840" y="1865160"/>
            <a:ext cx="1050840" cy="1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01840" y="1865160"/>
            <a:ext cx="1066680" cy="209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24160" y="1846440"/>
            <a:ext cx="299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328920" y="1846440"/>
            <a:ext cx="11160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ansmit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57680" y="2325600"/>
            <a:ext cx="167004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57680" y="2325600"/>
            <a:ext cx="1685880" cy="146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792600" y="2259000"/>
            <a:ext cx="17604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cknowledgmen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64040" y="3135240"/>
            <a:ext cx="184464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3135240"/>
            <a:ext cx="1860480" cy="146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946760" y="3116160"/>
            <a:ext cx="22478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Asynchronous Servi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35720" y="3659040"/>
            <a:ext cx="130500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35720" y="3659040"/>
            <a:ext cx="1320840" cy="1461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564160" y="3608280"/>
            <a:ext cx="15192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Physical Lay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lti-Frame Wind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06600" y="1884240"/>
            <a:ext cx="6130800" cy="14000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990720" y="3809880"/>
            <a:ext cx="71629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ree Frames From Station A to Station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CK Frame from Station B to Statio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ity 2 - Acknowle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820880" y="2722680"/>
            <a:ext cx="54640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equency Hop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120680" y="1657440"/>
            <a:ext cx="68770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well Stretching using Prio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20680" y="1706400"/>
            <a:ext cx="6877080" cy="34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Bounded Services Requiring Differ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61920" y="2403360"/>
            <a:ext cx="71946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