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271000" cy="7010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428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0524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332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428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0524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3320" y="279360"/>
            <a:ext cx="834336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428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05240" y="164016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32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428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05240" y="3763800"/>
            <a:ext cx="268632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63320" y="279360"/>
            <a:ext cx="8343360" cy="54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38680" y="376380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332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38680" y="1640160"/>
            <a:ext cx="4071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3320" y="3763800"/>
            <a:ext cx="834336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4160" y="152280"/>
            <a:ext cx="8775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82720" y="6324480"/>
            <a:ext cx="7543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495680" y="6470640"/>
            <a:ext cx="291960" cy="2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 algn="ctr">
              <a:lnSpc>
                <a:spcPct val="125000"/>
              </a:lnSpc>
              <a:spcBef>
                <a:spcPts val="1511"/>
              </a:spcBef>
            </a:pPr>
            <a:fld id="{F55A5ED9-3F1F-4B73-A1DB-70DA2A35C855}" type="slidenum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286680" y="6388200"/>
            <a:ext cx="2565360" cy="3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28600" indent="-228600">
              <a:lnSpc>
                <a:spcPct val="125000"/>
              </a:lnSpc>
              <a:spcBef>
                <a:spcPts val="151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nis, Diepstraten, Belan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352440" y="173160"/>
            <a:ext cx="15526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, 19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7273800" y="173160"/>
            <a:ext cx="18050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-93/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835200" y="6384960"/>
            <a:ext cx="218448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FWMAC Pro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254160" y="6324480"/>
            <a:ext cx="87757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3320" y="279360"/>
            <a:ext cx="834336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63320" y="1640160"/>
            <a:ext cx="834336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036800" y="546120"/>
            <a:ext cx="7620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35000" y="1447920"/>
            <a:ext cx="763272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5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and Sc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5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50000"/>
              </a:lnSpc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DFWMA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324160" y="5207040"/>
            <a:ext cx="52959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g Enn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m Diepstrat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il Belan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ir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4160" y="152280"/>
            <a:ext cx="877572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2440" y="173160"/>
            <a:ext cx="155268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mber 9, 19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273800" y="173160"/>
            <a:ext cx="18050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P802.11-93/1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004760" y="647640"/>
            <a:ext cx="40147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assive Sc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060560" y="1790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nd networks simply by list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s are sent at a known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er listens to each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s at least Beacon Interval on empty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actical for PHYs with a few channels or with a short Beac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network found, save Network ID and Timestamp del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information required to “tune” to that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023840" y="800280"/>
            <a:ext cx="36846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tive Sc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0560" y="1467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be much faster than passive sc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each channel, scanner sends a Prob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est message sent to broadcast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ID specifies the network for which the scanner is look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it for a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it for a bounded time 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detect energy, wait lo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ple Probe Responses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than one AP on sam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04760" y="647640"/>
            <a:ext cx="40910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ann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54080" y="14288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Tune to new channel and CSMA de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Send Probe with Broadcast Destination, Specific ESSID, and desired BSS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Start T1 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If receive energy within 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start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se If hear nothing within T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n Scan next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When T2 expires, process all received Probe Respon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. Scan next chann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023840" y="800280"/>
            <a:ext cx="393696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anning for 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060560" y="4362480"/>
            <a:ext cx="7162920" cy="17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than one AP may be on the same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ner wants to hear all Probe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rected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vokes positive ACK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tomatic collision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5280" y="1467000"/>
            <a:ext cx="5613480" cy="2571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981080" y="1378080"/>
            <a:ext cx="5321160" cy="2552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137200" y="1574640"/>
            <a:ext cx="2095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78240" y="1593720"/>
            <a:ext cx="20952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863960" y="1676520"/>
            <a:ext cx="1041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3378240" y="1676520"/>
            <a:ext cx="438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80240" y="1638360"/>
            <a:ext cx="0" cy="482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023840" y="800280"/>
            <a:ext cx="68342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anning for Ad Hoc Net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060560" y="4286160"/>
            <a:ext cx="7162920" cy="17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y station in the BSS may resp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cess Backoff before Prob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collision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er does Backoff with larger Contentio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station may respond before retri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835280" y="1415880"/>
            <a:ext cx="5613480" cy="2603880"/>
            <a:chOff x="1835280" y="1415880"/>
            <a:chExt cx="5613480" cy="2603880"/>
          </a:xfrm>
        </p:grpSpPr>
        <p:sp>
          <p:nvSpPr>
            <p:cNvPr id="218" name=""/>
            <p:cNvSpPr/>
            <p:nvPr/>
          </p:nvSpPr>
          <p:spPr>
            <a:xfrm>
              <a:off x="1835280" y="1447920"/>
              <a:ext cx="5613480" cy="2571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1968480" y="1415880"/>
              <a:ext cx="5321160" cy="25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137200" y="1619280"/>
              <a:ext cx="20952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78240" y="1638360"/>
              <a:ext cx="209520" cy="15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63960" y="1720800"/>
              <a:ext cx="1041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378240" y="1720800"/>
              <a:ext cx="438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918040" y="1657440"/>
              <a:ext cx="0" cy="482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1023840" y="800280"/>
            <a:ext cx="35305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be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60560" y="4324320"/>
            <a:ext cx="7162920" cy="17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e sent to broadcast D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ID can be specific or “broadcas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e Response is directed to specific D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ID matches Pr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urce NetworkID required to identify source B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460840" y="1393920"/>
            <a:ext cx="2252880" cy="3330360"/>
            <a:chOff x="5460840" y="1393920"/>
            <a:chExt cx="2252880" cy="3330360"/>
          </a:xfrm>
        </p:grpSpPr>
        <p:sp>
          <p:nvSpPr>
            <p:cNvPr id="228" name=""/>
            <p:cNvSpPr/>
            <p:nvPr/>
          </p:nvSpPr>
          <p:spPr>
            <a:xfrm>
              <a:off x="6595920" y="1752480"/>
              <a:ext cx="1028880" cy="2971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6819840" y="1760400"/>
              <a:ext cx="582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6603840" y="2001960"/>
              <a:ext cx="1014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6508800" y="226836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PDU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6508800" y="249696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800760" y="2789280"/>
              <a:ext cx="62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 txBox="1"/>
            <p:nvPr/>
          </p:nvSpPr>
          <p:spPr>
            <a:xfrm>
              <a:off x="6657840" y="3087720"/>
              <a:ext cx="906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508800" y="342432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stam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 txBox="1"/>
            <p:nvPr/>
          </p:nvSpPr>
          <p:spPr>
            <a:xfrm>
              <a:off x="6508800" y="3691080"/>
              <a:ext cx="120492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6508800" y="406548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igh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6508800" y="441468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C-3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8880" y="19620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08880" y="22417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08880" y="24955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08880" y="27496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08880" y="307332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08880" y="33591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08880" y="37148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08880" y="40575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08880" y="43178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 txBox="1"/>
            <p:nvPr/>
          </p:nvSpPr>
          <p:spPr>
            <a:xfrm>
              <a:off x="6413400" y="20034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6413400" y="22575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6413400" y="251784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6413400" y="28036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 txBox="1"/>
            <p:nvPr/>
          </p:nvSpPr>
          <p:spPr>
            <a:xfrm>
              <a:off x="6413400" y="31147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6413400" y="34383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6413400" y="37749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6413400" y="40924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6413400" y="44226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413400" y="1781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5460840" y="1393920"/>
              <a:ext cx="206388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 Respons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289160" y="1393920"/>
            <a:ext cx="1928880" cy="2365200"/>
            <a:chOff x="1289160" y="1393920"/>
            <a:chExt cx="1928880" cy="2365200"/>
          </a:xfrm>
        </p:grpSpPr>
        <p:sp>
          <p:nvSpPr>
            <p:cNvPr id="260" name=""/>
            <p:cNvSpPr/>
            <p:nvPr/>
          </p:nvSpPr>
          <p:spPr>
            <a:xfrm>
              <a:off x="2093760" y="1733400"/>
              <a:ext cx="1028880" cy="2025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2324160" y="1741320"/>
              <a:ext cx="582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2108160" y="1982880"/>
              <a:ext cx="1014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2013120" y="22496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PDU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013120" y="24782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305080" y="2770200"/>
              <a:ext cx="62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2162160" y="3068640"/>
              <a:ext cx="906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2013120" y="344340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C-3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106720" y="19432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106720" y="22226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12840" y="24764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106720" y="27306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06720" y="30542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06720" y="33400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1898640" y="19782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1898640" y="22320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1898640" y="2492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898640" y="27781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1898640" y="30891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898640" y="34513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 txBox="1"/>
            <p:nvPr/>
          </p:nvSpPr>
          <p:spPr>
            <a:xfrm>
              <a:off x="1898640" y="17557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>
              <a:off x="1289160" y="1393920"/>
              <a:ext cx="907920" cy="3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be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004760" y="647640"/>
            <a:ext cx="36068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ight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060560" y="15876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d for ad hoc network synchro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Ps have” infinite” weight. They are always in sy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station maintains its own Weigh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station maintains its own SYNC fl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ight increases as STA participates in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Beacons heard = more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SYNCed stations heard = more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ever a STA sends Beacon or Probe Response, it includes its Weight and SY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ight is used to decide which timer is be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004760" y="647640"/>
            <a:ext cx="54878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imer Adjustment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20880" y="1657440"/>
            <a:ext cx="742968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857160"/>
                <a:tab algn="l" pos="1314360"/>
                <a:tab algn="l" pos="17715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Timer Adjustment for unSYNCed re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receive Beacon or Probe Response with SYNC =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adopt 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receive Probe Response with SYNC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Adjust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857160"/>
                <a:tab algn="l" pos="1314360"/>
                <a:tab algn="l" pos="17715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Timer adjustment rules for SYNCed recei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receive Beacon or Probe Response with SYNC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if difference between timers is above thresho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n Coales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914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AdjustTi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457200"/>
                <a:tab algn="l" pos="914400"/>
                <a:tab algn="l" pos="1371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receive Probe Response with SYNC = 0 ign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004760" y="647640"/>
            <a:ext cx="52322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 Timer Adjus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060560" y="1790640"/>
            <a:ext cx="7581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1085760"/>
                <a:tab algn="l" pos="1542960"/>
                <a:tab algn="l" pos="20001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s quickly synchronized with 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1085760"/>
                <a:tab algn="l" pos="1542960"/>
                <a:tab algn="l" pos="20001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tablished ad hoc networks cause new STAs to synchroniz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1085760"/>
                <a:tab algn="l" pos="1542960"/>
                <a:tab algn="l" pos="20001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new ad hoc networks, STAs adjust towards a common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1085760"/>
                <a:tab algn="l" pos="1542960"/>
                <a:tab algn="l" pos="200016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justTi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685800"/>
                <a:tab algn="l" pos="1143000"/>
                <a:tab algn="l" pos="160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ing STA uses weighted average to determine how much to adjust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685800"/>
                <a:tab algn="l" pos="1143000"/>
                <a:tab algn="l" pos="1600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eiving a Beacon or Probe Response with a higher Weight than STA Weight causes large adjust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004760" y="647640"/>
            <a:ext cx="62737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itializing Ad Hoc Net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54080" y="14670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Scan (BSSID = specific) for 5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If hear something then Joi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se Start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Stay active for T3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in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opt NetworkID and timing of that B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Ced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 Beacons to establish BSS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023840" y="800280"/>
            <a:ext cx="72914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asic Synchronization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60560" y="1790640"/>
            <a:ext cx="7556400" cy="40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stations maintain a local synchronization ti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ing Synchronizatio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keeps timers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entralized in infrastructur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tributed function for ad hoc networ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s provide timing reference for each B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quired to hear every Beacon to stay in sy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used to calibrate c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lexible Beacon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SS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tible with CS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1004760" y="647640"/>
            <a:ext cx="19558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u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060560" y="1276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lusters of the same BSS may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ed ad hoc startup at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rted out of range and moved closer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usters can’t communic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p timing doesn’t match in FH SS P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 hoc “superframe timing” doesn’t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awake at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120680" y="4267080"/>
            <a:ext cx="7029360" cy="1809720"/>
            <a:chOff x="1120680" y="4267080"/>
            <a:chExt cx="7029360" cy="1809720"/>
          </a:xfrm>
        </p:grpSpPr>
        <p:sp>
          <p:nvSpPr>
            <p:cNvPr id="293" name=""/>
            <p:cNvSpPr/>
            <p:nvPr/>
          </p:nvSpPr>
          <p:spPr>
            <a:xfrm>
              <a:off x="1120680" y="4267080"/>
              <a:ext cx="7029360" cy="1809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47760" y="511812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14680" y="5003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62440" y="5003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11760" y="4849920"/>
              <a:ext cx="46080" cy="26352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47720" y="4911840"/>
              <a:ext cx="96840" cy="193680"/>
            </a:xfrm>
            <a:prstGeom prst="rect">
              <a:avLst/>
            </a:prstGeom>
            <a:blipFill rotWithShape="0">
              <a:blip r:embed="rId2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95480" y="4924440"/>
              <a:ext cx="95400" cy="193680"/>
            </a:xfrm>
            <a:prstGeom prst="rect">
              <a:avLst/>
            </a:prstGeom>
            <a:blipFill rotWithShape="0">
              <a:blip r:embed="rId3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89520" y="4924440"/>
              <a:ext cx="54000" cy="193680"/>
            </a:xfrm>
            <a:prstGeom prst="rect">
              <a:avLst/>
            </a:prstGeom>
            <a:blipFill rotWithShape="0">
              <a:blip r:embed="rId4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73400" y="4916520"/>
              <a:ext cx="189000" cy="201600"/>
            </a:xfrm>
            <a:prstGeom prst="rect">
              <a:avLst/>
            </a:prstGeom>
            <a:blipFill rotWithShape="0">
              <a:blip r:embed="rId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3678120" y="4775040"/>
              <a:ext cx="690840" cy="343080"/>
              <a:chOff x="3678120" y="4775040"/>
              <a:chExt cx="690840" cy="343080"/>
            </a:xfrm>
          </p:grpSpPr>
          <p:sp>
            <p:nvSpPr>
              <p:cNvPr id="303" name=""/>
              <p:cNvSpPr/>
              <p:nvPr/>
            </p:nvSpPr>
            <p:spPr>
              <a:xfrm flipV="1">
                <a:off x="3678120" y="478476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55880" y="4775040"/>
                <a:ext cx="6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368960" y="477504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059520" y="500364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108840" y="4849920"/>
              <a:ext cx="46080" cy="263520"/>
            </a:xfrm>
            <a:prstGeom prst="rect">
              <a:avLst/>
            </a:prstGeom>
            <a:blipFill rotWithShape="0">
              <a:blip r:embed="rId6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270480" y="4916520"/>
              <a:ext cx="112680" cy="201600"/>
            </a:xfrm>
            <a:prstGeom prst="rect">
              <a:avLst/>
            </a:prstGeom>
            <a:blipFill rotWithShape="0">
              <a:blip r:embed="rId7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828800" y="4849920"/>
              <a:ext cx="46080" cy="263520"/>
            </a:xfrm>
            <a:prstGeom prst="rect">
              <a:avLst/>
            </a:prstGeom>
            <a:blipFill rotWithShape="0">
              <a:blip r:embed="rId8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5875200" y="4775040"/>
              <a:ext cx="690840" cy="343080"/>
              <a:chOff x="5875200" y="4775040"/>
              <a:chExt cx="690840" cy="343080"/>
            </a:xfrm>
          </p:grpSpPr>
          <p:sp>
            <p:nvSpPr>
              <p:cNvPr id="311" name=""/>
              <p:cNvSpPr/>
              <p:nvPr/>
            </p:nvSpPr>
            <p:spPr>
              <a:xfrm flipV="1">
                <a:off x="5875200" y="478476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952960" y="4775040"/>
                <a:ext cx="6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66040" y="477504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1531800" y="4775040"/>
              <a:ext cx="690840" cy="343080"/>
              <a:chOff x="1531800" y="4775040"/>
              <a:chExt cx="690840" cy="343080"/>
            </a:xfrm>
          </p:grpSpPr>
          <p:sp>
            <p:nvSpPr>
              <p:cNvPr id="315" name=""/>
              <p:cNvSpPr/>
              <p:nvPr/>
            </p:nvSpPr>
            <p:spPr>
              <a:xfrm flipV="1">
                <a:off x="1531800" y="478476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609560" y="4775040"/>
                <a:ext cx="613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222640" y="477504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1228680" y="5740560"/>
              <a:ext cx="6769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79840" y="5619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27600" y="5619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78440" y="5465880"/>
              <a:ext cx="46080" cy="263520"/>
            </a:xfrm>
            <a:prstGeom prst="rect">
              <a:avLst/>
            </a:prstGeom>
            <a:blipFill rotWithShape="0">
              <a:blip r:embed="rId9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60640" y="5540400"/>
              <a:ext cx="95400" cy="193680"/>
            </a:xfrm>
            <a:prstGeom prst="rect">
              <a:avLst/>
            </a:prstGeom>
            <a:blipFill rotWithShape="0">
              <a:blip r:embed="rId10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19560" y="5527800"/>
              <a:ext cx="54000" cy="193680"/>
            </a:xfrm>
            <a:prstGeom prst="rect">
              <a:avLst/>
            </a:prstGeom>
            <a:blipFill rotWithShape="0">
              <a:blip r:embed="rId1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1400" y="5532480"/>
              <a:ext cx="189000" cy="201600"/>
            </a:xfrm>
            <a:prstGeom prst="rect">
              <a:avLst/>
            </a:prstGeom>
            <a:blipFill rotWithShape="0">
              <a:blip r:embed="rId12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4643280" y="5391000"/>
              <a:ext cx="690840" cy="343080"/>
              <a:chOff x="4643280" y="5391000"/>
              <a:chExt cx="690840" cy="343080"/>
            </a:xfrm>
          </p:grpSpPr>
          <p:sp>
            <p:nvSpPr>
              <p:cNvPr id="326" name=""/>
              <p:cNvSpPr/>
              <p:nvPr/>
            </p:nvSpPr>
            <p:spPr>
              <a:xfrm flipV="1">
                <a:off x="4643280" y="540072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721400" y="5391000"/>
                <a:ext cx="6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334120" y="539100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7024680" y="56196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37360" y="5478480"/>
              <a:ext cx="46080" cy="263520"/>
            </a:xfrm>
            <a:prstGeom prst="rect">
              <a:avLst/>
            </a:prstGeom>
            <a:blipFill rotWithShape="0">
              <a:blip r:embed="rId13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50120" y="5532480"/>
              <a:ext cx="112680" cy="201600"/>
            </a:xfrm>
            <a:prstGeom prst="rect">
              <a:avLst/>
            </a:prstGeom>
            <a:blipFill rotWithShape="0">
              <a:blip r:embed="rId14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93960" y="5465880"/>
              <a:ext cx="46080" cy="263520"/>
            </a:xfrm>
            <a:prstGeom prst="rect">
              <a:avLst/>
            </a:prstGeom>
            <a:blipFill rotWithShape="0">
              <a:blip r:embed="rId15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6840360" y="5391000"/>
              <a:ext cx="690840" cy="343080"/>
              <a:chOff x="6840360" y="5391000"/>
              <a:chExt cx="690840" cy="34308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6840360" y="540072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918480" y="5391000"/>
                <a:ext cx="6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531200" y="539100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496960" y="5391000"/>
              <a:ext cx="690840" cy="343080"/>
              <a:chOff x="2496960" y="5391000"/>
              <a:chExt cx="690840" cy="343080"/>
            </a:xfrm>
          </p:grpSpPr>
          <p:sp>
            <p:nvSpPr>
              <p:cNvPr id="338" name=""/>
              <p:cNvSpPr/>
              <p:nvPr/>
            </p:nvSpPr>
            <p:spPr>
              <a:xfrm flipV="1">
                <a:off x="2496960" y="5400720"/>
                <a:ext cx="8424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75080" y="5391000"/>
                <a:ext cx="612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187800" y="5391000"/>
                <a:ext cx="0" cy="333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 flipV="1">
              <a:off x="1476360" y="4533840"/>
              <a:ext cx="0" cy="66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2276640" y="4533840"/>
              <a:ext cx="0" cy="660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76360" y="459756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2441520" y="519444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3241800" y="5194440"/>
              <a:ext cx="0" cy="66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41520" y="5257800"/>
              <a:ext cx="8128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 txBox="1"/>
            <p:nvPr/>
          </p:nvSpPr>
          <p:spPr>
            <a:xfrm>
              <a:off x="1625760" y="4282920"/>
              <a:ext cx="565200" cy="36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wak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4416480" y="4930920"/>
              <a:ext cx="1314720" cy="228600"/>
              <a:chOff x="4416480" y="4930920"/>
              <a:chExt cx="1314720" cy="228600"/>
            </a:xfrm>
          </p:grpSpPr>
          <p:sp>
            <p:nvSpPr>
              <p:cNvPr id="349" name=""/>
              <p:cNvSpPr/>
              <p:nvPr/>
            </p:nvSpPr>
            <p:spPr>
              <a:xfrm>
                <a:off x="4416480" y="4940280"/>
                <a:ext cx="1301760" cy="177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>
                <a:off x="4492800" y="4930920"/>
                <a:ext cx="1238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an Opportun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5432400" y="5553000"/>
              <a:ext cx="1314720" cy="228600"/>
              <a:chOff x="5432400" y="5553000"/>
              <a:chExt cx="1314720" cy="228600"/>
            </a:xfrm>
          </p:grpSpPr>
          <p:sp>
            <p:nvSpPr>
              <p:cNvPr id="352" name=""/>
              <p:cNvSpPr/>
              <p:nvPr/>
            </p:nvSpPr>
            <p:spPr>
              <a:xfrm>
                <a:off x="5432400" y="5562720"/>
                <a:ext cx="1301760" cy="1778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>
                <a:off x="5508720" y="5553000"/>
                <a:ext cx="123840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90000"/>
                  </a:lnSpc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can Opportun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004760" y="647640"/>
            <a:ext cx="55897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alescing BSS Clu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01800" y="1581120"/>
            <a:ext cx="7467480" cy="408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ions in ad hoc networks periodically sc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find other cluster, then do Coalesce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ight used to determine which cluster is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scanner’s cluster loses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urn to old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 Beacon+ indicating other cluster is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itch to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 Beacon+ on scanned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s how to find scanner’s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turn to old 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023840" y="666720"/>
            <a:ext cx="65530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chronization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952560" y="1251000"/>
            <a:ext cx="7378560" cy="50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synch. is required for many MAC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posed a general mechanism that can b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erframe Timing in Contention Fre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p synchronization in FHSS PH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twork events are timed by station TSF ti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necessary to send frames to indicate network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can maintain sync while sleeping or out of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is effic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dic Beacon transmission calibrates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fields not required in all MAC fra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SF is prec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crosecond accuracy is possi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04760" y="647640"/>
            <a:ext cx="505476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canning 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060560" y="17906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nning required for many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joining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itializing an 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intaining a single ad hoc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ding a new AP for BSS tran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FWMAC uses a common technique that supports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ngle or multi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ssive or active sc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006640" y="1447920"/>
            <a:ext cx="5423040" cy="184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04760" y="647640"/>
            <a:ext cx="431964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acon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0560" y="3524400"/>
            <a:ext cx="7785000" cy="218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transmission scheduled at Beac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mission may be delayed by CSMA defer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sequent transmissions at expected Beacon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relative to last Beac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tamp contains timer value at transmi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 sends Beacons in infrastructure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19240" y="1467000"/>
            <a:ext cx="5321160" cy="18162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892680" y="1882800"/>
            <a:ext cx="85680" cy="419040"/>
            <a:chOff x="3892680" y="1882800"/>
            <a:chExt cx="85680" cy="419040"/>
          </a:xfrm>
        </p:grpSpPr>
        <p:sp>
          <p:nvSpPr>
            <p:cNvPr id="97" name=""/>
            <p:cNvSpPr/>
            <p:nvPr/>
          </p:nvSpPr>
          <p:spPr>
            <a:xfrm>
              <a:off x="3936960" y="1925640"/>
              <a:ext cx="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3905280" y="2230560"/>
              <a:ext cx="2844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940200" y="2230560"/>
              <a:ext cx="2844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389268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9268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149800" y="1882800"/>
            <a:ext cx="85680" cy="419040"/>
            <a:chOff x="5149800" y="1882800"/>
            <a:chExt cx="85680" cy="419040"/>
          </a:xfrm>
        </p:grpSpPr>
        <p:sp>
          <p:nvSpPr>
            <p:cNvPr id="103" name=""/>
            <p:cNvSpPr/>
            <p:nvPr/>
          </p:nvSpPr>
          <p:spPr>
            <a:xfrm>
              <a:off x="5194440" y="1925640"/>
              <a:ext cx="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516240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519732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14980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4980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419880" y="1882800"/>
            <a:ext cx="85680" cy="419040"/>
            <a:chOff x="6419880" y="1882800"/>
            <a:chExt cx="85680" cy="419040"/>
          </a:xfrm>
        </p:grpSpPr>
        <p:sp>
          <p:nvSpPr>
            <p:cNvPr id="109" name=""/>
            <p:cNvSpPr/>
            <p:nvPr/>
          </p:nvSpPr>
          <p:spPr>
            <a:xfrm>
              <a:off x="6464160" y="1925640"/>
              <a:ext cx="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643248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646740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641988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1988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301840" y="1882800"/>
            <a:ext cx="85680" cy="419040"/>
            <a:chOff x="2301840" y="1882800"/>
            <a:chExt cx="85680" cy="419040"/>
          </a:xfrm>
        </p:grpSpPr>
        <p:sp>
          <p:nvSpPr>
            <p:cNvPr id="115" name=""/>
            <p:cNvSpPr/>
            <p:nvPr/>
          </p:nvSpPr>
          <p:spPr>
            <a:xfrm>
              <a:off x="2346480" y="1925640"/>
              <a:ext cx="0" cy="3762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231444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349360" y="2230560"/>
              <a:ext cx="28800" cy="71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30184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01840" y="1882800"/>
              <a:ext cx="85680" cy="87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 txBox="1"/>
          <p:nvPr/>
        </p:nvSpPr>
        <p:spPr>
          <a:xfrm>
            <a:off x="6607080" y="1730520"/>
            <a:ext cx="7840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 Ax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023840" y="800280"/>
            <a:ext cx="4191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d Hoc Beac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0560" y="5105520"/>
            <a:ext cx="7162920" cy="99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tributed Beac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y station in BSS may send a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domized Beacon gen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930320" y="1384200"/>
            <a:ext cx="5423040" cy="3378240"/>
            <a:chOff x="1930320" y="1384200"/>
            <a:chExt cx="5423040" cy="3378240"/>
          </a:xfrm>
        </p:grpSpPr>
        <p:sp>
          <p:nvSpPr>
            <p:cNvPr id="124" name=""/>
            <p:cNvSpPr/>
            <p:nvPr/>
          </p:nvSpPr>
          <p:spPr>
            <a:xfrm>
              <a:off x="1930320" y="1384200"/>
              <a:ext cx="5423040" cy="3378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968480" y="1422360"/>
              <a:ext cx="5321160" cy="331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04760" y="647640"/>
            <a:ext cx="541008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re Ad Hoc Beaco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0560" y="1409760"/>
            <a:ext cx="7162920" cy="42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 Hoc Beacon Sender’s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ake up before expected Beac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fer to current transmission if 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ecute access backof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en when network was id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domizes send attem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heard another Beacon cancel Beacon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lse transmit Bea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collisions are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are multicasts, so no re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station likely to succeed after coll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SYNCed stations send Beac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023840" y="800280"/>
            <a:ext cx="38862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Beacon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0560" y="46101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089760" y="1866960"/>
            <a:ext cx="1299960" cy="2971800"/>
            <a:chOff x="6089760" y="1866960"/>
            <a:chExt cx="1299960" cy="2971800"/>
          </a:xfrm>
        </p:grpSpPr>
        <p:grpSp>
          <p:nvGrpSpPr>
            <p:cNvPr id="131" name=""/>
            <p:cNvGrpSpPr/>
            <p:nvPr/>
          </p:nvGrpSpPr>
          <p:grpSpPr>
            <a:xfrm>
              <a:off x="6184800" y="1866960"/>
              <a:ext cx="1204920" cy="2971800"/>
              <a:chOff x="6184800" y="1866960"/>
              <a:chExt cx="1204920" cy="2971800"/>
            </a:xfrm>
          </p:grpSpPr>
          <p:sp>
            <p:nvSpPr>
              <p:cNvPr id="132" name=""/>
              <p:cNvSpPr/>
              <p:nvPr/>
            </p:nvSpPr>
            <p:spPr>
              <a:xfrm>
                <a:off x="6272280" y="1866960"/>
                <a:ext cx="1028880" cy="2971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6496200" y="1874880"/>
                <a:ext cx="58248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Y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6280200" y="2116080"/>
                <a:ext cx="101448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6184800" y="2382840"/>
                <a:ext cx="120492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PDU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6184800" y="2611440"/>
                <a:ext cx="120492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twork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6477120" y="2903400"/>
                <a:ext cx="62064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es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6334200" y="3201840"/>
                <a:ext cx="90648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urc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6184800" y="3538440"/>
                <a:ext cx="120492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imestamp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6184800" y="3805200"/>
                <a:ext cx="1204920" cy="42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eacon Interval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6184800" y="4179960"/>
                <a:ext cx="120492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ight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 txBox="1"/>
              <p:nvPr/>
            </p:nvSpPr>
            <p:spPr>
              <a:xfrm>
                <a:off x="6184800" y="4529160"/>
                <a:ext cx="1204920" cy="257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RC-32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284880" y="207648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284880" y="235584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284880" y="261000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84880" y="286380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84880" y="318780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284880" y="347328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284880" y="382896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284880" y="417204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84880" y="4432320"/>
                <a:ext cx="1003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 txBox="1"/>
            <p:nvPr/>
          </p:nvSpPr>
          <p:spPr>
            <a:xfrm>
              <a:off x="6089760" y="21178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6089760" y="23716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6089760" y="26319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6089760" y="29178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6089760" y="322884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6089760" y="355284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089760" y="388944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6089760" y="42069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6089760" y="45370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6089760" y="18954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1917720" y="1866960"/>
            <a:ext cx="1338120" cy="3873600"/>
            <a:chOff x="1917720" y="1866960"/>
            <a:chExt cx="1338120" cy="3873600"/>
          </a:xfrm>
        </p:grpSpPr>
        <p:sp>
          <p:nvSpPr>
            <p:cNvPr id="163" name=""/>
            <p:cNvSpPr/>
            <p:nvPr/>
          </p:nvSpPr>
          <p:spPr>
            <a:xfrm>
              <a:off x="2112840" y="1866960"/>
              <a:ext cx="1028880" cy="3873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2336760" y="1874880"/>
              <a:ext cx="582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YP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2120760" y="2116080"/>
              <a:ext cx="1014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 txBox="1"/>
            <p:nvPr/>
          </p:nvSpPr>
          <p:spPr>
            <a:xfrm>
              <a:off x="2025720" y="23828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PDU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2025720" y="26114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2317680" y="2903400"/>
              <a:ext cx="6206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s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 txBox="1"/>
            <p:nvPr/>
          </p:nvSpPr>
          <p:spPr>
            <a:xfrm>
              <a:off x="2174760" y="3201840"/>
              <a:ext cx="90648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>
              <a:off x="2025720" y="35384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stam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2025720" y="3805200"/>
              <a:ext cx="1204920" cy="42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acon Interv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050920" y="5367240"/>
              <a:ext cx="12049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RC-3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25800" y="20764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25800" y="23558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25800" y="26100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25800" y="28638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25800" y="318780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25800" y="347328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25800" y="38289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25800" y="417204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25800" y="5295960"/>
              <a:ext cx="1003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095560" y="4199040"/>
              <a:ext cx="1084320" cy="104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Power Management Element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TIM Peri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oadcas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>
              <a:off x="1917720" y="21114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1917720" y="236520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>
              <a:off x="1917720" y="262584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>
              <a:off x="1917720" y="29113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1917720" y="32227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1917720" y="35463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917720" y="388296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1917720" y="538812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1917720" y="1889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5727600" y="1527120"/>
            <a:ext cx="10605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 Ho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08240" y="1527120"/>
            <a:ext cx="17463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rastruc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1023840" y="800280"/>
            <a:ext cx="35575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imer 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60560" y="1619280"/>
            <a:ext cx="7162920" cy="42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stamp included in every Beac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nding station’s TSF timer in micro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1 bit value and 1 bit SYNC f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sender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stamp is sender’s timer at SFD transmissi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acon receiver 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ve local TSF timer when Beacon SFD rece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idate received Bea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OK, compare saved timer with Beacon timest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erence is amount to adjust local station time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ld adjust for propagation and transceiver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cise synchronization is po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023840" y="800280"/>
            <a:ext cx="44197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pplications of TS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60560" y="1562040"/>
            <a:ext cx="7505640" cy="421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are sent at well known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timers in BSS are synchron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s may contain TIM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can wake up just before expected Bea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erframe Ti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predict start of Contention Free bur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s not required in each super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Timing for Frequency Hopping 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used to time  Dwell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’ TSF Timers synchronized, so hop at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acon is not required on each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004760" y="647640"/>
            <a:ext cx="64771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7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quency Hopping and TS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20880" y="1562040"/>
            <a:ext cx="74296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s use their TSF timer to maintain hop sy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PHY dependency is Max TSF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imum TSF value is total time for hop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xTSF = NumHops * Dwell_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SF timer value describes progress in hopping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ch hop and how long in that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s independently time Dwell_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ach station knows when to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stretching i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p timing fields not required in MAC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well_Interval and Beacon_Interval independ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