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271000" cy="701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4160" y="152280"/>
            <a:ext cx="8775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2720" y="6324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495680" y="6470640"/>
            <a:ext cx="2919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25000"/>
              </a:lnSpc>
              <a:spcBef>
                <a:spcPts val="1511"/>
              </a:spcBef>
            </a:pPr>
            <a:fld id="{4D07605E-7EDC-438A-9ABC-364939F6273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286680" y="6388200"/>
            <a:ext cx="25653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25000"/>
              </a:lnSpc>
              <a:spcBef>
                <a:spcPts val="151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s, Diepstraten,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52440" y="173160"/>
            <a:ext cx="1552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,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273800" y="173160"/>
            <a:ext cx="1805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-93/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35200" y="6384960"/>
            <a:ext cx="21844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WMAC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4160" y="6324480"/>
            <a:ext cx="8775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36800" y="546120"/>
            <a:ext cx="7620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35000" y="1447920"/>
            <a:ext cx="76327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nd 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FWM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24160" y="5207040"/>
            <a:ext cx="5295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Enn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 Belan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ir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4160" y="152280"/>
            <a:ext cx="8775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2440" y="173160"/>
            <a:ext cx="1552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,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73800" y="173160"/>
            <a:ext cx="1805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-93/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04760" y="647640"/>
            <a:ext cx="4014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ssive Sc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0560" y="1790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a know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er listens to each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s at least Beacon Interval on empt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for PHYs with a few channels or with a shor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network found, save Network ID and Timestamp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information required to “tune” to that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23840" y="800280"/>
            <a:ext cx="36846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ive Sc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0560" y="1467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much faster than passive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each channel, scanner sends a Prob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message sent to broadcas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specifies the network for which the scanner is loo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it for a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 for a bounded time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etect energy, wait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obe Response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on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04760" y="647640"/>
            <a:ext cx="40910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54080" y="1428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une to new channel and CSMA d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end Probe with Broadcast Destination, Specific ESSID, and desired B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tart T1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If receive energy within 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start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If hear nothing within 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Scan next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When T2 expires, process all received Probe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Scan next chann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23840" y="800280"/>
            <a:ext cx="39369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for 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0560" y="4362480"/>
            <a:ext cx="716292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may be on the sam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er wants to hear all Prob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ed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s positive ACK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collis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1467000"/>
            <a:ext cx="5613480" cy="257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81080" y="1378080"/>
            <a:ext cx="5321160" cy="2552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37200" y="1574640"/>
            <a:ext cx="2095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78240" y="1593720"/>
            <a:ext cx="2095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63960" y="167652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378240" y="16765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80240" y="16383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23840" y="800280"/>
            <a:ext cx="68342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for Ad 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0560" y="4286160"/>
            <a:ext cx="7162920" cy="17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tation in the BSS may resp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Backoff before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collision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 does Backoff with larger Conten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may respond before retri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35280" y="1415880"/>
            <a:ext cx="5613480" cy="2603880"/>
            <a:chOff x="1835280" y="1415880"/>
            <a:chExt cx="5613480" cy="2603880"/>
          </a:xfrm>
        </p:grpSpPr>
        <p:sp>
          <p:nvSpPr>
            <p:cNvPr id="218" name=""/>
            <p:cNvSpPr/>
            <p:nvPr/>
          </p:nvSpPr>
          <p:spPr>
            <a:xfrm>
              <a:off x="1835280" y="1447920"/>
              <a:ext cx="5613480" cy="257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968480" y="1415880"/>
              <a:ext cx="532116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137200" y="1619280"/>
              <a:ext cx="2095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78240" y="1638360"/>
              <a:ext cx="2095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63960" y="172080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378240" y="172080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18040" y="16574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23840" y="800280"/>
            <a:ext cx="35305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be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0560" y="4324320"/>
            <a:ext cx="716292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sent to broadcast 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 can be specific or “broadca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Response is directed to specific 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matches P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NetworkID required to identify sourc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460840" y="1393920"/>
            <a:ext cx="2252880" cy="3330360"/>
            <a:chOff x="5460840" y="1393920"/>
            <a:chExt cx="2252880" cy="3330360"/>
          </a:xfrm>
        </p:grpSpPr>
        <p:sp>
          <p:nvSpPr>
            <p:cNvPr id="228" name=""/>
            <p:cNvSpPr/>
            <p:nvPr/>
          </p:nvSpPr>
          <p:spPr>
            <a:xfrm>
              <a:off x="6595920" y="1752480"/>
              <a:ext cx="1028880" cy="29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819840" y="176040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6603840" y="200196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508800" y="226836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508800" y="249696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800760" y="278928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657840" y="308772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508800" y="342432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stam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508800" y="3691080"/>
              <a:ext cx="12049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508800" y="406548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6508800" y="441468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8880" y="1962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08880" y="22417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8880" y="24955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8880" y="27496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08880" y="3073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08880" y="33591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08880" y="3714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8880" y="40575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08880" y="4317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413400" y="2003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413400" y="22575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413400" y="2517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413400" y="28036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413400" y="3114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413400" y="34383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413400" y="3774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413400" y="40924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413400" y="44226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413400" y="1781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60840" y="1393920"/>
              <a:ext cx="206388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Respons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289160" y="1393920"/>
            <a:ext cx="1928880" cy="2365200"/>
            <a:chOff x="1289160" y="1393920"/>
            <a:chExt cx="1928880" cy="2365200"/>
          </a:xfrm>
        </p:grpSpPr>
        <p:sp>
          <p:nvSpPr>
            <p:cNvPr id="260" name=""/>
            <p:cNvSpPr/>
            <p:nvPr/>
          </p:nvSpPr>
          <p:spPr>
            <a:xfrm>
              <a:off x="2093760" y="1733400"/>
              <a:ext cx="1028880" cy="202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324160" y="174132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108160" y="198288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013120" y="22496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013120" y="24782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305080" y="277020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162160" y="306864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013120" y="344340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6720" y="19432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06720" y="22226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2840" y="24764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6720" y="2730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6720" y="30542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06720" y="3340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898640" y="19782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898640" y="22320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898640" y="2492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98640" y="27781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898640" y="3089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898640" y="34513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898640" y="1755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289160" y="1393920"/>
              <a:ext cx="9079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04760" y="647640"/>
            <a:ext cx="36068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ight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60560" y="1587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ad hoc network synch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have” infinite” weight. They are always in sy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maintains its own Weigh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maintains its own SYNC fl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ght increases as STA participates in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Beacons heard = more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YNCed stations heard = more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ever a STA sends Beacon or Probe Response, it includes its Weight and SY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ght is used to decide which timer is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04760" y="647640"/>
            <a:ext cx="54878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er Adjustment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20880" y="165744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857160"/>
                <a:tab algn="l" pos="1314360"/>
                <a:tab algn="l" pos="1771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Timer Adjustment for unSYNCed 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Beacon or Probe Response with SYNC 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adopt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Probe Response with SYN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Adjust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857160"/>
                <a:tab algn="l" pos="1314360"/>
                <a:tab algn="l" pos="1771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Timer adjustment rules for SYNCed 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Beacon or Probe Response with SYNC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if difference between timers is above thresh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Coale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Adjust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Probe Response with SYNC = 0 ign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04760" y="647640"/>
            <a:ext cx="52322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Timer Adjus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60560" y="1790640"/>
            <a:ext cx="7581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quickly synchronized with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ed ad hoc networks cause new STAs to synchroniz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new ad hoc networks, STAs adjust towards a comm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ust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685800"/>
                <a:tab algn="l" pos="1143000"/>
                <a:tab algn="l" pos="160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ing STA uses weighted average to determine how much to adju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685800"/>
                <a:tab algn="l" pos="1143000"/>
                <a:tab algn="l" pos="160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ing a Beacon or Probe Response with a higher Weight than STA Weight causes large adju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04760" y="647640"/>
            <a:ext cx="6273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itializing Ad 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4080" y="1467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can (BSSID = specific) for 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If hear something then 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tay active for T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NetworkID and timing of that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ed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s to establish BSS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23840" y="800280"/>
            <a:ext cx="72914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sic Synchronization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0560" y="1790640"/>
            <a:ext cx="7556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synchronizati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ad hoc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provide timing reference for each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used to calibrate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Beaco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tible with C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004760" y="647640"/>
            <a:ext cx="19558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60560" y="1276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lusters of the same BSS may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d ad hoc startu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rted out of range and moved closer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sters can’t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timing doesn’t match in FH S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“superframe timing” doesn’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wake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120680" y="4267080"/>
            <a:ext cx="7029360" cy="1809720"/>
            <a:chOff x="1120680" y="4267080"/>
            <a:chExt cx="7029360" cy="1809720"/>
          </a:xfrm>
        </p:grpSpPr>
        <p:sp>
          <p:nvSpPr>
            <p:cNvPr id="293" name=""/>
            <p:cNvSpPr/>
            <p:nvPr/>
          </p:nvSpPr>
          <p:spPr>
            <a:xfrm>
              <a:off x="1120680" y="4267080"/>
              <a:ext cx="7029360" cy="180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7760" y="51181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468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6244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11760" y="4849920"/>
              <a:ext cx="46080" cy="2635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47720" y="4911840"/>
              <a:ext cx="96840" cy="19368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95480" y="4924440"/>
              <a:ext cx="95400" cy="19368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89520" y="4924440"/>
              <a:ext cx="54000" cy="19368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73400" y="4916520"/>
              <a:ext cx="189000" cy="20160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3678120" y="4775040"/>
              <a:ext cx="690840" cy="343080"/>
              <a:chOff x="3678120" y="4775040"/>
              <a:chExt cx="690840" cy="34308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367812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5588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896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05952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8840" y="4849920"/>
              <a:ext cx="46080" cy="263520"/>
            </a:xfrm>
            <a:prstGeom prst="rect">
              <a:avLst/>
            </a:pr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70480" y="4916520"/>
              <a:ext cx="112680" cy="20160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4849920"/>
              <a:ext cx="46080" cy="263520"/>
            </a:xfrm>
            <a:prstGeom prst="rect">
              <a:avLst/>
            </a:pr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75200" y="4775040"/>
              <a:ext cx="690840" cy="343080"/>
              <a:chOff x="5875200" y="4775040"/>
              <a:chExt cx="690840" cy="34308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587520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5296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6604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531800" y="4775040"/>
              <a:ext cx="690840" cy="343080"/>
              <a:chOff x="1531800" y="4775040"/>
              <a:chExt cx="690840" cy="343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153180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0956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2264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228680" y="57405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984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2760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78440" y="5465880"/>
              <a:ext cx="46080" cy="263520"/>
            </a:xfrm>
            <a:prstGeom prst="rect">
              <a:avLst/>
            </a:prstGeom>
            <a:blipFill rotWithShape="0">
              <a:blip r:embed="rId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60640" y="5540400"/>
              <a:ext cx="95400" cy="193680"/>
            </a:xfrm>
            <a:prstGeom prst="rect">
              <a:avLst/>
            </a:prstGeom>
            <a:blipFill rotWithShape="0">
              <a:blip r:embed="rId10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19560" y="5527800"/>
              <a:ext cx="54000" cy="193680"/>
            </a:xfrm>
            <a:prstGeom prst="rect">
              <a:avLst/>
            </a:prstGeom>
            <a:blipFill rotWithShape="0">
              <a:blip r:embed="rId1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1400" y="5532480"/>
              <a:ext cx="189000" cy="201600"/>
            </a:xfrm>
            <a:prstGeom prst="rect">
              <a:avLst/>
            </a:prstGeom>
            <a:blipFill rotWithShape="0">
              <a:blip r:embed="rId1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643280" y="5391000"/>
              <a:ext cx="690840" cy="343080"/>
              <a:chOff x="4643280" y="5391000"/>
              <a:chExt cx="690840" cy="34308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464328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140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02468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37360" y="5478480"/>
              <a:ext cx="46080" cy="263520"/>
            </a:xfrm>
            <a:prstGeom prst="rect">
              <a:avLst/>
            </a:prstGeom>
            <a:blipFill rotWithShape="0">
              <a:blip r:embed="rId1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50120" y="5532480"/>
              <a:ext cx="112680" cy="201600"/>
            </a:xfrm>
            <a:prstGeom prst="rect">
              <a:avLst/>
            </a:prstGeom>
            <a:blipFill rotWithShape="0">
              <a:blip r:embed="rId1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93960" y="5465880"/>
              <a:ext cx="46080" cy="263520"/>
            </a:xfrm>
            <a:prstGeom prst="rect">
              <a:avLst/>
            </a:prstGeom>
            <a:blipFill rotWithShape="0">
              <a:blip r:embed="rId1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840360" y="5391000"/>
              <a:ext cx="690840" cy="343080"/>
              <a:chOff x="6840360" y="5391000"/>
              <a:chExt cx="690840" cy="34308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684036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1848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3120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96960" y="5391000"/>
              <a:ext cx="690840" cy="343080"/>
              <a:chOff x="2496960" y="5391000"/>
              <a:chExt cx="690840" cy="34308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49696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7508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8780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flipV="1">
              <a:off x="1476360" y="453384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276640" y="453384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76360" y="459756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441520" y="519444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241800" y="519444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41520" y="525780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1625760" y="4282920"/>
              <a:ext cx="565200" cy="36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416480" y="4930920"/>
              <a:ext cx="1314720" cy="228600"/>
              <a:chOff x="4416480" y="4930920"/>
              <a:chExt cx="1314720" cy="228600"/>
            </a:xfrm>
          </p:grpSpPr>
          <p:sp>
            <p:nvSpPr>
              <p:cNvPr id="349" name=""/>
              <p:cNvSpPr/>
              <p:nvPr/>
            </p:nvSpPr>
            <p:spPr>
              <a:xfrm>
                <a:off x="4416480" y="4940280"/>
                <a:ext cx="1301760" cy="177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4492800" y="4930920"/>
                <a:ext cx="1238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an Opportun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432400" y="5553000"/>
              <a:ext cx="1314720" cy="228600"/>
              <a:chOff x="5432400" y="5553000"/>
              <a:chExt cx="1314720" cy="22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5432400" y="5562720"/>
                <a:ext cx="1301760" cy="177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5508720" y="5553000"/>
                <a:ext cx="1238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an Opportun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04760" y="647640"/>
            <a:ext cx="5589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alescing BSS 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01800" y="1581120"/>
            <a:ext cx="7467480" cy="40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in ad hoc networks periodically s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find other cluster, then do Coales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ght used to determine which cluster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scanner’s cluster loses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to old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+ indicating other cluster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itch to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+ on scanned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s how to find scanner’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to old 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23840" y="666720"/>
            <a:ext cx="65530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52560" y="1251000"/>
            <a:ext cx="7378560" cy="50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synch. is required for many MA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a general mechanism that can b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 in Contention Fre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synchronization in FHSS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vents are timed by station TSF ti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necessary to send frames to indicate network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sync while sleeping or out of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ic Beacon transmission calibrates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ields not required in all MAC fr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econd accuracy i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4760" y="647640"/>
            <a:ext cx="50547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0560" y="1790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ing a single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for BSS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WMAC uses a common technique that supports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06640" y="1447920"/>
            <a:ext cx="5423040" cy="18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04760" y="647640"/>
            <a:ext cx="43196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acon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0560" y="3524400"/>
            <a:ext cx="7785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transmission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sends Beacons in infrastructure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19240" y="1467000"/>
            <a:ext cx="5321160" cy="1816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892680" y="1882800"/>
            <a:ext cx="85680" cy="419040"/>
            <a:chOff x="3892680" y="1882800"/>
            <a:chExt cx="85680" cy="419040"/>
          </a:xfrm>
        </p:grpSpPr>
        <p:sp>
          <p:nvSpPr>
            <p:cNvPr id="97" name=""/>
            <p:cNvSpPr/>
            <p:nvPr/>
          </p:nvSpPr>
          <p:spPr>
            <a:xfrm>
              <a:off x="393696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3905280" y="2230560"/>
              <a:ext cx="2844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40200" y="2230560"/>
              <a:ext cx="2844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8926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26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49800" y="1882800"/>
            <a:ext cx="85680" cy="419040"/>
            <a:chOff x="5149800" y="1882800"/>
            <a:chExt cx="85680" cy="419040"/>
          </a:xfrm>
        </p:grpSpPr>
        <p:sp>
          <p:nvSpPr>
            <p:cNvPr id="103" name=""/>
            <p:cNvSpPr/>
            <p:nvPr/>
          </p:nvSpPr>
          <p:spPr>
            <a:xfrm>
              <a:off x="519444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16240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9732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14980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4980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19880" y="1882800"/>
            <a:ext cx="85680" cy="419040"/>
            <a:chOff x="6419880" y="1882800"/>
            <a:chExt cx="85680" cy="419040"/>
          </a:xfrm>
        </p:grpSpPr>
        <p:sp>
          <p:nvSpPr>
            <p:cNvPr id="109" name=""/>
            <p:cNvSpPr/>
            <p:nvPr/>
          </p:nvSpPr>
          <p:spPr>
            <a:xfrm>
              <a:off x="646416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643248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46740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198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198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01840" y="1882800"/>
            <a:ext cx="85680" cy="419040"/>
            <a:chOff x="2301840" y="1882800"/>
            <a:chExt cx="85680" cy="419040"/>
          </a:xfrm>
        </p:grpSpPr>
        <p:sp>
          <p:nvSpPr>
            <p:cNvPr id="115" name=""/>
            <p:cNvSpPr/>
            <p:nvPr/>
          </p:nvSpPr>
          <p:spPr>
            <a:xfrm>
              <a:off x="234648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31444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936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0184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0184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6607080" y="17305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 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23840" y="800280"/>
            <a:ext cx="4191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 Hoc Beac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0560" y="51055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Beac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station in BSS may send a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d Beacon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30320" y="1384200"/>
            <a:ext cx="5423040" cy="3378240"/>
            <a:chOff x="1930320" y="1384200"/>
            <a:chExt cx="5423040" cy="3378240"/>
          </a:xfrm>
        </p:grpSpPr>
        <p:sp>
          <p:nvSpPr>
            <p:cNvPr id="124" name=""/>
            <p:cNvSpPr/>
            <p:nvPr/>
          </p:nvSpPr>
          <p:spPr>
            <a:xfrm>
              <a:off x="1930320" y="1384200"/>
              <a:ext cx="5423040" cy="337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968480" y="1422360"/>
              <a:ext cx="5321160" cy="331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04760" y="647640"/>
            <a:ext cx="54100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Ad Hoc Beac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0560" y="1409760"/>
            <a:ext cx="716292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Beacon Sender’s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ke up before expected Beac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to current transmission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 access backof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when network was 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s send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heard another Beacon cancel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transmit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collis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multicasts, so no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likely to succeed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SYNCed stations send Beac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23840" y="800280"/>
            <a:ext cx="3886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ac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0560" y="46101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89760" y="1866960"/>
            <a:ext cx="1299960" cy="2971800"/>
            <a:chOff x="6089760" y="1866960"/>
            <a:chExt cx="1299960" cy="2971800"/>
          </a:xfrm>
        </p:grpSpPr>
        <p:grpSp>
          <p:nvGrpSpPr>
            <p:cNvPr id="131" name=""/>
            <p:cNvGrpSpPr/>
            <p:nvPr/>
          </p:nvGrpSpPr>
          <p:grpSpPr>
            <a:xfrm>
              <a:off x="6184800" y="1866960"/>
              <a:ext cx="1204920" cy="2971800"/>
              <a:chOff x="6184800" y="1866960"/>
              <a:chExt cx="1204920" cy="2971800"/>
            </a:xfrm>
          </p:grpSpPr>
          <p:sp>
            <p:nvSpPr>
              <p:cNvPr id="132" name=""/>
              <p:cNvSpPr/>
              <p:nvPr/>
            </p:nvSpPr>
            <p:spPr>
              <a:xfrm>
                <a:off x="6272280" y="1866960"/>
                <a:ext cx="1028880" cy="2971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6496200" y="1874880"/>
                <a:ext cx="582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6280200" y="2116080"/>
                <a:ext cx="1014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6184800" y="23828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PDU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6184800" y="26114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work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6477120" y="2903400"/>
                <a:ext cx="620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6334200" y="3201840"/>
                <a:ext cx="906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ur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184800" y="35384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stamp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6184800" y="3805200"/>
                <a:ext cx="120492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acon Interv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184800" y="417996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igh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6184800" y="452916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C-3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84880" y="2076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84880" y="235584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84880" y="26100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84880" y="28638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84880" y="31878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84880" y="34732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84880" y="382896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84880" y="417204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84880" y="443232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6089760" y="2117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89760" y="23716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089760" y="2631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089760" y="2917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089760" y="3228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089760" y="3552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089760" y="38894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089760" y="4206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089760" y="45370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89760" y="1895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17720" y="1866960"/>
            <a:ext cx="1338120" cy="3873600"/>
            <a:chOff x="1917720" y="1866960"/>
            <a:chExt cx="1338120" cy="3873600"/>
          </a:xfrm>
        </p:grpSpPr>
        <p:sp>
          <p:nvSpPr>
            <p:cNvPr id="163" name=""/>
            <p:cNvSpPr/>
            <p:nvPr/>
          </p:nvSpPr>
          <p:spPr>
            <a:xfrm>
              <a:off x="2112840" y="1866960"/>
              <a:ext cx="1028880" cy="3873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336760" y="187488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120760" y="211608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025720" y="23828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025720" y="26114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317680" y="290340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174760" y="320184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025720" y="35384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stam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025720" y="3805200"/>
              <a:ext cx="12049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con Interv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050920" y="53672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25800" y="20764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5800" y="2355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25800" y="2610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5800" y="28638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5800" y="31878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25800" y="34732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25800" y="38289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5800" y="4172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5800" y="52959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095560" y="4199040"/>
              <a:ext cx="1084320" cy="104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Power Management Element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IM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adcas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917720" y="2111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917720" y="23652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917720" y="2625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917720" y="29113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917720" y="3222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917720" y="35463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917720" y="3882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917720" y="53881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917720" y="1889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5727600" y="1527120"/>
            <a:ext cx="10605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 H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08240" y="1527120"/>
            <a:ext cx="1746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ra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23840" y="800280"/>
            <a:ext cx="35575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er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0560" y="1619280"/>
            <a:ext cx="7162920" cy="42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included in every Bea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ing station’s TSF timer in micr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1 bit value and 1 bit SYN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send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is sender’s timer at SFD transmiss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receiv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ve local TSF timer when Beacon SFD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idate received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OK, compare saved timer with Beacon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s amount to adjust local station time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adjust for propagation and transceiv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 synchronization i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023840" y="800280"/>
            <a:ext cx="4419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 of T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60560" y="1562040"/>
            <a:ext cx="750564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may contain TIM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wake up just before expected Bea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in each super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or Frequency Hopping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’ TSF Timers synchronized, so ho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on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04760" y="647640"/>
            <a:ext cx="6477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y Hopping and TS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20880" y="1562040"/>
            <a:ext cx="74296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use their TSF timer to maintain hop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PHY dependency is Max TS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SF value is total time for hop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TSF = NumHops * Dwell_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value describes progress in hopp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hop and how long in tha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independently time Dwell_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ation knows when to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stretching i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ields not required in MAC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_Interval and Beacon_Interval indepen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