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93640" y="174600"/>
            <a:ext cx="1216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uary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606920" y="174600"/>
            <a:ext cx="2114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-94/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09960" y="8732880"/>
            <a:ext cx="687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</a:t>
            </a:r>
            <a:fld id="{C2161089-9C3F-4D40-8F11-DDB787FDA8EF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8732880"/>
            <a:ext cx="207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Diagrams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45720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87631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035600" y="8732880"/>
            <a:ext cx="2685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O’Hara, Advanced Micro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87200" y="2498760"/>
            <a:ext cx="6338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 Control State Machine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802.11 Wireless 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0920" y="7489800"/>
            <a:ext cx="2451240" cy="94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b O’H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ced Micro Devices,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: bob.ohara@amd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33520"/>
            <a:ext cx="594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69960" y="2163600"/>
            <a:ext cx="5654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hope abandon, ye who enter her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317840" y="5440320"/>
            <a:ext cx="1913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ante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685800"/>
            <a:ext cx="5638680" cy="769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Access Control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municating state machines for the asynchronous portion of the 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additional resources (timer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ocu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 with this protocol is that transition X fails because ..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fix this by changing P into Q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 more formal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 base for furthe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time-bounded and contention-free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access poin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llow independent simulation, analysis and critique of a comm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suggestion to proc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lyze what i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iticiz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a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05120" y="2209680"/>
            <a:ext cx="3429000" cy="1295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5562720"/>
            <a:ext cx="220968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5562720"/>
            <a:ext cx="30481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371600" y="3505320"/>
            <a:ext cx="83808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286000" y="3505320"/>
            <a:ext cx="30492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733920" y="3505320"/>
            <a:ext cx="15228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495680" y="487692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1676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352680" y="3505320"/>
            <a:ext cx="0" cy="4038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724280" y="6705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257800" y="48769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3505320"/>
            <a:ext cx="22860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800600" y="3505320"/>
            <a:ext cx="228600" cy="8380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343400"/>
            <a:ext cx="68580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4343400"/>
            <a:ext cx="60948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4267080" y="3505320"/>
            <a:ext cx="15264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81320" y="4510080"/>
            <a:ext cx="677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79880" y="451008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625840" y="2689200"/>
            <a:ext cx="1913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at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68400" y="6041880"/>
            <a:ext cx="203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tat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156200" y="6041880"/>
            <a:ext cx="190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State Mach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884240" y="329076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04840" y="55767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101680" y="1461960"/>
            <a:ext cx="977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76560" y="7710480"/>
            <a:ext cx="55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362480" y="76341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_recei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583080" y="5576760"/>
            <a:ext cx="912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type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368960" y="557676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159520" y="557676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91080" y="3290760"/>
            <a:ext cx="4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14880" y="4357800"/>
            <a:ext cx="438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674800" y="738360"/>
            <a:ext cx="1663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16040" y="8472600"/>
            <a:ext cx="1465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Data path is not show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095880" y="167652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65600" y="5576760"/>
            <a:ext cx="1062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Recogniz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1295280"/>
            <a:ext cx="0" cy="708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295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91120" y="1295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1295280"/>
            <a:ext cx="0" cy="2362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7524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17524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17524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191120" y="32004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8120" y="3200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981080" y="32004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838080" y="32004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77880" y="153828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re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16240" y="1538280"/>
            <a:ext cx="579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49880" y="1538280"/>
            <a:ext cx="598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 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341960" y="29862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59000" y="2986200"/>
            <a:ext cx="996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body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82680" y="2986200"/>
            <a:ext cx="663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66760" y="32148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00080" y="2986200"/>
            <a:ext cx="895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amble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41520" y="89856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529000" y="90648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re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98920" y="90648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Start Delimi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99160" y="906480"/>
            <a:ext cx="76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672000" y="2430360"/>
            <a:ext cx="1038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728800" y="2430360"/>
            <a:ext cx="63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17760" y="2430360"/>
            <a:ext cx="928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6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st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49560" y="585720"/>
            <a:ext cx="255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1295280"/>
            <a:ext cx="0" cy="708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31240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52680" y="3581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41520" y="89856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02440" y="1295280"/>
            <a:ext cx="0" cy="7086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681520" y="898560"/>
            <a:ext cx="1044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838080" y="21337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676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990880" y="1461960"/>
            <a:ext cx="725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_recei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668680" y="1919160"/>
            <a:ext cx="13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_error | Format_err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46483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61722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7543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838080" y="3809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352680" y="51055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838080" y="53341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352680" y="80010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38080" y="68580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352680" y="6324480"/>
            <a:ext cx="2781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38080" y="8229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878200" y="273528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78200" y="4259160"/>
            <a:ext cx="949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71720" y="5783400"/>
            <a:ext cx="963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60560" y="7155000"/>
            <a:ext cx="984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16320" y="3367080"/>
            <a:ext cx="101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16320" y="4890960"/>
            <a:ext cx="101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173480" y="6110280"/>
            <a:ext cx="102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352680" y="6858000"/>
            <a:ext cx="2781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086360" y="6643800"/>
            <a:ext cx="1201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Unit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03720" y="778680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_type = 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233440" y="662040"/>
            <a:ext cx="2392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55720" y="3824280"/>
            <a:ext cx="7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55720" y="5348160"/>
            <a:ext cx="7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51040" y="687240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741320" y="824400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flag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838080" y="3276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38080" y="48006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838080" y="63244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838080" y="76960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71720" y="3290760"/>
            <a:ext cx="2124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flag = 0, Update NAV, Start RTS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49360" y="4815000"/>
            <a:ext cx="13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flag = 0, Update 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51040" y="633888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_flag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41320" y="771048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flag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58960" y="3062160"/>
            <a:ext cx="749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459080" y="4586400"/>
            <a:ext cx="1349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&lt;&gt;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39760" y="6110280"/>
            <a:ext cx="198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0 | MPDU_ID &lt;&gt;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459080" y="7481880"/>
            <a:ext cx="1349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&lt;&gt;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758960" y="3595680"/>
            <a:ext cx="749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487520" y="511956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=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36520" y="6643800"/>
            <a:ext cx="199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1 &amp; MPDU_ID =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487520" y="801540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_ID = Original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078440" y="359568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_ID = MPDU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02120" y="6872400"/>
            <a:ext cx="1292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_ID = MPDU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471760" y="1690560"/>
            <a:ext cx="1762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_addr = 0, Reset frame type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25520" y="662040"/>
            <a:ext cx="240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ate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28195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4800" y="2819520"/>
            <a:ext cx="0" cy="1828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9907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2004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376440" y="29862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73560" y="2986200"/>
            <a:ext cx="59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fl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41520" y="59364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714760" y="2430360"/>
            <a:ext cx="97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49760" y="2430360"/>
            <a:ext cx="730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 W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637240" y="601560"/>
            <a:ext cx="766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Wa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990720"/>
            <a:ext cx="0" cy="76197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4800" y="3200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200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81480" y="17524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89360" y="1363680"/>
            <a:ext cx="984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51040" y="2986200"/>
            <a:ext cx="22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ata_req &amp; Media Free DIFS &amp; Backoff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281560" y="29862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838080" y="1219320"/>
            <a:ext cx="5181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117960" y="10047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fl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90720" y="1233360"/>
            <a:ext cx="32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= 0, CW = CWmin, Reset frame type flags, Stop ACK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29200" y="411480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498920" y="3726000"/>
            <a:ext cx="1062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Fai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114800" y="420516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_time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029200" y="4952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167440" y="4738680"/>
            <a:ext cx="793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_time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38080" y="49528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367000" y="4738680"/>
            <a:ext cx="1212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&gt; Retry_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84320" y="4967280"/>
            <a:ext cx="362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failed = 1, Retry_cnt = 0, Reset NAV, CW = CWmin, Reset frame type fla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5867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492280" y="5478480"/>
            <a:ext cx="957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Backo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971800" y="61722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357720" y="5958000"/>
            <a:ext cx="1211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</a:t>
            </a:r>
            <a:r>
              <a:rPr b="1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≤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y_ma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38080" y="61722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33480" y="6186600"/>
            <a:ext cx="194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 = min(2*CW, CWmax), Backoff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7010280"/>
            <a:ext cx="0" cy="83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72388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933720" y="6621480"/>
            <a:ext cx="971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924280" y="7024680"/>
            <a:ext cx="1471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flag &amp; Media Free S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838080" y="769608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454560" y="74818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4120" y="784872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80773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30840" y="7459560"/>
            <a:ext cx="100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346640" y="78627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_fla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838080" y="8534520"/>
            <a:ext cx="4496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368960" y="83199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410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3400" y="5195880"/>
            <a:ext cx="412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_broadcast_req | Tx_multicast_req | Tx_unitdata_req | Tx_data_req) &amp; Media not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301920" y="618660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_cnt = Retry_cnt +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98108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38080" y="2362320"/>
            <a:ext cx="4343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39960" y="1766880"/>
            <a:ext cx="4221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_broadcast_req | Tx_multicast_req | Tx_unitdata_req) &amp; Media Free DIFS &amp; Backoff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771560" y="2147760"/>
            <a:ext cx="2401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_broadcast_req | Tx_multicast_req) &amp; Tx_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3657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8862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2096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33480" y="34434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timeout &amp; No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95240" y="3900600"/>
            <a:ext cx="145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, RTS_timeou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838080" y="5424480"/>
            <a:ext cx="1371600" cy="671400"/>
            <a:chOff x="838080" y="5424480"/>
            <a:chExt cx="1371600" cy="671400"/>
          </a:xfrm>
        </p:grpSpPr>
        <p:sp>
          <p:nvSpPr>
            <p:cNvPr id="232" name=""/>
            <p:cNvSpPr/>
            <p:nvPr/>
          </p:nvSpPr>
          <p:spPr>
            <a:xfrm>
              <a:off x="838080" y="56386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8080" y="586728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2209680" y="56386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1085760" y="5424480"/>
              <a:ext cx="8762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off expir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1182600" y="5881680"/>
              <a:ext cx="6825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ckoff =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781200" y="6415200"/>
            <a:ext cx="1638360" cy="671400"/>
            <a:chOff x="781200" y="6415200"/>
            <a:chExt cx="1638360" cy="671400"/>
          </a:xfrm>
        </p:grpSpPr>
        <p:sp>
          <p:nvSpPr>
            <p:cNvPr id="238" name=""/>
            <p:cNvSpPr/>
            <p:nvPr/>
          </p:nvSpPr>
          <p:spPr>
            <a:xfrm>
              <a:off x="838080" y="66294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38080" y="685800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66294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781200" y="6415200"/>
              <a:ext cx="16383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TS_flag &amp; Media not Free SIF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1146240" y="6872400"/>
              <a:ext cx="7556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TS_flag = 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 txBox="1"/>
          <p:nvPr/>
        </p:nvSpPr>
        <p:spPr>
          <a:xfrm>
            <a:off x="4138560" y="3214800"/>
            <a:ext cx="86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 CTS tim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316400" y="8548560"/>
            <a:ext cx="666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267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44956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09680" y="426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08000" y="4052880"/>
            <a:ext cx="1030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timeout &amp; 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062000" y="4510080"/>
            <a:ext cx="925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_timeou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93640" y="1477800"/>
            <a:ext cx="56545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r" pos="5429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ey of a thousand miles must begin with a single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5429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o-t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5429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5429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