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990720" y="533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EEE 802.11 Mobility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83808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 IEEE 802.11 Requirements / goals for mo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To assure that a station can maintain full connectivity while moving around in an area covered by the ESA 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40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ame Forma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523880"/>
            <a:ext cx="716292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FWMAC specifies a X-Request and X-Response frames with a flexible element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est {Element type=Associate, Associate parameters}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parame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{Previous-AP-Address, Original-AP-Address,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ponse {Element type=Associate Response, Associate Response parameter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parameters: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{Station ID, AP-Address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iginal-AP-Address is an example of a parameter that migth be usefull to support a Router based DS (Mobile-IP tunneling sche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APP Function Requir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to specify IAPP (minimal) functions and the MAC/IAPP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nimum Functions requir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mote dis-associ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Previous-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firm dis-associ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om Previous-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ify Association to the 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5486400"/>
            <a:ext cx="12193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9920" y="5486400"/>
            <a:ext cx="12193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029200"/>
            <a:ext cx="762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19920" y="5029200"/>
            <a:ext cx="762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38280" y="5257800"/>
            <a:ext cx="358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38280" y="5181480"/>
            <a:ext cx="305280" cy="152640"/>
          </a:xfrm>
          <a:custGeom>
            <a:avLst/>
            <a:gdLst/>
            <a:ahLst/>
            <a:rect l="0" t="0" r="r" b="b"/>
            <a:pathLst>
              <a:path w="848" h="424">
                <a:moveTo>
                  <a:pt x="0" y="211"/>
                </a:moveTo>
                <a:lnTo>
                  <a:pt x="848" y="0"/>
                </a:lnTo>
                <a:lnTo>
                  <a:pt x="848" y="424"/>
                </a:lnTo>
                <a:lnTo>
                  <a:pt x="0" y="21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5181480"/>
            <a:ext cx="305280" cy="152640"/>
          </a:xfrm>
          <a:custGeom>
            <a:avLst/>
            <a:gdLst/>
            <a:ahLst/>
            <a:rect l="0" t="0" r="r" b="b"/>
            <a:pathLst>
              <a:path w="848" h="424">
                <a:moveTo>
                  <a:pt x="848" y="211"/>
                </a:moveTo>
                <a:lnTo>
                  <a:pt x="0" y="0"/>
                </a:lnTo>
                <a:lnTo>
                  <a:pt x="0" y="424"/>
                </a:lnTo>
                <a:lnTo>
                  <a:pt x="848" y="21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362480"/>
            <a:ext cx="2438640" cy="1695960"/>
          </a:xfrm>
          <a:custGeom>
            <a:avLst/>
            <a:gdLst/>
            <a:ahLst/>
            <a:rect l="0" t="0" r="r" b="b"/>
            <a:pathLst>
              <a:path w="6774" h="4711">
                <a:moveTo>
                  <a:pt x="846" y="4182"/>
                </a:moveTo>
                <a:lnTo>
                  <a:pt x="952" y="4023"/>
                </a:lnTo>
                <a:lnTo>
                  <a:pt x="952" y="3864"/>
                </a:lnTo>
                <a:lnTo>
                  <a:pt x="952" y="3600"/>
                </a:lnTo>
                <a:lnTo>
                  <a:pt x="1005" y="3387"/>
                </a:lnTo>
                <a:lnTo>
                  <a:pt x="1058" y="3228"/>
                </a:lnTo>
                <a:lnTo>
                  <a:pt x="1058" y="3070"/>
                </a:lnTo>
                <a:lnTo>
                  <a:pt x="1005" y="2911"/>
                </a:lnTo>
                <a:lnTo>
                  <a:pt x="793" y="2858"/>
                </a:lnTo>
                <a:lnTo>
                  <a:pt x="635" y="2858"/>
                </a:lnTo>
                <a:lnTo>
                  <a:pt x="476" y="2858"/>
                </a:lnTo>
                <a:lnTo>
                  <a:pt x="317" y="2699"/>
                </a:lnTo>
                <a:lnTo>
                  <a:pt x="158" y="2541"/>
                </a:lnTo>
                <a:lnTo>
                  <a:pt x="52" y="2382"/>
                </a:lnTo>
                <a:lnTo>
                  <a:pt x="0" y="2170"/>
                </a:lnTo>
                <a:lnTo>
                  <a:pt x="0" y="1958"/>
                </a:lnTo>
                <a:lnTo>
                  <a:pt x="0" y="1800"/>
                </a:lnTo>
                <a:lnTo>
                  <a:pt x="0" y="1641"/>
                </a:lnTo>
                <a:lnTo>
                  <a:pt x="52" y="1482"/>
                </a:lnTo>
                <a:lnTo>
                  <a:pt x="211" y="1323"/>
                </a:lnTo>
                <a:lnTo>
                  <a:pt x="370" y="1271"/>
                </a:lnTo>
                <a:lnTo>
                  <a:pt x="582" y="1218"/>
                </a:lnTo>
                <a:lnTo>
                  <a:pt x="740" y="1164"/>
                </a:lnTo>
                <a:lnTo>
                  <a:pt x="952" y="1164"/>
                </a:lnTo>
                <a:lnTo>
                  <a:pt x="1481" y="1111"/>
                </a:lnTo>
                <a:lnTo>
                  <a:pt x="1693" y="1058"/>
                </a:lnTo>
                <a:lnTo>
                  <a:pt x="1852" y="1058"/>
                </a:lnTo>
                <a:lnTo>
                  <a:pt x="2010" y="1058"/>
                </a:lnTo>
                <a:lnTo>
                  <a:pt x="2169" y="1058"/>
                </a:lnTo>
                <a:lnTo>
                  <a:pt x="2328" y="1058"/>
                </a:lnTo>
                <a:lnTo>
                  <a:pt x="2540" y="1005"/>
                </a:lnTo>
                <a:lnTo>
                  <a:pt x="2698" y="952"/>
                </a:lnTo>
                <a:lnTo>
                  <a:pt x="2804" y="793"/>
                </a:lnTo>
                <a:lnTo>
                  <a:pt x="2910" y="635"/>
                </a:lnTo>
                <a:lnTo>
                  <a:pt x="2963" y="423"/>
                </a:lnTo>
                <a:lnTo>
                  <a:pt x="3122" y="264"/>
                </a:lnTo>
                <a:lnTo>
                  <a:pt x="3280" y="105"/>
                </a:lnTo>
                <a:lnTo>
                  <a:pt x="3546" y="52"/>
                </a:lnTo>
                <a:lnTo>
                  <a:pt x="3705" y="0"/>
                </a:lnTo>
                <a:lnTo>
                  <a:pt x="3916" y="0"/>
                </a:lnTo>
                <a:lnTo>
                  <a:pt x="4075" y="0"/>
                </a:lnTo>
                <a:lnTo>
                  <a:pt x="4234" y="0"/>
                </a:lnTo>
                <a:lnTo>
                  <a:pt x="4393" y="0"/>
                </a:lnTo>
                <a:lnTo>
                  <a:pt x="4604" y="52"/>
                </a:lnTo>
                <a:lnTo>
                  <a:pt x="4869" y="158"/>
                </a:lnTo>
                <a:lnTo>
                  <a:pt x="5028" y="211"/>
                </a:lnTo>
                <a:lnTo>
                  <a:pt x="5186" y="264"/>
                </a:lnTo>
                <a:lnTo>
                  <a:pt x="5345" y="317"/>
                </a:lnTo>
                <a:lnTo>
                  <a:pt x="5504" y="423"/>
                </a:lnTo>
                <a:lnTo>
                  <a:pt x="5663" y="582"/>
                </a:lnTo>
                <a:lnTo>
                  <a:pt x="5821" y="740"/>
                </a:lnTo>
                <a:lnTo>
                  <a:pt x="5927" y="952"/>
                </a:lnTo>
                <a:lnTo>
                  <a:pt x="6139" y="1164"/>
                </a:lnTo>
                <a:lnTo>
                  <a:pt x="6298" y="1323"/>
                </a:lnTo>
                <a:lnTo>
                  <a:pt x="6403" y="1535"/>
                </a:lnTo>
                <a:lnTo>
                  <a:pt x="6509" y="1694"/>
                </a:lnTo>
                <a:lnTo>
                  <a:pt x="6615" y="1906"/>
                </a:lnTo>
                <a:lnTo>
                  <a:pt x="6668" y="2064"/>
                </a:lnTo>
                <a:lnTo>
                  <a:pt x="6668" y="2223"/>
                </a:lnTo>
                <a:lnTo>
                  <a:pt x="6774" y="2435"/>
                </a:lnTo>
                <a:lnTo>
                  <a:pt x="6774" y="2646"/>
                </a:lnTo>
                <a:lnTo>
                  <a:pt x="6774" y="2858"/>
                </a:lnTo>
                <a:lnTo>
                  <a:pt x="6774" y="3017"/>
                </a:lnTo>
                <a:lnTo>
                  <a:pt x="6774" y="3281"/>
                </a:lnTo>
                <a:lnTo>
                  <a:pt x="6774" y="3440"/>
                </a:lnTo>
                <a:lnTo>
                  <a:pt x="6562" y="3600"/>
                </a:lnTo>
                <a:lnTo>
                  <a:pt x="6351" y="3706"/>
                </a:lnTo>
                <a:lnTo>
                  <a:pt x="6192" y="3759"/>
                </a:lnTo>
                <a:lnTo>
                  <a:pt x="6033" y="3812"/>
                </a:lnTo>
                <a:lnTo>
                  <a:pt x="5821" y="3864"/>
                </a:lnTo>
                <a:lnTo>
                  <a:pt x="5610" y="3917"/>
                </a:lnTo>
                <a:lnTo>
                  <a:pt x="5451" y="3917"/>
                </a:lnTo>
                <a:lnTo>
                  <a:pt x="5292" y="3917"/>
                </a:lnTo>
                <a:lnTo>
                  <a:pt x="5081" y="3917"/>
                </a:lnTo>
                <a:lnTo>
                  <a:pt x="4869" y="3970"/>
                </a:lnTo>
                <a:lnTo>
                  <a:pt x="4710" y="4076"/>
                </a:lnTo>
                <a:lnTo>
                  <a:pt x="4551" y="4235"/>
                </a:lnTo>
                <a:lnTo>
                  <a:pt x="4393" y="4288"/>
                </a:lnTo>
                <a:lnTo>
                  <a:pt x="4181" y="4394"/>
                </a:lnTo>
                <a:lnTo>
                  <a:pt x="4022" y="4447"/>
                </a:lnTo>
                <a:lnTo>
                  <a:pt x="3758" y="4605"/>
                </a:lnTo>
                <a:lnTo>
                  <a:pt x="3546" y="4658"/>
                </a:lnTo>
                <a:lnTo>
                  <a:pt x="3333" y="4711"/>
                </a:lnTo>
                <a:lnTo>
                  <a:pt x="3175" y="4711"/>
                </a:lnTo>
                <a:lnTo>
                  <a:pt x="3016" y="4711"/>
                </a:lnTo>
                <a:lnTo>
                  <a:pt x="2857" y="4711"/>
                </a:lnTo>
                <a:lnTo>
                  <a:pt x="2698" y="4711"/>
                </a:lnTo>
                <a:lnTo>
                  <a:pt x="2540" y="4605"/>
                </a:lnTo>
                <a:lnTo>
                  <a:pt x="2381" y="4499"/>
                </a:lnTo>
                <a:lnTo>
                  <a:pt x="2222" y="4394"/>
                </a:lnTo>
                <a:lnTo>
                  <a:pt x="2063" y="4288"/>
                </a:lnTo>
                <a:lnTo>
                  <a:pt x="1905" y="4288"/>
                </a:lnTo>
                <a:lnTo>
                  <a:pt x="1746" y="4288"/>
                </a:lnTo>
                <a:lnTo>
                  <a:pt x="1587" y="4288"/>
                </a:lnTo>
                <a:lnTo>
                  <a:pt x="1428" y="4288"/>
                </a:lnTo>
                <a:lnTo>
                  <a:pt x="1270" y="4288"/>
                </a:lnTo>
                <a:lnTo>
                  <a:pt x="1111" y="4288"/>
                </a:lnTo>
                <a:lnTo>
                  <a:pt x="952" y="4235"/>
                </a:lnTo>
                <a:lnTo>
                  <a:pt x="846" y="418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70360" y="4890960"/>
            <a:ext cx="677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36640" y="5059440"/>
            <a:ext cx="776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080040" y="5059440"/>
            <a:ext cx="776160" cy="6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32080" y="5546880"/>
            <a:ext cx="8780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232680" y="5546880"/>
            <a:ext cx="8780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1360" y="4548240"/>
            <a:ext cx="1542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vious-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308640" y="4624560"/>
            <a:ext cx="1047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-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clus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IAPP is needed to support handoff, and standardization is very desirable. 802.11 should at least standardize one flav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tart) scanning algorithm does not need to be standard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amless handoff means that no user interaction is needed to resum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function and MAC/IAPP interface needs to be further r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ssue’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organization will be responsible for IAPP standard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es the standard need to specify performance limits for hand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pending traffic handling strategy should be used: Flushing or recovery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nformation needs to be provided by the MAC to the IAPP to support a variety of DS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tocol functions to perform the association and re-association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ality for communication across, and with the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 hooks for an arbitrary Distribution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 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 Access Point Protocol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APP) in the AP, is introduced to support this DS dependent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IAPP is not part of the MAC, but an interface needs to be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06668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unctions to support Mobilit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APP interoperabilit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190512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erent IAPP's will be needed per 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is important to provide IAPP interoper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organization will be responsible for this standard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 minimum 802.11 should be responsible to standardize the IAPP to support a MAC level bridge based 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06668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andoff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90720" y="1066680"/>
            <a:ext cx="72388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 to determine what AP to (re-)associate with (scan for best A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 to synchronize to the selected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sue (Re-)Associa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-AP to identify the change of a station presence (logical location) to the D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e with the Previous AP using the IAPP to establish a disassociation of the station with that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-AP responds with Associat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ivity is now re-established and communication can be resu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14400" y="4572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hen to start a Reassocia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66680" y="1600200"/>
            <a:ext cx="7162920" cy="44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Stations can start re-assoc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need to “Scan for a better A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start the scanning process based on “Link Quality” trigg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n be signal level/quality, Retransmission Rate increase, Lack of Beac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anning needs to be invoked, independent of the activity of the s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can loose connectivity sudde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y lost their AP before they have found a new 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algorithm used to start the scanning process does not need to be standardized because they do not affect interoper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066680" y="380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eemless Handoff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447920"/>
            <a:ext cx="7162920" cy="43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are the performance requirements for the scanning and re-assoc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ffect only relevant when stations need to re-associate during an active (file) trans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on disruption should preferably be limited to well below the higher layer recovery time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nger disruptions can not be avoided in Wirel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 a user, seamless communication means that temporary traffic disruptions are tolerable, but the communication sessions/connections should be maintained, so that no user intervention is needed to restore commun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anning proces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DFWMAC describes two scan and subsequent synchronization meth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assive scanning method (just listen to Beac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active scanning method using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be Response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ames for a multichannel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uration of scanning process will depend on the PHY used, and the scanning strategy used (vendor specifi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 Does the standard need to specify scanning performance lim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swer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ly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ending traffic handl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vious-AP can have traffic buffered for the station when the station issued a re-association request with the new 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ue of this traffic depends on its 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depends on the retransmission timeouts of the higher layers (not for broadcas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raffic is too old, then recovery will only increase the delay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trategies could be follow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traffic can be recovered over the DS, before new traffic is accepted (need to preserve frame sequen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ffic can be disgarded and the buffer can be flu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Handover Proces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175248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57320" y="1820880"/>
            <a:ext cx="702000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