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6858000" cy="9144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14480" y="406440"/>
            <a:ext cx="66294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7240" y="8636040"/>
            <a:ext cx="66294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9200" y="98280"/>
            <a:ext cx="1152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rch 199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4937040" y="98280"/>
            <a:ext cx="2347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oc: IEEE P802.11-94/37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22320" y="8734320"/>
            <a:ext cx="1260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es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2879640" y="8734320"/>
            <a:ext cx="90504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lide </a:t>
            </a:r>
            <a:fld id="{F448BD75-ED32-48D1-ACEE-F9CD0A7BA565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 txBox="1"/>
          <p:nvPr/>
        </p:nvSpPr>
        <p:spPr>
          <a:xfrm>
            <a:off x="4937040" y="8734320"/>
            <a:ext cx="2298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rk Demange, Motoro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930320"/>
            <a:ext cx="5943600" cy="7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agmentation / Reassembly at the MAC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857160" y="3962520"/>
            <a:ext cx="51436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esented 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Dem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tor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ireless Data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812880"/>
            <a:ext cx="5943600" cy="9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vantage of Fragmentation – Better Performance With Hidden &amp; Sleeping S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743040" y="1930320"/>
            <a:ext cx="5372280" cy="61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ider System With RTS/C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835200" y="3473280"/>
            <a:ext cx="51832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812880"/>
            <a:ext cx="5943600" cy="7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vantage of Fragmentation – Removes Constraints On Dwell/Superframe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743040" y="1930320"/>
            <a:ext cx="5372280" cy="61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C Should Maximize Use Of Bandwidth In Each Hop Interval’ – January 1993 PHY Committee (Pas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ree Options To Achieve Above Goal – more details in sub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x Dwell/Superframe – No Frag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quires Long Dwells To Compensate For Wasted Bandwidth – Long Dwells Undesirable For Effective F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etched Dwell/Super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igh Retransmission Rate Due To Unsynchronized Hopp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oes not meet PHY Motion January 1993 “The hop rate shall be configurable in the MAC but fixed within a given BSA. It does not have to adapt.” PASS 20-1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x Dwell/Superframe – With Frag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llows Short Dwells Without Lost Bandwidth Penal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liminates Unsynchronized Hopping And Its Drawba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liminates Variation In Start Time Of Time Bounded Services Supperfr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812880"/>
            <a:ext cx="5943600" cy="7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vantage of Fragmentation – Removes Constraints On Dwell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743040" y="1930320"/>
            <a:ext cx="5372280" cy="61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ed Dwell Duration with Frag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mit Frames That Will Fit Within Current D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ynamically Adjust Frame Length To Fully Utilize End Of D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5800" y="4726080"/>
            <a:ext cx="612144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57200" y="812880"/>
            <a:ext cx="5943600" cy="7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st Of Fra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743040" y="1930320"/>
            <a:ext cx="5772240" cy="61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s In Fringe Areas (No Interference or Hidden St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 % Of Stations In Outer 5% of Coverage Rad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rame Error Rate (FER) approximated from BER (1 * 10</a:t>
            </a:r>
            <a:r>
              <a:rPr b="1" lang="en-US" sz="1400" spc="-1" strike="noStrike" baseline="67000">
                <a:solidFill>
                  <a:srgbClr val="000000"/>
                </a:solidFill>
                <a:latin typeface="Arial"/>
                <a:ea typeface="Arial"/>
              </a:rPr>
              <a:t>-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xpected Bytes Transmitted per 1100 Byte MSD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-614520" y="4346640"/>
            <a:ext cx="8077320" cy="22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57200" y="812880"/>
            <a:ext cx="5943600" cy="7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st Of Fra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743040" y="1930320"/>
            <a:ext cx="5372280" cy="61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s Not In Fringe Areas (No Interference or Hidden St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R of PHY Better Than 1 * 10</a:t>
            </a:r>
            <a:r>
              <a:rPr b="1" lang="en-US" sz="1800" spc="-1" strike="noStrike" baseline="67000">
                <a:solidFill>
                  <a:srgbClr val="000000"/>
                </a:solidFill>
                <a:latin typeface="Arial"/>
                <a:ea typeface="Arial"/>
              </a:rPr>
              <a:t>-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Yields FER &lt; 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pected Throughput Typical S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ble Assumes Network Level Request-Reply protocol with 1100 byte packets, 100 byte acknowledgments, client response time of 3 ms., server response time of 3 ms., and MAC level windowing of frames. Table does not include effects of interferen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47560" y="5119560"/>
            <a:ext cx="6086520" cy="17146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936720" y="7531200"/>
            <a:ext cx="687564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ragmentation yields less than 5 % degradation in performance at 1 M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ragmentation yields less than 4% degradation in performance at 2 M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57200" y="812880"/>
            <a:ext cx="5943600" cy="7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agmentation Propo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743040" y="1930320"/>
            <a:ext cx="5372280" cy="61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trol Of 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agmentation Protocol Must Ensure Control Of the Channel Is Mainta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urrent Foundation MAC Provides A Mechanism To Provide Channel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annel Control With Windo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992160" y="5129280"/>
            <a:ext cx="486396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57200" y="812880"/>
            <a:ext cx="5943600" cy="7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agmentation Propo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14440" y="1727280"/>
            <a:ext cx="5886360" cy="61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agmentation R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yload Of A Packet Shall Typically Be Some Fixed Number Of Bytes: (max_payload) (except when near the end of a dwel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Payload Of A Packet Shall Typically Be Greater Than Some Fixed Number Of Bytes: (min_payload) (except when fewer than min_payload bytes are remaining in the pack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Number Of Bytes In A Payload Can Be Reduced From max_payload To Allow More Efficient Usage Of The Time Near The End Of A Dwel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n A Data Packet Needs To Be Transmitted, The Number Of Bytes In The Payload Of A New Fragment Is Determined B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Time Remaining In The Current Dwel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Number Of Bytes In The Packet That Have Not Yet Been Transmitted For The First Tim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57200" y="812880"/>
            <a:ext cx="5943600" cy="7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agmentation Propo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743040" y="1930320"/>
            <a:ext cx="5372280" cy="61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agmentation Rules 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ce The Payload Of A Fragment Has Been Established, That Fragment Will Remain Fixed Until The Fragment Is Successfully Delivered To The Immediate Destin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 Access Point Relaying A Packet Will Be Allowed To Re-Fragment The Packe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ices Must Transmit Only If There Is Enough Time Remaining In The Dwell To Allow The Transmission Plus The Acknowledgment If One Is Du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f A Fragment Requires Retransmission Near The End Of A Dwell And There Is Not Enough Time Left For The Fragment Plus The Ack: The Device Must Defer Until The Next Dwel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57200" y="812880"/>
            <a:ext cx="5943600" cy="7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agmentation Propo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43040" y="1930320"/>
            <a:ext cx="5372280" cy="61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agmentation Rules 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agmentation Near Dwell Boundar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07880" y="3552840"/>
            <a:ext cx="6032520" cy="1612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307800" y="5803920"/>
            <a:ext cx="845964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ximum Frame Size = 200 Bytes, Minimum Frame Size = 25 Bytes, MSDU of 385 By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57200" y="812880"/>
            <a:ext cx="5943600" cy="7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agmentation Propo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743040" y="1930320"/>
            <a:ext cx="5372280" cy="61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agmentation Rules 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agmentation Near Dwell Boundary: (another examp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07880" y="3780000"/>
            <a:ext cx="6032520" cy="15494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79200" y="6108840"/>
            <a:ext cx="845964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ximum Frame Size = 200 Bytes, Minimum Frame Size = 25 Bytes, MSDU of 585 By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812880"/>
            <a:ext cx="5943600" cy="7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743040" y="1930320"/>
            <a:ext cx="5372280" cy="61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undation MAC doesn’t specify fragmentation cap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agmentation enhances system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roves performance in presence of microwave ov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roves performance with hidden stations within B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ows optimal hopping FH PH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duces or Eliminate Variation in Start of Time Bounded Services Super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uthors believe MAC without fragmentation is a broken M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812880"/>
            <a:ext cx="5943600" cy="7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agmentation Propo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743040" y="1930320"/>
            <a:ext cx="5372280" cy="61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agmentation Rules (continu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transmission of Window Due To Lost Acknowled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58840" y="3736800"/>
            <a:ext cx="622152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7200" y="812880"/>
            <a:ext cx="5943600" cy="7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agmentation Propo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743040" y="1930320"/>
            <a:ext cx="5372280" cy="61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acket Reassemb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ch Data Frame Requires Sufficient Information To Allow Reassembly At Receiving S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rame Type (data, acknowledgment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 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tination 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cket Sequence Num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ragment ID Number – fragments of MSDU sequentially numbe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nd-Of-Packet indicator – indicates current fragment ID number corresponds to total frames in MSD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812880"/>
            <a:ext cx="5943600" cy="7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agmentation Propo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43040" y="1930320"/>
            <a:ext cx="5372280" cy="61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ame Form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 additional element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709640" y="3490920"/>
            <a:ext cx="3411360" cy="8920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873080" y="6246720"/>
            <a:ext cx="2751120" cy="16938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720720" y="5153040"/>
            <a:ext cx="531648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knowledgment 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itmap Field Of Fragments Received Is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22240" y="4686120"/>
            <a:ext cx="556740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71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ragment ID # is a binary field – not bit-map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812880"/>
            <a:ext cx="5943600" cy="7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43040" y="1930320"/>
            <a:ext cx="577224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agmentation enhances system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roves performance in presence of microwave ov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roves performance with hidden s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ows optimal hopping FH PH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duces or Eliminate Variation in Start of Time Bounded Services Super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enefits Of Fragmentation Offsets Minimal Over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 Element Per Frame of O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ame Windowing Minimizes Additional Acknowledg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agmentation Proposal Easily Integrated Into Foundation M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chanism To Control Channel Already Ex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Frames and Acknowledgment Frames Altered Sligh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57200" y="812880"/>
            <a:ext cx="5943600" cy="7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743040" y="1930320"/>
            <a:ext cx="5372280" cy="61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oal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ose Issue 20.6 “Is there a need for fragmentation/reassembly at the MAC layer?” – 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tion: Use the proposal given in this submission as a basis for implementation  in the draft standard? – 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812880"/>
            <a:ext cx="5943600" cy="7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43040" y="1930320"/>
            <a:ext cx="5372280" cy="61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clude Fragmentation in MAC (issue 20.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dopt Proposal Given In doc: IEEE P802.11-94/37 as basis for inclusion in M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812880"/>
            <a:ext cx="5943600" cy="7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utline Of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43040" y="1930320"/>
            <a:ext cx="5372280" cy="61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dvantages of Frag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st of Frag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agmentation Propo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cl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812880"/>
            <a:ext cx="5943600" cy="9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vantages of Fragmentation - Enhanced Performance in Presence of Microwave Oven Inter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743040" y="1930320"/>
            <a:ext cx="5372280" cy="61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aracteristics Of Microwave Oven Inter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lse Amplitude Modulated Sig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0 Hz Square Wave – 8.3 ms. ON, 8.3 ms. 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ypically Occupies 10 to 20 MHz of the band at any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ising and Falling Edges of Pulse ‘splatter’ Across the B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enter Frequency of Oven Drifts By Up to 10 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mpact of Oven Inter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oth DS and FH Systems Eff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ystems Effected If Desired Signal to Interfered Signal Ratio is too Sm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y Frames Greater than 8.3 ms Guaranteed Not To Be Received Correctly (1100 Byte Ethernet Packet = 8.8 ms @ 1 Mb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812880"/>
            <a:ext cx="5943600" cy="9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vantages of Fragmentation - Enhanced Performance in Presence of Microwave Oven Inter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743040" y="1930320"/>
            <a:ext cx="5372280" cy="61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28680" y="2860560"/>
            <a:ext cx="6296040" cy="47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812880"/>
            <a:ext cx="5943600" cy="9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vantages of Fragmentation - Enhanced Performance in Presence of Microwave Oven Inter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43040" y="1930320"/>
            <a:ext cx="5372280" cy="61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60280" y="2720880"/>
            <a:ext cx="6319800" cy="47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812880"/>
            <a:ext cx="5943600" cy="9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vantages of Fragmentation - Enhanced Performance in Presence of Microwave Oven Inter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743040" y="1930320"/>
            <a:ext cx="5372280" cy="61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07800" y="3025800"/>
            <a:ext cx="610884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812880"/>
            <a:ext cx="5943600" cy="9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vantage of Fragmentation – Better Performance With Hidden &amp; Sleeping S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743040" y="1930320"/>
            <a:ext cx="5372280" cy="61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S and FH Systems Vulnerable to Interference From Hidden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TS/CTS Helps IF Stations Are Awake To Hear RTS/CTS Transmi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sider System With No RTS/C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63480" y="4840200"/>
            <a:ext cx="5183280" cy="27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