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990720" y="533520"/>
            <a:ext cx="71629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March 1994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IEEE P802.11-94/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09480" y="6095880"/>
            <a:ext cx="78487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984240" y="6173640"/>
            <a:ext cx="7176960" cy="3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ndation MAC Tutori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lide:</a:t>
            </a:r>
            <a:fld id="{CD0A5617-D4BB-411C-A13B-391564F88516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0120" y="1457280"/>
            <a:ext cx="794376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Wireless M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76320" y="1701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undation MAC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utorial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802.11 PHY sub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eg Enn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il Bel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m Diepstra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RTS/CTS medium reserv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 Allocation Vector (NAV) follows “Duration” info in RTS and 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of RTS / CTS is optional bu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u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e implemen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er on NAV and "CCA", also for the Contention Free serv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TS / CTS use is controlled by a NoRTS parameter per station. Can be usefull for long inbound fr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00080" y="1481040"/>
            <a:ext cx="534348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NoRTS paramet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TS/CTS is not benificial for short fra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NoRTS parameter indicates per station that frames shorter then the parameter will be transmitted without RTS/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ows optional use on long inbound fra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075040" y="2440080"/>
            <a:ext cx="493704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RTS/CTS Performanc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365120" y="1386000"/>
            <a:ext cx="6332400" cy="4344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429000" y="2057400"/>
            <a:ext cx="2643120" cy="185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422520" y="2025720"/>
            <a:ext cx="28195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60% Short, 40% Long Frames  @ 2 Mb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062000" y="3016080"/>
            <a:ext cx="7005600" cy="26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ood mixed use (long inbound frames) effici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Backoff timer behaviou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90720" y="17874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ckoff timer elapses only when medium is Fr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 higher relative priority for stations that were already deffe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ponential Contention window increase at every retransmi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76480" y="1692360"/>
            <a:ext cx="676260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Required PHY Function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61920" y="22431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Continuous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 “Clear Channel Assessment” (CCA) signal indicating when medium is F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HY frequency channel selection under MAC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Important PHY paramete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61920" y="1514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following parameters have effect on the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throughpu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erformance and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access dela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  <a:ea typeface="Arial"/>
              </a:rPr>
              <a:t>CCA response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  <a:ea typeface="Arial"/>
              </a:rPr>
              <a:t>Net Rx-Tx turnaround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  <a:ea typeface="Arial"/>
              </a:rPr>
              <a:t>Slot time=CCA response + Rx-Tx turnaround + medium delay (determines the collision wind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  <a:ea typeface="Arial"/>
              </a:rPr>
              <a:t>PHY preamble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  <a:ea typeface="Arial"/>
              </a:rPr>
              <a:t>Tx-Rx turnaround + medium delay determines SIF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  <a:ea typeface="Arial"/>
              </a:rPr>
              <a:t>CCA sensitivity lev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  <a:ea typeface="Arial"/>
              </a:rPr>
              <a:t>Channel switching del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is better to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decrea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e Rx-Tx turnaround time while increasing the PHY preamble length (this decreases the slot tim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CCA sensitivit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CA sensitivity determines “Hidden node” vulner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ference area is much larger then coverage a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136600" y="1554120"/>
            <a:ext cx="48718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Effects of Tx-Rx turnaroun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33560" y="20876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roughput drops with 15-3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44760" y="1335240"/>
            <a:ext cx="6488280" cy="4416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057320" y="2085840"/>
            <a:ext cx="2914560" cy="0"/>
          </a:xfrm>
          <a:prstGeom prst="line">
            <a:avLst/>
          </a:prstGeom>
          <a:ln w="1522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Effect of Turnaround tim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04760" y="20588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roughput performance drops at equal c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555920" y="1365120"/>
            <a:ext cx="615168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Coordination Func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90720" y="1859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ention Free Service uses Point Coordination Function (PCF) on a DCF Found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ync Data, Voice or mixed implementations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tention Free capability is a minimum burden for the Async service imple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04840" y="1671480"/>
            <a:ext cx="513396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Overview / Agend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90720" y="1515960"/>
            <a:ext cx="7162920" cy="43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verview / Basic Access mechanis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CF access sche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imulation resul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unctions required from the PH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CF access scheme (optional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wer Management provis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r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unctions required from the PH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aming provis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nning provi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unctions required from the PH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ynchronization provis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ynchronization ti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ame forma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r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uiz resul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m/Joh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Point Coordination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90720" y="1601640"/>
            <a:ext cx="716292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erFrame to allow mixed "Contention" and "Contention Free" operation under PCF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V prevents "Contention" traffic until reset by the last PCF transfer or other contention traff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oth PCF and DCF Defer for each other causing SuperFrame Stretc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30480" y="1703520"/>
            <a:ext cx="66834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PCF Burst op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90720" y="17589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F-Burst by Polling bit in CF-Down fr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mediate response by Station on a Po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s to maintain NAV to protect Up-traff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iable length or no response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et NAV” bit in last frame from 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"Ack Previous Frame" bit in Hea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50760" y="1488960"/>
            <a:ext cx="724392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Nex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3200" spc="-1" strike="noStrike">
                <a:solidFill>
                  <a:srgbClr val="00ae00"/>
                </a:solidFill>
                <a:latin typeface="Arial"/>
                <a:ea typeface="Arial"/>
              </a:rPr>
              <a:t>Power Conservation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y is it import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nciple of op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rastructure and Ad-Hoc op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ynamic behavi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s required from the P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Power Managemen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76320" y="16016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i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ower Conservation Managem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very important to support mobility (battery lif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dle receive state is dominating power consum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rrent LAN’s assume Rx is always ready to rece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sic power conservation princi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urn transceiver off as much as pos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sure that traffic is temporarily buffered while stations are sleep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lution should be application independent, and provide high throughput when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Power Management princip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61920" y="16732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 application independent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 transmitter need to buffer packets until remote receiver is Awa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mitter announces for which station frames are buff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mitter and receiver needs to be synchron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mitter needs to know when Rx is Awak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x needs to be Awake when relevant data is expec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urate synchronization needed to allow extreme low Power 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Basic oper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76320" y="15876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ynchronize all st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 in Infrastructure Networ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stributed among stations in Ad-Hoc networ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s can be in different PM-modes and can dynamically switch PM-mo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A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inuous active mo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A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mporary active mo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SM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wer Save Mode (two flavour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mitters know the PM-mode of the receiv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bits in each frame hea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mitters will send "Traffic Information Map" (TIM) at regular intervals indicating buffer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033560" y="85248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Station Power Save stat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76320" y="15303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  <a:ea typeface="Arial"/>
              </a:rPr>
              <a:t>Transmit State:</a:t>
            </a:r>
            <a:r>
              <a:rPr b="1" lang="en-US" sz="2000" spc="-1" strike="noStrike">
                <a:solidFill>
                  <a:srgbClr val="00ae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ansmitter is turned 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  <a:ea typeface="Arial"/>
              </a:rPr>
              <a:t>Awake St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eiver is fully powered and capable to rece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  <a:ea typeface="Arial"/>
              </a:rPr>
              <a:t>Doze St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ansceiver is not able to transmit or receive, and consumes very low power. TIM interval Timer and some other circuitry may still be act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s using Power Save mode will cycle from Doze to Awake, only when relevant traffic is expected, or just before a transmission sta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ons can maintain in an awake state until a no activity timer expires (no Tx or Rx to station activity) (TA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M stations will be continuous Awa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Power Conservation mod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76320" y="16588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different Power Save Modes avail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SNP: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ower Save Non-Pol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ffered traffic will immediately follow the DTI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ons identified in the DTIM stay awake to accept traff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ons need to listen to every (D)TIM (in Beac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cast traffic will follow every DTI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SP: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ower Save Pol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ons do not have to listen to every TIM. This allows very long sleep 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ons identified in the TIM need to retrieve the buffered frames by a Poll cy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allows very low power operation (months on batte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Dynamic behaviour suppor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3400" y="1730520"/>
            <a:ext cx="731988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ons can dynamically switch to TAM m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turn to PSM after “No-activity” time-out is signalled to remote through PM 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05000" y="1676520"/>
            <a:ext cx="469728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Infrastructure mod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720" y="5259240"/>
            <a:ext cx="719136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nchronization allows station awakening just before a (D)T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66720" y="1603440"/>
            <a:ext cx="788832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90720" y="909720"/>
            <a:ext cx="7162920" cy="8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Wireless Network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09720" y="1839960"/>
            <a:ext cx="732456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Ad-Hoc Power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33560" y="15303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ons are synchronized using 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distributed Beac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stations have a 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common awake perio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ons that want to send will announce frames using a short ATIM frame in the common awake peri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ort frames will be send without a prior ATI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SP mode is not suppor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ons that do not receive an ATIM during the common awake will go to sleep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thers will stay awake to accept the actual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047600" y="78120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Required PHY func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76320" y="155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or Power Manage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  <a:ea typeface="Arial"/>
              </a:rPr>
              <a:t>PHY Sleep/Awake under MAC contr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  <a:ea typeface="Arial"/>
              </a:rPr>
              <a:t>Fast wake-up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need to know when PHY is stable (Tx and R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  <a:ea typeface="Arial"/>
              </a:rPr>
              <a:t>CCA activation also in the middle of a frame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ponse time less critical</a:t>
            </a:r>
            <a:r>
              <a:rPr b="1" lang="en-US" sz="2800" spc="-1" strike="noStrike">
                <a:solidFill>
                  <a:srgbClr val="00ae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Support for Mo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ons may move from one BSS to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 must support fast BSS tran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witch to a new AP when the current AP is unaccep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nd the “best AP” to assoc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oin the BSS of that A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itial “association”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nd the desired B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oin the desired B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How to find other s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71640" y="1716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networks send Beacons at known 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ons use Scanning to fin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specific BSS at initializati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better Access Point when “roam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iggered by deteriorating signal quality or other events like “No Beacon” time o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anning stations tune to channels other than the one used by their current B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see what else is out t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y are “off line” during sc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 go into PSP mode to ensure frames are buff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AC determines which channel to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Passive Scann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96840" y="1714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 networks simply by list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acons are sent at a known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anner listens to each chann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aits at least Beacon Interval on empty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actical for PHYs with a few channels or with a short Beacon Inter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network found, save Network ID and Timestamp del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ly information required to “tune” to that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Active Scann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96840" y="15908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much faster than passive sca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 each channel, scanner sends a Prob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est message sent to broadcast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tworkID specifies the network for which the scanner is look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ait for a Probe 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ait for a bounded time 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detect energy, wait lo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ple Probe Responses are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re than one AP on same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 hoc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Scanning for AP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96840" y="1886040"/>
            <a:ext cx="7205760" cy="39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re than one AP may be on the same chann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canner wants to hear all Probe Respon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e responses should be randomized in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st response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n no activity on channel then Wait 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n activity then Wait 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n no response, then scan next chann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rected Probe 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vokes positive ACK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utomatic collision re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Scanning for Ad-Hoc Netwo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33560" y="1924200"/>
            <a:ext cx="7005600" cy="29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y station in the BSS may resp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ess Backoff before Probe 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collision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nder does Backoff with larger Contentio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station may respond before retrie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Initializing Ad-Hoc Network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90720" y="18162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33560" y="16048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Scan (BSSID = specific) for 5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If hear something then Join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se Start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Stay active (don’t go in power save mode) for T3 sec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oin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opt NetworkID and timing of that B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rt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YNCed 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nd Beacons to establish BSS ti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Scanning Conclus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96840" y="1714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anning required for many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oining a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itializing an ad hoc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intaining a single ad hoc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ding a new AP for BSS tran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undation MAC uses a common technique that supports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ngle or multi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ssive or active scan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802.11 MAC Requirem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90720" y="16444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ngle MAC to support multiple PHY’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single and multi-channel PHY'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so PHY’s for future bands li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9 GHz PCS band (Voice and / or Data ban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ture 5.2 GH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her ISM bands (915 MHz and 5.8 G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Infrastructure m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Ad-Hoc m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mo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aming” provi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 Conservation Management provi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Required PHY Func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47880" y="17445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support Scann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  <a:ea typeface="Arial"/>
              </a:rPr>
              <a:t>MAC tells PHY “Go to channel x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Channel selection delay must be know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  <a:ea typeface="Arial"/>
              </a:rPr>
              <a:t>PHY to provide a Signal Level/Quality indication to the MAC per fr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Nex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90560" y="1787400"/>
            <a:ext cx="7763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iming Synchronization function (TSF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at is it used f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 is it d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acon to distribute Timing Synchroniz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se of TSF for Frequency Hopping PHY’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90480" y="781200"/>
            <a:ext cx="779148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TSF applica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996840" y="1486080"/>
            <a:ext cx="7505640" cy="421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we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acons are sent at well known inter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station timers in BSS are synchron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acons may contain TIM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s can wake up just before expected Beac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erframe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SF Timer used to predict start of Contention Free bu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acon is not required in each super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p Timing for Frequency Hopping 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SF Timer used to time  Dwell 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s’ TSF Timers synchronized, so hop at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acon is not required on each 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Synchronization Approach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793800" y="1714680"/>
            <a:ext cx="75564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stations maintain a local synchronization ti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ing Synchronization Function (T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eeps timers in sy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entralized in infrastructure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tributed function for ad hoc networ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acons provide timing reference for each B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 required to hear every Beacon to stay in sy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acons used to calibrate local c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lexible Beacon 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SS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lly Compatible with CSMA (Beacons can def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Beacon Gen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96840" y="3448080"/>
            <a:ext cx="77850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acon transmission scheduled at Beacon Inter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mission may be delayed by CSMA defer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sequent transmissions at expected Beacon 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 relative to last Beacon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stamp contains timer value at transmit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 sends Beacons in infrastructure net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382840" y="1500120"/>
            <a:ext cx="419724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Ad-Hoc Beacon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990720" y="18874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90720" y="4971960"/>
            <a:ext cx="716292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ed Beac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y station in BSS may send a Beacon (distribu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acon generation is randomized i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604880" y="1608120"/>
            <a:ext cx="61531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More Ad-Hoc Beacon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90720" y="17874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990720" y="1442880"/>
            <a:ext cx="7162920" cy="421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 Hoc Beacon Sender’s 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ake up before expected Beac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fer to current transmission if 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ecute access backoff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ven when network was i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ndomizes send attem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heard another Beacon cancel Beacon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se transmit Bea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acon collisions are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acons are multicasts, so no re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station likely to succeed after coll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SYNCed stations send Beac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Timer Accurac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76320" y="1428840"/>
            <a:ext cx="7162920" cy="426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stamp included in every Beac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nding station’s TSF timer in micro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1 bit value and 1 bit SYNC f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acon sender 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mestamp is sender’s timer at SFD transmission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acon receiver 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ve local TSF timer when Beacon SFD recei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lidate received Beac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OK, compare saved timer with Beacon timest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fference is amount to adjust local station timer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uld adjust for propagation and transceiver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cise synchronization is possi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Frequency Hopping and TSF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857160" y="1486080"/>
            <a:ext cx="74296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s use their TSF timer to maintain hop sy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PHY dependency is Max. TSF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ximum TSF value is total time for hop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xTSF = NumHops * Dwell_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SF timer value describes progress in hopping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ich hop and how long in that 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s independently time Dwell_Inter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ch station knows when to hop (M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p stretching could be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p timing fields not required in MAC hea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well_Interval and Beacon_Interval independ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Synchronization Conclus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88840" y="1417680"/>
            <a:ext cx="7378560" cy="46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 synch. is required for many MAC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posed a general mechanism that can be used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wer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erframe Timing in Contention Free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p synchronization in FHSS PH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twork events are timed by station TSF tim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 necessary to send frames to indicate network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s can maintain sync while sleeping or out of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SF is effic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iodic Beacon transmission calibrates ti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me fields not required in all MAC fra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SF is preci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crosecond accuracy is possibl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Supported servic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90720" y="17874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ynchronous Data Serv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hort response time with high instantaneous throughput, suitable for Bursty traff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BSS isolation requ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ention Free Service (option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me Bounded service (can be dimensioned for Voi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ion oriented (reserved bandwidt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s mixed Voice/Data 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s variable bitrates (frame siz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ynchronous Contention Free Serv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s “centralised Control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s sufficient BSS iso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Required PHY func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synchronization suppor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  <a:ea typeface="Arial"/>
              </a:rPr>
              <a:t>PHY frequency channel selection under MAC control (Go to channel x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  <a:ea typeface="Arial"/>
              </a:rPr>
              <a:t>Fixed deterministic PHY del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  <a:ea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variable buffering</a:t>
            </a:r>
            <a:r>
              <a:rPr b="1" lang="en-US" sz="2800" spc="-1" strike="noStrike">
                <a:solidFill>
                  <a:srgbClr val="00ae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Frame Forma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801720" y="1565280"/>
            <a:ext cx="724680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Foundation MAC Fram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855720" y="1538280"/>
            <a:ext cx="726768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PHY Requirement summar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004760" y="1487520"/>
            <a:ext cx="7162920" cy="414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Continuous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 “Clear Channel Assessment” (CCA) signal indicating when medium is F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HY frequency channel selection under MAC control.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“Go to channel 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HY Sleep/Awake under MAC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Fast wake-up time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C need to know when PHY is stable (Tx and R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CCA activation also in the middle of a frame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ponse time less critical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HY to provide a Signal Level/Quality indication to the MAC per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Fixed deterministic PHY del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Quiz resul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990720" y="1758960"/>
            <a:ext cx="7591320" cy="414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free” appears tw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arm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FS&lt;PI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the buffered frames are sent immedia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7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&amp;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Mixed bitrate suppor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033560" y="1687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Aft>
                <a:spcPts val="145"/>
              </a:spcAf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is needed for speed mig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45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215"/>
              </a:spcBef>
              <a:spcAft>
                <a:spcPts val="71"/>
              </a:spcAft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mary assump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all PHY's can receive all r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Y is capable to receive a Nominal rate and a number of fallback rates automat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er speed PHY's can support lower speed standards (multi-standard implementa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215"/>
              </a:spcBef>
              <a:spcAft>
                <a:spcPts val="71"/>
              </a:spcAft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xed Rate consequ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oadcast traffic  at lowest common r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"Control" traffic (short frames) transmission at "Highest common capable rate" may be accep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Mixed bitrate suppor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allow easy migration to future PHY’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support fallback r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es not require ESS to change speed as a who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nctionality required from the PH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Tx-bitrate under MAC control on a per frame ba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Automatic bitrate detection in Rx, with “received bitrate” indication to the MA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208240" y="1801800"/>
            <a:ext cx="4805280" cy="36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Basic Access Protoco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0720" y="16732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Distributed Access Protocol for efficient medium sharing without overlap restri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bust for interfe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SMA/CA + Ack for unicast fr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MAC level 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SMA/CA for Broadcast fr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ameterized use of RTS / CTS to provide a “Virtual CCA” funtion to protect against “Hidden Node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Ad-Hoc operation seamlessly, so does not require any infra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-Hoc can overlap with Infrastru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CSMA/CA explain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90720" y="1579680"/>
            <a:ext cx="7162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duce collision probability where mostly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fficient Backoff algorithm stable at high loa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onential Backoff for retransmis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mplement different fixed priority le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allow immediate Ack and PCF coexist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en no Ack received then retransmit frame after a random backoff (up to max. limi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71720" y="1539720"/>
            <a:ext cx="700236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CSMA/CA+Ack Protoc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19731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fer access based on CCA and NAV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rect access when medium is sensed free longer then DIFS, otherwise defer and backo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3880" y="1617840"/>
            <a:ext cx="555300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990720" y="880920"/>
            <a:ext cx="716292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618ffd"/>
                </a:solidFill>
                <a:latin typeface="Arial"/>
                <a:ea typeface="Arial"/>
              </a:rPr>
              <a:t>Throughput efficienc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720" y="19447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icient and stable through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94000" y="1535040"/>
            <a:ext cx="606276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