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0720" y="533520"/>
            <a:ext cx="7162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arch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EE P802.11-94/58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4240" y="6173640"/>
            <a:ext cx="71769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TBS proposal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:</a:t>
            </a:r>
            <a:fld id="{6F5C7E53-A8F3-4882-9B7D-04B5F20D1049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New Foundation functional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Bounded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vided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CF with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 AT&amp;T-GIS (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71640" y="18302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 msec max delay can be met even in high priority overload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54040" y="1601640"/>
            <a:ext cx="62658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re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76440" y="1647720"/>
            <a:ext cx="6134040" cy="359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848040" y="2668680"/>
            <a:ext cx="356220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ad from .05-3.05 in steps of 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219320" y="5335560"/>
            <a:ext cx="7067520" cy="6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Low and High Priority traffic load increases in this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hroughpu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754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priority traffic gets higher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11240" y="1352520"/>
            <a:ext cx="73803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hroughput imp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14400" y="1697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al impact for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78040" y="1352520"/>
            <a:ext cx="73040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ndependent priority cas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similar priority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36800" y="1565280"/>
            <a:ext cx="706284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mpact on “Low Priority” onl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849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act at higher loads causing somewhat lower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65200" y="1542960"/>
            <a:ext cx="620568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P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773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similar performance despite incomplete priority sepa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35240" y="1563840"/>
            <a:ext cx="64659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P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what different profile at high lo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9600" y="1536840"/>
            <a:ext cx="6176880" cy="37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petitive High Priority Lo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ce traffic is not “Burs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petitive Connection oriented traffic is a fixed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ption is that High Priority Load is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xed High Priority Load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3 (simplex) Voice channels (32 Kbps ADP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aming period of 30 msec (120 Bytes / fra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ore evaluation to determine effect as function of High Priority Load, and at different Framing peri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ixed load characterist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887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xed 120 Byte high priority frame size at 30 msec frame interv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450800" y="1457280"/>
            <a:ext cx="6234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844560" y="8431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ime Bounded Alternativ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773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 protocol defines optional PCF to support Time Bo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ation due to PCF overlap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limits larger instal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levant for current and future frequency ba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speed in 1.9 GHz PCS b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speed in potential 5.2 GHz band (HIPERLA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for reservation based “Time Bounded” Service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: Distributed Time Bounded Service (DTBS) using priority access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ixed High Priority Loa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35040" y="1652760"/>
            <a:ext cx="6066000" cy="384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257640" y="4992840"/>
            <a:ext cx="1314360" cy="2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= 12 m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13000" y="552780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er maximum delay limit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riority Delay Distribu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impact on Low Prior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41280" y="1486080"/>
            <a:ext cx="66531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owmany Priority level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1680" y="1849320"/>
            <a:ext cx="80010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two levels needed to distinct Asynchronous from DTBS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makes much sense to have different priority levels between stations and AP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will typically handle large percentage of the total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priority levels can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PIFS = 2, HPcw = 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For DT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PIFS = 2+16, MPcw = 32   For Async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PIFS = 2+16, LPcw=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For Async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can manage their Queue’s such that the DTBS Queue can given higher access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ow to use Prior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1640" y="17352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Quality-of-Service (QoS)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oS to contain a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transfer de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sync traffic this can be set to “MAX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DTBS it can be set to the desir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Transfer Del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to translate QoS into Priority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QoS is anything  other then “MAX.”, then the MAC could put the QoS value in a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_to_Li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 elemen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could maintain this by substracting the actual transfer delay that the frame experienced in the MAC +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to use the Asynchronous frame form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ssible DTBS I/F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6280" y="4802040"/>
            <a:ext cx="81342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possible TBS-LLC could have Header contai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x. Delay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ard parameter (to allow drop of frame that experienced a too long delay, and allow recovery of timing in the receiver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08200" y="1719360"/>
            <a:ext cx="75009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71680" y="163980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 based on DCF with priority does not have an overlapping network lim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CSMA/CA priority can be controlled by 3 access protocol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priority levels can be prov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PIFS  = 2, HPcw = 3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For DT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PIFS = 2+16, MPcw = 32   For Async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PIFS  = 2+16, LPcw=6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For Async st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oS based  I/F can be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“Time_to_Live” parameter could be maintained in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add a “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 Bound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” service functionality to the Foundation MAC and to determine  by the end of the May meeting whether  one or both of the TBS’s will remain in the stand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90400" y="1887480"/>
            <a:ext cx="796284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 add a “priority access mechanism” to the DCF of the 802.11 M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use the mechanisms proposed in doc P802.11-94/58 as a basis for the “priority access mechanism” to be included in the DCF, and to further investigate its sensitivity to relevant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BS voice Applic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14440" y="188748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ay variance is les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variable transfer delay up to a given maximum i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ing can be restored in the receiver using a Fi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3720" y="1509840"/>
            <a:ext cx="776304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Characteristic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28880" y="1563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No overlap limi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twee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TB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r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for all priority levels to support “Bursty”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transfer delay probability distribution for High Priority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imum delay limit for DTBS acceptable to support Voice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-30 msec frame times should be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er delays acceptable for local conn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impact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Low Priority only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lay and throughput character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ow to provide prior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960" y="1601640"/>
            <a:ext cx="762012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IFS values per priority (HPIFS&lt;LPIF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iority traffic will defer earli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w priority will decrease Back-off delay later compared to high priority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independence between priority levels possible but not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Contention Window (CW) values per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selected Back-off delay will depend on CW-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CW  increase policies per prio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W can be constant or even decrease for retrans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ad of High Priority traffic should best b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riority in CSMA/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43040" y="1830240"/>
            <a:ext cx="7658280" cy="40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need differentiation in existing CSMA/CA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19160" y="1503360"/>
            <a:ext cx="71740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imulation approa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639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parameter sets analy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PIFS=HPIFS + 16,  LPcw = 64,  HPcw = 32 s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PIFS=HPIFS + 32,  LPcw = 32,  HPcw = 32 s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 length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0% Short (64 Bytes) and 40% Long (576 By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High and 6 Low priority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mulations as function of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racteristics analyz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delay with and without High Priority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ay distribution per priorit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 delay impact for “Low Priority only” (compared to LPIFS=HPIF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verage Delay performan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800280" y="2058840"/>
            <a:ext cx="771516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gnificant priority difference when load incre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30280" y="1509840"/>
            <a:ext cx="650232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Low Priority only impac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8493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difference at low Loads, minor impact during higher loads, showing lower Through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51000" y="1565280"/>
            <a:ext cx="663408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