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0720" y="5335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ation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16646A03-6D4C-4658-903E-ADF34E36205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tocol elements needed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x-Powe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&amp;T-GIS (N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ynamic Tx-Power contro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 introduced in doc P802.11-92/76 in July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tential re-use efficiency simulations provide in 92/7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s included in the original WMAC proposal but not in DFWMAC proposal, because it was concentrating on the Access scheme and mobility provi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Why Tx-Power Contro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rpose is medium re-use efficiency improvement, and reducing interference pot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’s specify requirement for Tx-Power Control above 100 mWat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se of it should be optional as long as Tx-Power is lower then the 100 mWatt bound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ed use should b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lgorithm needed does not need to be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ynamic Tx-Power Contro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71640" y="1697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maintains attenuation list p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st is build from reception his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-Level indication in the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-Lvl of the received frame in the returning 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ise/Interference level at destination is usefull input for the Power Control algorith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need to control the PHY pe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-Power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A-Threshold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CA-Threshold relates to the Tx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every dB the Tx-Level drops, the CCA-threshold can be made 1 dB less sensi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otocol el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33480" y="1487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ossible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x-Lvl in Ack is preferable because it eliminates need for absolute accura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-Lvl is long term average of backg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06440" y="1655640"/>
            <a:ext cx="65991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x Procedur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71640" y="16779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determines “Tx-Lvl” and “CCA-Thresh” and sets the PHY accordingly, and put “Tx-Lvl” also in th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will follow the CSMA/CA access mechanism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A inactive for at least xI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/ PHY to Xmit th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or PHY to reset “CCA-Thresh” to nominal sensitiv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will receive the Ack and the “Rx-Lvl” and maintains the “Attenuation History” for tha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HY Functionality requir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81200" y="167796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s to support Tx-Power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Tx-Power level control on a per frame basis by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ularity TBD. Not only above 100 mWat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CCA threshold / sensitivity under MAC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ularity at least equal to Tx-Control granu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Receive level (Signal Quality) indication pe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anularity TBD (1 dB expected to be suffici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28800" y="3105000"/>
            <a:ext cx="74404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the 802.11 MAC should support the necessary protocol  elements to allow 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x-Power control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n a  per frame b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ccept the protocol mechanisms that are proposed in doc.  P802.11-94/59 for inclusion in the 802.11 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