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e Rob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ced Micro Devices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ssible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e 802.11 L2 PDU size &gt;= 600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 each L3 deal 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 in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mall L2 SDU Prece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NET has 508 byte frames (extended vers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case, each protocol handled it on its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Talk doesn’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X developed a L2.5 fragmentation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BIOS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 fragments at 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6324480" y="3352680"/>
            <a:ext cx="152640" cy="304920"/>
            <a:chOff x="6324480" y="3352680"/>
            <a:chExt cx="152640" cy="304920"/>
          </a:xfrm>
        </p:grpSpPr>
        <p:sp>
          <p:nvSpPr>
            <p:cNvPr id="70" name=""/>
            <p:cNvSpPr/>
            <p:nvPr/>
          </p:nvSpPr>
          <p:spPr>
            <a:xfrm>
              <a:off x="6400800" y="3352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44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6400800" y="335268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324480" y="335268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7086600" y="4800600"/>
            <a:ext cx="152280" cy="304920"/>
            <a:chOff x="7086600" y="4800600"/>
            <a:chExt cx="152280" cy="304920"/>
          </a:xfrm>
        </p:grpSpPr>
        <p:sp>
          <p:nvSpPr>
            <p:cNvPr id="75" name=""/>
            <p:cNvSpPr/>
            <p:nvPr/>
          </p:nvSpPr>
          <p:spPr>
            <a:xfrm>
              <a:off x="7162920" y="48006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66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7162920" y="4800600"/>
              <a:ext cx="759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86600" y="480060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1676520" y="27432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ting/Bridging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3200400"/>
            <a:ext cx="1676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47600" y="1838160"/>
            <a:ext cx="123660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315120" y="4900680"/>
            <a:ext cx="1052640" cy="890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819520" y="2514600"/>
            <a:ext cx="3352680" cy="236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762360" y="3405240"/>
            <a:ext cx="1467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3581280"/>
            <a:ext cx="7621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45320" y="378612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2895480"/>
            <a:ext cx="7621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708280" y="3100320"/>
            <a:ext cx="831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73320" y="3252960"/>
            <a:ext cx="1111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1981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8760" y="1881360"/>
            <a:ext cx="191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24 byt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432480" y="3786120"/>
            <a:ext cx="191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512 byte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43434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705720" y="449568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5720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ssible 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op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 in 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ves rout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n’t solve bridg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 in L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ting/Bridging Prece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token ring can generate a 4500 byte frame to an Eth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etalk - no problem (600 byte ma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X - drops packet (“Well, don’t do that.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BIOS - dr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 - fragments at L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bridge will not handle this solution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problems aren’t n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y have been solved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idging dissimilar LANs is always hazard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2 fragmentation could address both problems at the cost of 802.11 complex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ow Comple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676520"/>
            <a:ext cx="7162920" cy="445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would requi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ffering in all stations - how mu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fragments from all possible datagrams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 ageing timers - how l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very mechanism to deal with missing fra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with sleeping and power manag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max SDU size do we cho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5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5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rg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no fragmentation, SDU size = MAC fram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Layer 2.5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057400" y="1981080"/>
            <a:ext cx="373392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4648320"/>
            <a:ext cx="373392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2971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3640" y="2270160"/>
            <a:ext cx="125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y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3640" y="5013360"/>
            <a:ext cx="1251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y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5867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429000"/>
            <a:ext cx="373392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7400" y="525780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571920" y="477684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33760" y="538632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6560" y="3718080"/>
            <a:ext cx="150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yer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00240" y="3710160"/>
            <a:ext cx="17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867280" y="2666880"/>
            <a:ext cx="274320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basically what IPX does with ARC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yer 2.5 is basically the network drive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ossible Layer 2.5 Implem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NAP is layer 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mething similar to SNAP or use 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 “fragmentation” LLC DSAP/SSAP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 SNAP “fragmentation” protocol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ayer 2.5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n’t a burden where not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etalk has 600 byte max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P already has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implemented in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L3 vendor suppor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ld be used to solve the bridging problem 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agation effects coupled with frame error-rate goals will suggest a maximum 802.11 MAC frame size of about 1/2 KB or s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commen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n’t add the complexity to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the same solutions as befo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a layer 2.5 approach (which does not fit  802 reference mode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ptimum size frame may not meet the minimums necessary for typical network layer pa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mall frame size may cause problems when routing or bridging a larger frame from another network (e.g., Ethernet, token r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DU vs. 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DU vs. PD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828800"/>
            <a:ext cx="373392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114800"/>
            <a:ext cx="3733920" cy="16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9092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8480" y="2422440"/>
            <a:ext cx="1785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yer n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17880" y="4167360"/>
            <a:ext cx="946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nS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7560" y="3176640"/>
            <a:ext cx="1206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n+1P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033640" y="463248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yer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117880" y="5310360"/>
            <a:ext cx="946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nP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571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05520" y="30481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what the layer ac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what the layer passe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reaking up of a layer n+1 PDU into multiple layer n PD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lies that layer n has a max SDU size ( = layer n+1 PDU size) &gt; max PDU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ndowing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ing medium access priority to subsequent frames of a frame group once the first frame has seized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agmentation vs. Wind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does not require wind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ically, windowing implies fragmention, howe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talk wil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ddress wind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3 PDU Required Maxim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L3 devices must be capable of handling frames this size or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eTalk - 600 byt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 - 576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X - 576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BIOS -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