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52280"/>
            <a:ext cx="8915400" cy="640080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990720" y="762120"/>
            <a:ext cx="7162560" cy="0"/>
          </a:xfrm>
          <a:prstGeom prst="line">
            <a:avLst/>
          </a:prstGeom>
          <a:ln w="25560">
            <a:solidFill>
              <a:srgbClr val="618f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7908840" y="6080040"/>
            <a:ext cx="523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fld id="{B87F4FF7-B14A-406E-8D39-74B445D661FF}" type="slidenum"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838080" y="304920"/>
            <a:ext cx="73152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23rd Session of meetings of</a:t>
            </a:r>
            <a:br>
              <a:rPr sz="36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EEE P802.11</a:t>
            </a:r>
            <a:br>
              <a:rPr sz="18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Wireless Local Area Networks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entative Agen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2895480"/>
            <a:ext cx="8381880" cy="32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ubject to changes by committ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y 9-12, 199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shawa, Ontario, Can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session starts on Monday, May 9, 8: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e doc.: IEEE P802.11-94/35 for ven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entative Meeting Schedu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04920" y="990720"/>
            <a:ext cx="8534520" cy="52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ate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onth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Year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lace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yp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ocation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ost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9-1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shawa, Ontari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liday In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1-1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ul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rlando, F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alt Disney Swa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9/8-1 Sep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n Antonio, T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gital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c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7-1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v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cline Village, NV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yatt Regency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857160"/>
                <a:tab algn="l" pos="1600200"/>
                <a:tab algn="l" pos="3886200"/>
                <a:tab algn="l" pos="4857840"/>
                <a:tab algn="l" pos="5600520"/>
                <a:tab algn="l" pos="66866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ake Taho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9-1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a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n Jose?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Baron?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iSE &amp;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Tetherles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6-1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est Palm Bch, F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amad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tah?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pe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-1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ul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ui, H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yatt Regenc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p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pe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6-1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v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ntreal, PQ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Queen Elizabeth Hot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1-1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rc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 Joll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yatt Reg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8-1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ul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etherland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1-1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v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ancouver  B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tel Vancouv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BJECTIVES MAC Gro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inalize Distributed Time Bounded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mplete MAC /PHY inte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f not done in May schedule is in jeopardy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C fragmentation deci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indowing deci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ulti PHY rate impact explo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imulation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ferred draft vs issues log cross chec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C schedule review for progress chec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BJECTIVES PHY Gro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cide values for PHY frame size and MPDU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mplete the MAC/PHY inte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l subgroups will be editing text for draft stand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solve Clear Channel Assessment issues at the subgroup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solve PHY Layer Control Head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enerate input to the MAC group on questions they have ask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Rough graphic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76320" y="990720"/>
            <a:ext cx="883908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------|---------------|---------------|----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    Monday    |    Tuesday    |   Wednesday   |   Thursday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------|---------------|---------------|----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    802.11    |PH!PH!PH!PH!MAC|PH!PH!PH!PH!MAC|PHY!PHY! MAC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AM |               |DS!FH!IR!HS!   |DS!FH!IR!HS!   |DS !FH !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...............|  !  !  !  !   |  !  !  !  !   |.......!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PH!PH!PH!PH!MAC|  !  !  !  !   |  !  !  !  !   |  PHY  !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------|---------------|---------------|----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DS!FH!IR!HS!   |    PHY    !MAC|     802.11    |    802.11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 !  !  !  !   |           !   |   MAC / PHY   |   Reports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PM |  !  !  !  !   |...........!   |   Interface   |   Outputs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 !  !  !  !   |PH!PH!PH!PH!   |...............|  Next mtng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 !  !  !  !   |DS!FH!IR!HS!   |  PHY  !  MAC  |        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------|---------------|---------------|----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Eve-| MAC / PHY     | MAC / PHY     | MAC / PHY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ning|  Interface a-h|  Interface a-h|  Interface a-h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------|---------------|------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Legend:   ......... = flexible adjournment/St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onday AM, May 9, 199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533520" y="91440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en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8:30 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ecret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oll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oting righ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ttendance list, Regist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ogistics (breaks, lunch, copying, document distribu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ther announc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pproval of the minutes of previous mee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ancouver meeting (subject to quorum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1-94/8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tters arising from the min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onday AM, May 9, 199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rom the Executive Committ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rom edi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rom simul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rom MAC/PHY interface ad-ho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4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gistration of contribution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9:00 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5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doption of the Agend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9:15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1-94/9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6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nfinished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6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ent on updates of draft stand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7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ew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8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djourn for sub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e Rough graphic outline for subgroup m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Wednesday PM, May 11, 199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9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en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:00 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oll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ocument list up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34308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4400640"/>
                <a:tab algn="l" pos="514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issing: 44, 45, 57, 60, 67, 80 + -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3000" indent="-34308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4400640"/>
                <a:tab algn="l" pos="514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gnetic version pleas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genda adjust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.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nounc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0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C/PHY (interface)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port from the ad-hoc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1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HY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2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C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3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djou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e Rough graphic outline for subgroup m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hursday PM, May 12, 199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4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en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:00 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4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nounc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4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ocument list up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4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genda adjust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5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5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C/PHY interface ad-hoc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5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C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5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HY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6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nfinished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6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cap of output docu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34308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4400640"/>
                <a:tab algn="l" pos="514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iaison stat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6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cap of document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hursday PM, May 12, 199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6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xt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* Objectives for next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* Mailing Dates: May 20 and June 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6.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uture Meet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6.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ther Intermediate Meetings requir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7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ew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8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osur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5:00 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