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990720" y="533520"/>
            <a:ext cx="716292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March 1994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IEEE P802.11-94/116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09480" y="609588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984240" y="6173640"/>
            <a:ext cx="7176960" cy="3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CF priority analyses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lide:</a:t>
            </a:r>
            <a:fld id="{F9F514E7-1964-4A01-A505-D4512264F53A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0120" y="1457280"/>
            <a:ext cx="7943760" cy="0"/>
          </a:xfrm>
          <a:prstGeom prst="line">
            <a:avLst/>
          </a:prstGeom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895320" y="86184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Priority Access analys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062000" y="177336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alyses of Priority mech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m Diepstraten AT&amp;T-GIS (NC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895320" y="86184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PrP may jam the Ack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104840" y="3559320"/>
            <a:ext cx="757728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P impact of the “Hidden node problem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P may jam the Ack consistent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ure CSMA/CA has lower jam prob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Solution: HPIFS should be &gt; SIFS+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so shows the unsynchronized PrP c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ll cause leakage between priority lev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147680" y="1533600"/>
            <a:ext cx="6638760" cy="18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895320" y="86184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How to decrease Ack vulnerabil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947880" y="4645080"/>
            <a:ext cx="7162920" cy="151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event PrP overlap increases HPIFS about 6 slots, and decrease LPIFS with 8 (at 50% CW overlap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ort Ack is import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95200" y="1492200"/>
            <a:ext cx="8524800" cy="31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895320" y="86184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DTBS Conclusio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743040" y="1649520"/>
            <a:ext cx="771984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The standard should support DTBS based on DCF priority access, as already concluded in the March mee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The implementation method is still to be decided, and two alternatives have been propo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The PrP based method has different characteristics compared to the original doc 58 propo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Solutions of the identified problems have been found, but need further specification and simulation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895320" y="86184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Related issue’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90720" y="16016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ould we support one or both TBS methods in the draft stand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sition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Only DT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ould the priority mechanism be option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sition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N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the priority should be considered a fixed part of the non-optional DC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ould DTBS be an optional or standard serv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sition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Op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functions need further specification to support DTB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QoS I/F, “Time_to_Live” function, HP moni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895320" y="86184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Additional DTBS functio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976320" y="1530360"/>
            <a:ext cx="740556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oS based interface defin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ime_to_Live” parameter mainte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igh Priority Load monitoring fun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s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 we need to standardize Queue ordering functions, or is this an implementation iss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sition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n be an implementation deci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895320" y="86184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Possible DTBS I/F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19120" y="4459320"/>
            <a:ext cx="8134200" cy="125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possible TBS-LLC could have Header contai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x. Delay par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scard parameter (to allow drop of frame that experienced a too long delay, and allow recovery of timing in the receiver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08200" y="1547640"/>
            <a:ext cx="75009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895320" y="86184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Average Delay performanc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800280" y="2058840"/>
            <a:ext cx="771516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gnificant priority difference when load incre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30280" y="1509840"/>
            <a:ext cx="650232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895320" y="86184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Low Priority only impac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990720" y="18493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 difference at low Loads, minor impact during higher loads, showing lower Throughp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251000" y="1565280"/>
            <a:ext cx="663408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895320" y="86184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Delay Distribu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71640" y="18302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0 msec max delay can be met even in high priority overload c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54040" y="1601640"/>
            <a:ext cx="626580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895320" y="86184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More Delay Distribu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576440" y="1647720"/>
            <a:ext cx="6134040" cy="3591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3848040" y="2668680"/>
            <a:ext cx="3562200" cy="2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ad from .05-3.05 in steps of 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219320" y="5335560"/>
            <a:ext cx="7067520" cy="6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th Low and High Priority traffic load increases in this sim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895320" y="86184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Motion adopted in March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990720" y="19447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ti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 add a “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stributed Time  Bounde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” service functionality to the Foundation MAC and to determine  by the end of the May meeting whether  one or both of the TBS’s will remain in the stand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895320" y="86184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Throughpu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990720" y="17542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gh priority traffic gets higher through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011240" y="1352520"/>
            <a:ext cx="738036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844560" y="8431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Time Bounded Alternativ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90720" y="16304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undation protocol defines optional PCF to support Time Boun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mitation due to PCF overlap probl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limits larger install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levant for current and future frequency b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igh speed in 1.9 GHz PCS b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igh speed in potential 5.2 GHz band (HIPERLA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ternative for reservation based “Time Bounded” Service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lution: Distributed Time Bounded Service (DTBS) using priority access mechan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895320" y="86184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TBS voice Applica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57080" y="4687920"/>
            <a:ext cx="7853400" cy="125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lay variance is less import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nly variable transfer delay up to a given maximum is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iming can be restored in the receiver using a FiF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93600" y="1495440"/>
            <a:ext cx="7763040" cy="31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895320" y="86184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Required Characteristic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028880" y="1563840"/>
            <a:ext cx="7162920" cy="41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No overlap limita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etween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ynchrono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TB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erv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w transfer delay for all priority levels to support “Bursty” traf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w transfer delay probability distribution for High Priority traf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ximum delay limit for DTBS acceptable to support Voice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0-30 msec frame times should be accep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nger delays acceptable for local conne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w impact o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Low Priority only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elay and throughput characteristi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895320" y="86184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Priority in CSMA/C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743040" y="5316480"/>
            <a:ext cx="785808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P traffic only” efficiency issue identified, but does not show up significantly in the simul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05040" y="1508040"/>
            <a:ext cx="717408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895320" y="86184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Alternative Priority schem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009800" y="4249800"/>
            <a:ext cx="7124760" cy="166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 HP stations signal their precence by generating the “Priority request Pulse” (PrP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 only a long LPIFS when High Priority traffic is t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poves delay and throughput perform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84400" y="1523880"/>
            <a:ext cx="669132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895320" y="86184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PrP based Priority schem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004760" y="5502240"/>
            <a:ext cx="719136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wer “LP-only” delay, higher efficien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95240" y="1511280"/>
            <a:ext cx="7345440" cy="38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895320" y="86184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Other PrP method issue’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019160" y="1630440"/>
            <a:ext cx="731988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P method requires synchronization between all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generate and recognise the Pr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eiver antenna slotting needs to be synchroniz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re sensitive to Rx-Tx turnaround times, and “CCA-off detection” implementations, so more critical PHY requir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re complex access algorith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not all stations see “Data and Ack”, then they generate and expect the PrP at different times, so impacting the priority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