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004760" y="504720"/>
            <a:ext cx="7162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arch 1994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EEE P802.11-94/12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095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984240" y="6173640"/>
            <a:ext cx="717696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utorial: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de:</a:t>
            </a:r>
            <a:fld id="{A90BFE46-25DD-40AE-9C88-E2030F6D2751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0120" y="1457280"/>
            <a:ext cx="7943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Frame delivery in Foundation 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62000" y="17733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utorial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ndation fram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relay assu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 Diepstraten AT&amp;T-GIS (N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Basic strategy backgroun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47800" y="1444680"/>
            <a:ext cx="762012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need connectivity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in same B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in other BSS of the same 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on a wired Net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utside world via gatew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’s maintain BSS connectivity knowl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st of associated 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es for non-associated stations are forwarded to the 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can be in a Power Conservation mode, but AP’s will always be aw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tination PM status needs to be maintained in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in sleep mode can not maintain knowledge which other stations are in reach, and aw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CAM station can do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Delivery strategy backgroun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33240" y="1616040"/>
            <a:ext cx="78487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traffic will go outside the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hared resources on high speed wired seg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tations in an other B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local BSS traffic to stations using Power Save modes in practise needs to go through the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traffic between local stations that are continuous awake (CAM) can benefit from direct station-to-station deli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Ack generation should not be time cri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need to check that the final Destination is outside BSS or sleeping before frame is Ack’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default, all traffic from a station is send with the “ToAP” bit on, and is Ack’d by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