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533520"/>
            <a:ext cx="8153280" cy="5638680"/>
          </a:xfrm>
          <a:prstGeom prst="round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308640" y="128520"/>
            <a:ext cx="250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P802.11 94/128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65040" y="6300720"/>
            <a:ext cx="126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310440" y="6300720"/>
            <a:ext cx="2254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 Mahany, No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14400" y="1447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amble Modification for Improved Selection D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89480" y="2871720"/>
            <a:ext cx="23558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. Mah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and 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ummary and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00980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sion of Timestamp in 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vides Critical Timing Information to Diversity Selection Algorith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Best Antenna Algorithms using Long Observation Windows for Preambl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Preclude use of Other Channel Compensation 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ets Unique Word Distance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Tolerance of Change in Preamble Content in Receiver Synchronization and Preamble Detection Circui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ssum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76400" y="16095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ty is not a Requirement of Either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Should Enable, not Mandate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ufacturers Free to Determine Whether their Customers will Pay for, Benefit from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Channel Optimization Alternatives Exist, and Should not be Pre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gorithms Should not be Specified by th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thing That Can be Done at the Transmitter to Make the Receiver’s Job Easier, Should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57240" y="5857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ich Anten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453360" y="2157480"/>
            <a:ext cx="676080" cy="436320"/>
            <a:chOff x="6453360" y="2157480"/>
            <a:chExt cx="676080" cy="436320"/>
          </a:xfrm>
        </p:grpSpPr>
        <p:sp>
          <p:nvSpPr>
            <p:cNvPr id="48" name=""/>
            <p:cNvSpPr/>
            <p:nvPr/>
          </p:nvSpPr>
          <p:spPr>
            <a:xfrm flipV="1">
              <a:off x="6786720" y="215748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53360" y="2179800"/>
              <a:ext cx="342720" cy="41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2080" y="21718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 txBox="1"/>
          <p:nvPr/>
        </p:nvSpPr>
        <p:spPr>
          <a:xfrm>
            <a:off x="6986520" y="2957400"/>
            <a:ext cx="140004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877000" y="2909880"/>
            <a:ext cx="676080" cy="436680"/>
            <a:chOff x="5877000" y="2909880"/>
            <a:chExt cx="676080" cy="436680"/>
          </a:xfrm>
        </p:grpSpPr>
        <p:sp>
          <p:nvSpPr>
            <p:cNvPr id="53" name=""/>
            <p:cNvSpPr/>
            <p:nvPr/>
          </p:nvSpPr>
          <p:spPr>
            <a:xfrm flipV="1">
              <a:off x="6210360" y="290988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77000" y="293220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896080" y="29242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 flipH="1">
            <a:off x="6772320" y="3386160"/>
            <a:ext cx="214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6720" y="2571840"/>
            <a:ext cx="0" cy="814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15040" y="3314880"/>
            <a:ext cx="0" cy="299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215040" y="3600360"/>
            <a:ext cx="77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37200" y="203364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/I=22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18000" y="2886120"/>
            <a:ext cx="1231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/I=15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08360" y="326232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= -57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903920" y="232884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= -61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51040" y="4205160"/>
            <a:ext cx="44308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08160" y="4919760"/>
            <a:ext cx="6599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nger Observation Intervals on Each Antenna Provid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make a Better 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236600" y="4248000"/>
            <a:ext cx="6726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st Consider Noise Limited [C/N], and Interference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C/I] C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90880" y="2157480"/>
            <a:ext cx="676080" cy="436320"/>
            <a:chOff x="2090880" y="2157480"/>
            <a:chExt cx="676080" cy="436320"/>
          </a:xfrm>
        </p:grpSpPr>
        <p:sp>
          <p:nvSpPr>
            <p:cNvPr id="68" name=""/>
            <p:cNvSpPr/>
            <p:nvPr/>
          </p:nvSpPr>
          <p:spPr>
            <a:xfrm flipV="1">
              <a:off x="2424240" y="215748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90880" y="2179800"/>
              <a:ext cx="342720" cy="414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09960" y="2171880"/>
              <a:ext cx="642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 txBox="1"/>
          <p:nvPr/>
        </p:nvSpPr>
        <p:spPr>
          <a:xfrm>
            <a:off x="2624040" y="2957400"/>
            <a:ext cx="1400040" cy="75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514520" y="2909880"/>
            <a:ext cx="676080" cy="436680"/>
            <a:chOff x="1514520" y="2909880"/>
            <a:chExt cx="676080" cy="436680"/>
          </a:xfrm>
        </p:grpSpPr>
        <p:sp>
          <p:nvSpPr>
            <p:cNvPr id="73" name=""/>
            <p:cNvSpPr/>
            <p:nvPr/>
          </p:nvSpPr>
          <p:spPr>
            <a:xfrm flipV="1">
              <a:off x="1847880" y="290988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14520" y="2932200"/>
              <a:ext cx="342720" cy="414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533600" y="292428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 flipH="1">
            <a:off x="2409840" y="3386160"/>
            <a:ext cx="214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24240" y="2571840"/>
            <a:ext cx="0" cy="814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52560" y="3314880"/>
            <a:ext cx="0" cy="299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52560" y="3600360"/>
            <a:ext cx="77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88960" y="251928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= -79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512720" y="1776240"/>
            <a:ext cx="1447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= -83 d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t /Satisfactory Ante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36640" y="1419120"/>
            <a:ext cx="2090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94/70, 93/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328840" y="2143080"/>
            <a:ext cx="942840" cy="214200"/>
            <a:chOff x="2328840" y="2143080"/>
            <a:chExt cx="942840" cy="214200"/>
          </a:xfrm>
        </p:grpSpPr>
        <p:sp>
          <p:nvSpPr>
            <p:cNvPr id="85" name=""/>
            <p:cNvSpPr/>
            <p:nvPr/>
          </p:nvSpPr>
          <p:spPr>
            <a:xfrm>
              <a:off x="2328840" y="2143080"/>
              <a:ext cx="9428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43240" y="2143080"/>
              <a:ext cx="457200" cy="21420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67000" y="2367000"/>
            <a:ext cx="942840" cy="214200"/>
            <a:chOff x="3267000" y="2367000"/>
            <a:chExt cx="942840" cy="214200"/>
          </a:xfrm>
        </p:grpSpPr>
        <p:sp>
          <p:nvSpPr>
            <p:cNvPr id="88" name=""/>
            <p:cNvSpPr/>
            <p:nvPr/>
          </p:nvSpPr>
          <p:spPr>
            <a:xfrm>
              <a:off x="3267000" y="2367000"/>
              <a:ext cx="9428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81400" y="2367000"/>
              <a:ext cx="457200" cy="21420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210200" y="2138400"/>
            <a:ext cx="942840" cy="214200"/>
            <a:chOff x="4210200" y="2138400"/>
            <a:chExt cx="942840" cy="214200"/>
          </a:xfrm>
        </p:grpSpPr>
        <p:sp>
          <p:nvSpPr>
            <p:cNvPr id="91" name=""/>
            <p:cNvSpPr/>
            <p:nvPr/>
          </p:nvSpPr>
          <p:spPr>
            <a:xfrm>
              <a:off x="4210200" y="2138400"/>
              <a:ext cx="9428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24240" y="2138400"/>
              <a:ext cx="457200" cy="21420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53040" y="2338560"/>
            <a:ext cx="942840" cy="214200"/>
            <a:chOff x="5153040" y="2338560"/>
            <a:chExt cx="942840" cy="214200"/>
          </a:xfrm>
        </p:grpSpPr>
        <p:sp>
          <p:nvSpPr>
            <p:cNvPr id="94" name=""/>
            <p:cNvSpPr/>
            <p:nvPr/>
          </p:nvSpPr>
          <p:spPr>
            <a:xfrm>
              <a:off x="5153040" y="2338560"/>
              <a:ext cx="9428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7440" y="2338560"/>
              <a:ext cx="457200" cy="21420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95880" y="2138400"/>
            <a:ext cx="942840" cy="214200"/>
            <a:chOff x="6095880" y="2138400"/>
            <a:chExt cx="942840" cy="214200"/>
          </a:xfrm>
        </p:grpSpPr>
        <p:sp>
          <p:nvSpPr>
            <p:cNvPr id="97" name=""/>
            <p:cNvSpPr/>
            <p:nvPr/>
          </p:nvSpPr>
          <p:spPr>
            <a:xfrm>
              <a:off x="6095880" y="2138400"/>
              <a:ext cx="942840" cy="214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10280" y="2138400"/>
              <a:ext cx="457200" cy="21420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914400" y="20620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09720" y="23572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79560" y="1676520"/>
            <a:ext cx="413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st Antenna, Worst Case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3240" y="2814480"/>
            <a:ext cx="4686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68760" y="2637000"/>
            <a:ext cx="223524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amb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4186080"/>
            <a:ext cx="139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94/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38160" y="49006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33480" y="51958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09840" y="5753160"/>
            <a:ext cx="4657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06920" y="5589720"/>
            <a:ext cx="223524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ambl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460600" y="4457880"/>
            <a:ext cx="501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tisfactory Antenna , Worst Case Samp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52600" y="4967280"/>
            <a:ext cx="4681800" cy="480960"/>
            <a:chOff x="2352600" y="4967280"/>
            <a:chExt cx="4681800" cy="480960"/>
          </a:xfrm>
        </p:grpSpPr>
        <p:grpSp>
          <p:nvGrpSpPr>
            <p:cNvPr id="111" name=""/>
            <p:cNvGrpSpPr/>
            <p:nvPr/>
          </p:nvGrpSpPr>
          <p:grpSpPr>
            <a:xfrm>
              <a:off x="2352600" y="4967280"/>
              <a:ext cx="1584360" cy="228600"/>
              <a:chOff x="2352600" y="4967280"/>
              <a:chExt cx="1584360" cy="228600"/>
            </a:xfrm>
          </p:grpSpPr>
          <p:sp>
            <p:nvSpPr>
              <p:cNvPr id="112" name=""/>
              <p:cNvSpPr/>
              <p:nvPr/>
            </p:nvSpPr>
            <p:spPr>
              <a:xfrm>
                <a:off x="2352600" y="4967280"/>
                <a:ext cx="158436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68440" y="4967280"/>
                <a:ext cx="453960" cy="22860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3932280" y="5219640"/>
              <a:ext cx="1585800" cy="228600"/>
              <a:chOff x="3932280" y="5219640"/>
              <a:chExt cx="1585800" cy="228600"/>
            </a:xfrm>
          </p:grpSpPr>
          <p:sp>
            <p:nvSpPr>
              <p:cNvPr id="115" name=""/>
              <p:cNvSpPr/>
              <p:nvPr/>
            </p:nvSpPr>
            <p:spPr>
              <a:xfrm>
                <a:off x="3932280" y="5219640"/>
                <a:ext cx="158580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48120" y="5219640"/>
                <a:ext cx="455760" cy="228600"/>
              </a:xfrm>
              <a:prstGeom prst="rect">
                <a:avLst/>
              </a:prstGeom>
              <a:blipFill rotWithShape="0">
                <a:blip r:embed="rId7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450040" y="4991040"/>
              <a:ext cx="1584360" cy="228600"/>
              <a:chOff x="5450040" y="4991040"/>
              <a:chExt cx="1584360" cy="228600"/>
            </a:xfrm>
          </p:grpSpPr>
          <p:sp>
            <p:nvSpPr>
              <p:cNvPr id="118" name=""/>
              <p:cNvSpPr/>
              <p:nvPr/>
            </p:nvSpPr>
            <p:spPr>
              <a:xfrm>
                <a:off x="5450040" y="4991040"/>
                <a:ext cx="1584360" cy="228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464080" y="4991040"/>
                <a:ext cx="455760" cy="228600"/>
              </a:xfrm>
              <a:prstGeom prst="rect">
                <a:avLst/>
              </a:prstGeom>
              <a:blipFill rotWithShape="0">
                <a:blip r:embed="rId8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1143000" y="4057560"/>
            <a:ext cx="6972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23760" y="322884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9080" y="352440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24160" y="3324240"/>
            <a:ext cx="12430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28840" y="3324240"/>
            <a:ext cx="917640" cy="2142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562200" y="3562200"/>
            <a:ext cx="12430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67240" y="3562200"/>
            <a:ext cx="917640" cy="21420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91240" y="3333600"/>
            <a:ext cx="12430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95920" y="3333600"/>
            <a:ext cx="917640" cy="21420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562200"/>
            <a:ext cx="12430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24600" y="3562200"/>
            <a:ext cx="917640" cy="21420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48600" y="3333600"/>
            <a:ext cx="1243080" cy="214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53280" y="3333600"/>
            <a:ext cx="917640" cy="21420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94600" y="243360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823160" y="271944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52600" y="3124080"/>
            <a:ext cx="607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76240" y="1438200"/>
            <a:ext cx="735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Sampling and Start of Message are 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amble Length and Content are 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Setting Times Determined by Physical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all System Performance is Sensitive to PHY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nough Time to Evaluate Signal During Preamble to Implement Best Antenna Approach Reliably in 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 Has Longer Preamble -- Maybe OK, Maybe too Lo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4681440"/>
            <a:ext cx="75693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posal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ive Receiver More Knowledge by Including Timestamp in 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743200" y="5343480"/>
            <a:ext cx="771480" cy="328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609480"/>
            <a:ext cx="69343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rrent Pream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162080"/>
            <a:ext cx="1974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rec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5760" y="1519200"/>
            <a:ext cx="7324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111111 ..........................................................1111111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20760" y="1986120"/>
            <a:ext cx="5543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94000" y="1822320"/>
            <a:ext cx="163980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8 symb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31760" y="2549520"/>
            <a:ext cx="6688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010101.....................................................10101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23840" y="2987640"/>
            <a:ext cx="5043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986200" y="2824200"/>
            <a:ext cx="1574640" cy="38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  symbo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143080"/>
            <a:ext cx="233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85960" y="3305160"/>
            <a:ext cx="693432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estamp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404352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14480" y="4300560"/>
            <a:ext cx="7388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00 .......................00001111 ...........................1111111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31840" y="5397480"/>
            <a:ext cx="6499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10..............10100101010......................10101 Unique 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4834080"/>
            <a:ext cx="48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928800" y="5286240"/>
            <a:ext cx="2200320" cy="843120"/>
            <a:chOff x="928800" y="5286240"/>
            <a:chExt cx="2200320" cy="843120"/>
          </a:xfrm>
        </p:grpSpPr>
        <p:sp>
          <p:nvSpPr>
            <p:cNvPr id="155" name=""/>
            <p:cNvSpPr/>
            <p:nvPr/>
          </p:nvSpPr>
          <p:spPr>
            <a:xfrm flipH="1">
              <a:off x="3114720" y="5286240"/>
              <a:ext cx="14400" cy="500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643120" y="5800680"/>
              <a:ext cx="471600" cy="114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928800" y="5762520"/>
              <a:ext cx="1773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ymbols 32,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 flipH="1">
            <a:off x="3638520" y="4167360"/>
            <a:ext cx="14400" cy="50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652920" y="4681440"/>
            <a:ext cx="47124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152960" y="4714920"/>
            <a:ext cx="1773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s 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9532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st or Satisfactory Algorith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371760" y="1504800"/>
            <a:ext cx="2076480" cy="723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 for R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Sy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390840" y="2724120"/>
            <a:ext cx="2038320" cy="55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aluate S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7000" y="3557520"/>
            <a:ext cx="1390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791320" y="4457880"/>
            <a:ext cx="2076480" cy="628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33600" y="5391000"/>
            <a:ext cx="2000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B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48000" y="2305080"/>
            <a:ext cx="248040" cy="362160"/>
          </a:xfrm>
          <a:custGeom>
            <a:avLst/>
            <a:gdLst/>
            <a:ahLst/>
            <a:rect l="0" t="0" r="r" b="b"/>
            <a:pathLst>
              <a:path w="689" h="1006">
                <a:moveTo>
                  <a:pt x="230" y="0"/>
                </a:moveTo>
                <a:lnTo>
                  <a:pt x="459" y="0"/>
                </a:lnTo>
                <a:lnTo>
                  <a:pt x="459" y="704"/>
                </a:lnTo>
                <a:lnTo>
                  <a:pt x="689" y="704"/>
                </a:lnTo>
                <a:lnTo>
                  <a:pt x="344" y="1006"/>
                </a:lnTo>
                <a:lnTo>
                  <a:pt x="0" y="704"/>
                </a:lnTo>
                <a:lnTo>
                  <a:pt x="230" y="704"/>
                </a:lnTo>
                <a:lnTo>
                  <a:pt x="23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238400" y="4514760"/>
            <a:ext cx="200016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of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851120" y="3500280"/>
            <a:ext cx="175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51080" y="264312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228760" y="3029040"/>
            <a:ext cx="11620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228760" y="18669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47840" y="1866960"/>
            <a:ext cx="11048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305080" y="3314880"/>
            <a:ext cx="2038320" cy="11617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81560" y="3295800"/>
            <a:ext cx="2171520" cy="11430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95960" y="5048280"/>
            <a:ext cx="121932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266920" y="5086440"/>
            <a:ext cx="1104840" cy="495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118040" y="3424320"/>
            <a:ext cx="590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914400" y="419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mplementation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00240" y="1542960"/>
            <a:ext cx="1276200" cy="120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p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47880" y="3809880"/>
            <a:ext cx="1295280" cy="108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51400" y="3938760"/>
            <a:ext cx="1415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251400" y="420516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R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52560" y="4076640"/>
            <a:ext cx="933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4076640"/>
            <a:ext cx="0" cy="1028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000680"/>
            <a:ext cx="1332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105520"/>
            <a:ext cx="462924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19480" y="5334120"/>
            <a:ext cx="1238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610000" y="5010120"/>
            <a:ext cx="1332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478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47800" y="5657760"/>
            <a:ext cx="5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57880" y="5676840"/>
            <a:ext cx="154296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251400" y="5634000"/>
            <a:ext cx="215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tamp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251400" y="5005440"/>
            <a:ext cx="67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81320" y="4038480"/>
            <a:ext cx="2552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43160" y="4210200"/>
            <a:ext cx="2610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524560" y="3848040"/>
            <a:ext cx="304920" cy="2667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562720" y="4114800"/>
            <a:ext cx="266760" cy="2476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43160" y="4724280"/>
            <a:ext cx="28386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251400" y="466236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51400" y="3672000"/>
            <a:ext cx="73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238560" y="2800440"/>
            <a:ext cx="12384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251400" y="1690560"/>
            <a:ext cx="1415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251400" y="1957320"/>
            <a:ext cx="1276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R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186696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4600" y="203832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562720" y="1676520"/>
            <a:ext cx="304560" cy="26676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600880" y="1943280"/>
            <a:ext cx="266400" cy="2473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2362320"/>
            <a:ext cx="35434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251400" y="222408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51400" y="1405080"/>
            <a:ext cx="73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N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95520" y="261000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251400" y="2529000"/>
            <a:ext cx="67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85960" y="2514600"/>
            <a:ext cx="1332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264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43200" y="310500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14760" y="3105000"/>
            <a:ext cx="15433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251400" y="2871720"/>
            <a:ext cx="2152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stamp Det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66720" y="22096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31800" y="1728720"/>
            <a:ext cx="3873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50880" y="3405240"/>
            <a:ext cx="1657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Demo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67120" y="4648320"/>
            <a:ext cx="1332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43440" y="474336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67120" y="2266920"/>
            <a:ext cx="133200" cy="171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24360" y="240048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86360" y="1943280"/>
            <a:ext cx="2476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53160" y="4114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933480" y="495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ing Simulation Results</a:t>
            </a:r>
            <a:br>
              <a:rPr sz="36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cernible Signals at  Both Ante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31760" y="1538280"/>
            <a:ext cx="357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94/70 Timing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050840" y="1560600"/>
            <a:ext cx="703728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amble A: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amble A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amble B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est Anten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inimu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verag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bserv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NR 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NR 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Interva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xecution (%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2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3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4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69920" y="4357800"/>
            <a:ext cx="45943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nna Switching Tim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069920" y="5135400"/>
            <a:ext cx="4756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ock Detection Interv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