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FC99F2C-DD8E-4A78-8194-4DE5B068BD0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4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97180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11-15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lando, Flo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11, 16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4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/PHY interfac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4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2 and July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880" y="914400"/>
            <a:ext cx="8534520" cy="52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lando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 Disney Sw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/8-1 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Antonio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gi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Riverce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ine Village, N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857160"/>
                <a:tab algn="l" pos="1600200"/>
                <a:tab algn="l" pos="3886200"/>
                <a:tab algn="l" pos="4857840"/>
                <a:tab algn="l" pos="5600520"/>
                <a:tab algn="l" pos="668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ke Ta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Jo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ar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SE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Tether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y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 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MAC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) Cross check work plan and eliminate MAC features to make Nov Letter ballot deadline as previously commited by 802.11 plenary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) Revisit recomendations from May mtg, not ratified by 802.11 ple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) Review the efforts of those working to create text to resolve the draft text consitently with the closed issues. Recommend adoption of additional text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) Finalize decision on "wired equiv" security alg as an 802.11 requir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MAC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) Close all remaining open issues - this is necessary to determine what features will make the nov Lb and which will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) Review and hopefully adopt a MAC MGT functionality propo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) Decide on a detailed fragmentation proposal. This is needed to complete the reccomendation from May to add fragmentation function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PHY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e all ope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the MAC/PHY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dit text for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320" y="99072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|    Tuesday 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ec. ! 802.11|PH!PH!PH!PH!MAC|PH!PH!PH!MAC|PH!PH!PH!MAC|802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Comm ! PHY   |DS!FH!IR!HS!   |DS!FH!IR!   |DS!FH!IR! 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!       |  !  !  !  !   |  !  !  !   |........!   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!       |  !  !  !  !   |  !  !  !   |  PHY   ! 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   !MAC   | PH! PH! PH!MAC| PHY ! MAC  |   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lenary!Tuto- | DS! FH! IR!   |............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! rial |   !   !   !   |   802.11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|   !   !   !   |  MAC / PHY 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Full 802.11 |   !   !   !   |  Interface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MAC / PHY    | MAC / PHY    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Interface a-h|  Interface a-h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|---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uly 1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couver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haw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1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uly 1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MAC/PHY interface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shawa meeting financ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uly 1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prove recommendations from Ma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torial on Anti-trust and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nding mo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3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netic version ple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/PHY (interface)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 from th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