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00120" y="268200"/>
            <a:ext cx="786276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July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oc.: IEEE P802.11-94/14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93640" y="6173640"/>
            <a:ext cx="789768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      Slide:</a:t>
            </a:r>
            <a:fld id="{DF3AA4C4-CEB0-4038-A0C7-619EBE75F92A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. Brown, Int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23960" y="2143080"/>
            <a:ext cx="7802640" cy="13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ower, High Speed FQPSK Solution for Infrared and Other Wireless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27560" y="3714840"/>
            <a:ext cx="26370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uck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. Application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l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916) 356-37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Set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62160" y="1488960"/>
            <a:ext cx="4905360" cy="321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650880" y="4708440"/>
            <a:ext cx="6705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ed FQPSK and other quadrature modulation techn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sted 1 Mb/s and 4 Mb/s </a:t>
            </a:r>
            <a:r>
              <a:rPr b="0" lang="en-US" sz="1800" spc="-1" strike="noStrike">
                <a:solidFill>
                  <a:srgbClr val="618ffd"/>
                </a:solidFill>
                <a:latin typeface="Arial"/>
                <a:ea typeface="Arial"/>
              </a:rPr>
              <a:t>(device supports up to 16 Mb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, tansmit and receive baseband, and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pectrum measurements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838160" y="5256360"/>
            <a:ext cx="5141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Vcc = 5.0V at room temperature, Measured Icc + Ic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35240" y="1533600"/>
            <a:ext cx="6383160" cy="381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ster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t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scillat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t # V3471001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ot # L40916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b/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(MHz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v. ‘9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eb. ‘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ndb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u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45u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0.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2.0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2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1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0.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.5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9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4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4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4.0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8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60.0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9.5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16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2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6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2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6mW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5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40.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/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3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119240" y="1590840"/>
            <a:ext cx="6653160" cy="3609720"/>
            <a:chOff x="1119240" y="1590840"/>
            <a:chExt cx="6653160" cy="3609720"/>
          </a:xfrm>
        </p:grpSpPr>
        <p:sp>
          <p:nvSpPr>
            <p:cNvPr id="124" name=""/>
            <p:cNvSpPr/>
            <p:nvPr/>
          </p:nvSpPr>
          <p:spPr>
            <a:xfrm>
              <a:off x="1316160" y="1590840"/>
              <a:ext cx="6275520" cy="360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311560" y="1611360"/>
              <a:ext cx="0" cy="358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25920" y="1600200"/>
              <a:ext cx="0" cy="360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13320" y="1876320"/>
              <a:ext cx="398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27320" y="2492280"/>
              <a:ext cx="6275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16440" y="1863720"/>
              <a:ext cx="0" cy="3336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9240" y="3624120"/>
              <a:ext cx="6653160" cy="33192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 txBox="1"/>
          <p:nvPr/>
        </p:nvSpPr>
        <p:spPr>
          <a:xfrm>
            <a:off x="1281240" y="5597640"/>
            <a:ext cx="5778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February lots include new power screens in wafe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4720" y="1887480"/>
            <a:ext cx="73785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 Mb/s Baseband Signal and Constellation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o ISI nor jitter in baseband sig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484280" y="2846520"/>
            <a:ext cx="6181920" cy="2597040"/>
            <a:chOff x="1484280" y="2846520"/>
            <a:chExt cx="6181920" cy="259704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1484280" y="2849400"/>
              <a:ext cx="2698920" cy="215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4846680" y="2846520"/>
              <a:ext cx="28195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 txBox="1"/>
            <p:nvPr/>
          </p:nvSpPr>
          <p:spPr>
            <a:xfrm>
              <a:off x="2058840" y="5106960"/>
              <a:ext cx="11001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eb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600520" y="5073480"/>
              <a:ext cx="1359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stel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604800" y="5665680"/>
            <a:ext cx="5064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d at input of quadrature modulator (unfilte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es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77760" y="1636560"/>
            <a:ext cx="7253280" cy="7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1 Mb/s FQPSK Out-of-Band Power Spect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rrier modulated at 10 MHz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25480" y="2438280"/>
            <a:ext cx="2743200" cy="2536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30760" y="2494080"/>
            <a:ext cx="3051000" cy="24415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38480" y="515448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54080" y="4981680"/>
            <a:ext cx="3971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eas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Fc = 10 MHz, Span=3 MHz, RBW=3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705640" y="4960800"/>
            <a:ext cx="1087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372440" y="3841920"/>
            <a:ext cx="318960" cy="101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680240" y="3692520"/>
            <a:ext cx="1073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8 Bit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mmary and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77760" y="17384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PGA technology provides a low-power, flexible means to implement first generation carrier modulated EXIRLA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8 Bit quantization achieved nearly equal power spectrum and equal BER as 12 bit resolu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 iFX740 based FQPSK baseband processor consumed less then 35 mW at 1 Mb/s and typical standby power less than 150 uW and is able to support data rates up to 16 Mb/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QPSK carrier modulated transmission in a NLA channel provided IJF signaling and spectral compact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ssumption and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of FQPSK Carrier Modulated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FPGA and Analog/RF ASIC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est Resul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ummary and Com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0160" y="1909800"/>
            <a:ext cx="7585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bined Baseband and Multichannel IR-PHY for EXIR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4/16 Level PPM for Baseband Modulation and FQPSK for Carrier Mod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posed Data Transfer Rate in the 1 Mb/s to 10 Mb/s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w Cost/High Power Infrared Transmit Diodes support DC to 30 MHz r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 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re is a need for low power, high performance solutions suitable for implementing EXIRL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04880" y="179064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9560" y="252720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9280" y="318924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30080" y="3886200"/>
            <a:ext cx="343080" cy="498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708120" y="4592520"/>
            <a:ext cx="34308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oposed Spectral Templ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6160" y="1967040"/>
            <a:ext cx="0" cy="2022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14360" y="3989520"/>
            <a:ext cx="6915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198440" y="4033800"/>
            <a:ext cx="764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0.6                     6      9      12      15      18      21      24      27      30   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346040" y="2593800"/>
            <a:ext cx="171720" cy="138456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19200" y="2604960"/>
            <a:ext cx="126828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3040" y="2606760"/>
            <a:ext cx="171360" cy="138420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984400" y="2608200"/>
            <a:ext cx="549360" cy="1398600"/>
            <a:chOff x="2984400" y="2608200"/>
            <a:chExt cx="549360" cy="1398600"/>
          </a:xfrm>
        </p:grpSpPr>
        <p:sp>
          <p:nvSpPr>
            <p:cNvPr id="61" name=""/>
            <p:cNvSpPr/>
            <p:nvPr/>
          </p:nvSpPr>
          <p:spPr>
            <a:xfrm>
              <a:off x="3362400" y="262260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984400" y="260820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54320" y="262908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3573360" y="2590920"/>
            <a:ext cx="549360" cy="1398600"/>
            <a:chOff x="3573360" y="2590920"/>
            <a:chExt cx="549360" cy="1398600"/>
          </a:xfrm>
        </p:grpSpPr>
        <p:sp>
          <p:nvSpPr>
            <p:cNvPr id="65" name=""/>
            <p:cNvSpPr/>
            <p:nvPr/>
          </p:nvSpPr>
          <p:spPr>
            <a:xfrm>
              <a:off x="3951360" y="260496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573360" y="259092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43280" y="261144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178160" y="2570040"/>
            <a:ext cx="549360" cy="1398600"/>
            <a:chOff x="4178160" y="2570040"/>
            <a:chExt cx="549360" cy="1398600"/>
          </a:xfrm>
        </p:grpSpPr>
        <p:sp>
          <p:nvSpPr>
            <p:cNvPr id="69" name=""/>
            <p:cNvSpPr/>
            <p:nvPr/>
          </p:nvSpPr>
          <p:spPr>
            <a:xfrm>
              <a:off x="4556160" y="258444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4178160" y="2570040"/>
              <a:ext cx="17172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8080" y="25909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4770360" y="2597040"/>
            <a:ext cx="549360" cy="1398600"/>
            <a:chOff x="4770360" y="2597040"/>
            <a:chExt cx="549360" cy="1398600"/>
          </a:xfrm>
        </p:grpSpPr>
        <p:sp>
          <p:nvSpPr>
            <p:cNvPr id="73" name=""/>
            <p:cNvSpPr/>
            <p:nvPr/>
          </p:nvSpPr>
          <p:spPr>
            <a:xfrm>
              <a:off x="5148360" y="261144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770360" y="259704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26179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378400" y="2610000"/>
            <a:ext cx="549360" cy="1398600"/>
            <a:chOff x="5378400" y="2610000"/>
            <a:chExt cx="549360" cy="1398600"/>
          </a:xfrm>
        </p:grpSpPr>
        <p:sp>
          <p:nvSpPr>
            <p:cNvPr id="77" name=""/>
            <p:cNvSpPr/>
            <p:nvPr/>
          </p:nvSpPr>
          <p:spPr>
            <a:xfrm>
              <a:off x="5756400" y="262404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378400" y="261000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48320" y="263052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006960" y="2598840"/>
            <a:ext cx="549360" cy="1398600"/>
            <a:chOff x="6006960" y="2598840"/>
            <a:chExt cx="549360" cy="1398600"/>
          </a:xfrm>
        </p:grpSpPr>
        <p:sp>
          <p:nvSpPr>
            <p:cNvPr id="81" name=""/>
            <p:cNvSpPr/>
            <p:nvPr/>
          </p:nvSpPr>
          <p:spPr>
            <a:xfrm>
              <a:off x="6384960" y="261288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006960" y="259884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6880" y="261936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6624720" y="2589120"/>
            <a:ext cx="549360" cy="1398600"/>
            <a:chOff x="6624720" y="2589120"/>
            <a:chExt cx="549360" cy="1398600"/>
          </a:xfrm>
        </p:grpSpPr>
        <p:sp>
          <p:nvSpPr>
            <p:cNvPr id="85" name=""/>
            <p:cNvSpPr/>
            <p:nvPr/>
          </p:nvSpPr>
          <p:spPr>
            <a:xfrm>
              <a:off x="7002360" y="260352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24720" y="2589120"/>
              <a:ext cx="171360" cy="138456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94640" y="261000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7230960" y="2600280"/>
            <a:ext cx="549360" cy="1398600"/>
            <a:chOff x="7230960" y="2600280"/>
            <a:chExt cx="549360" cy="1398600"/>
          </a:xfrm>
        </p:grpSpPr>
        <p:sp>
          <p:nvSpPr>
            <p:cNvPr id="89" name=""/>
            <p:cNvSpPr/>
            <p:nvPr/>
          </p:nvSpPr>
          <p:spPr>
            <a:xfrm>
              <a:off x="7608960" y="2614680"/>
              <a:ext cx="17136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7230960" y="2600280"/>
              <a:ext cx="171720" cy="138420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00880" y="2620800"/>
              <a:ext cx="193680" cy="0"/>
            </a:xfrm>
            <a:prstGeom prst="line">
              <a:avLst/>
            </a:prstGeom>
            <a:ln w="1260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 txBox="1"/>
          <p:nvPr/>
        </p:nvSpPr>
        <p:spPr>
          <a:xfrm>
            <a:off x="1279440" y="1631880"/>
            <a:ext cx="2068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. Blomeyer IEEE P802.11-94/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95560" y="4433760"/>
            <a:ext cx="0" cy="16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34320" y="4438800"/>
            <a:ext cx="0" cy="16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40200" y="4527720"/>
            <a:ext cx="47322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6760" y="2135160"/>
            <a:ext cx="3606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618ffd"/>
                </a:solidFill>
                <a:latin typeface="Arial"/>
                <a:ea typeface="Arial"/>
              </a:rPr>
              <a:t>Modulated Carrier Channels (FQP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0840" y="4560840"/>
            <a:ext cx="1697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IEC 84 Band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68280" y="2135160"/>
            <a:ext cx="2025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c0128"/>
                </a:solidFill>
                <a:latin typeface="Arial"/>
                <a:ea typeface="Arial"/>
              </a:rPr>
              <a:t>Baseband (16-PP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7560" y="4983120"/>
            <a:ext cx="7988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 MHz baseband supports up to 1-Mb/s with 16-P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 band channels support 1- to 10-Mb/s (or higher) in a TBD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nvelope nonlinearly amplified IR system for power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74800" y="1614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mited spectral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ical size (hand held dev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ower carrier modulated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erformance designs to achieved desired data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time-to-market at a reasonabl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14520" y="5302080"/>
            <a:ext cx="7813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Recommendation: Combine today's field programmable gate ar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echnology with low power Analog and RF A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QPSK Carrier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19280" y="1565280"/>
            <a:ext cx="775332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eband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24200" y="2014560"/>
            <a:ext cx="5005440" cy="386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947880" y="1655640"/>
            <a:ext cx="3614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11001100... NRZ Data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PGA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0280" y="1731960"/>
            <a:ext cx="153972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657680" y="1577880"/>
            <a:ext cx="3556080" cy="2633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710480" y="5591160"/>
            <a:ext cx="563400" cy="297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617400" y="41940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RAM/EPROM architecture on 0.8 micron CHMO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ower - typical uA standby with 1 mA/MHz active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gurable Function Blocks (CFBs) configured as 24V10 logic or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1149.1 JTAG supports boundary scan testing and in-circ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 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nfiguration an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cost path to mask programmed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2400" y="3200400"/>
            <a:ext cx="253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Small PLCC pack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03200" y="760320"/>
            <a:ext cx="83725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ower Analog ASIC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5680" y="1593720"/>
            <a:ext cx="5769000" cy="3552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47560" y="5280120"/>
            <a:ext cx="72388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alcomm Baseband Analog and RF ASIC in 64 pin TQFP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Arial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s 385 mW at 5V in full transmit and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