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43040" y="838080"/>
            <a:ext cx="8337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305840" y="455760"/>
            <a:ext cx="2262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EEE P802.11-94/150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019320" y="411120"/>
            <a:ext cx="36417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tive Priority DCF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43040" y="1600200"/>
            <a:ext cx="840096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366040" y="884160"/>
            <a:ext cx="73512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8DD686E4-E9D9-47CA-A7CA-93F143B98D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581040" y="531720"/>
            <a:ext cx="2035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T&amp;T / Symbion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Active Priority DCF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50960" y="21337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SMA/CA with Active Priority Signa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SMA/CA-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os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io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&amp;T-GIS/WC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Priority leve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50960" y="5029200"/>
            <a:ext cx="854568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ive Priority Signa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ngth of Priority Detection Period (PDP) together with length of PaS period sets priority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coding (for priority n, the PDP is n-1 units lo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65480" y="1887480"/>
            <a:ext cx="544032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Contention re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62120" y="46483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changes compared to Foundation MA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ndomly chosen back-off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rement Backoff only while Medium 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inary exponential CW increase for retransmissions for stability at high loa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84240" y="1728720"/>
            <a:ext cx="77756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Physical Require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74640" y="4572000"/>
            <a:ext cx="839304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ive signalling is one pul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est priority does not need to send the P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stations need to be able to detect the P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S detection of multiple overlapping sources, so impacts CCA detectio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S duration depends on synchronization tole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84240" y="1728720"/>
            <a:ext cx="77756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Transmitter State Mach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475240" y="1981080"/>
            <a:ext cx="43545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DP=0 for Highest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S=0 for lowest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ority resolution phase ad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n in decrementing backoff, then do not react on a PaS, but wait longer (frame detection) before restarting priority asses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ndom delay to randomize subsequent transmissions of the same n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5920" y="1673280"/>
            <a:ext cx="522756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CAM Paramet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826920" y="1676520"/>
            <a:ext cx="8393040" cy="47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lot Period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mit turn-on time + medium propag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lay + CCA detection time in the receiv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F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termined by Tx-Rx or Rx-Tx turnaround time,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ow proper reception of the Ack, whichever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reater. Expected in range of 1 usec to slot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iod likely determined by the Ack duration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pected in range of 6-8 sl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D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uration dependent on signalling delay variance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(n-1) slots detection tim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uration dependent on signalling delay variance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detection time on one anten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W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iod determines collision probability. Assumed 3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l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FC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inuous idle medium requirement for period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S + PDP + Cw /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How many priorities nee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50960" y="1905120"/>
            <a:ext cx="839304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least two hierarchical independent priority levels needed to support the main serv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uality of Service (QoS) should map to prio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ynchronous servi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tributed TBS (optional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gh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itional relative priorities possible within a service level using Contention Window size differ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ative Priority difference between AP and station makes se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st traffic will be via the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 AP would generate close to 50% of fra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of separate hierarchical independent levels for AP may  not be optimu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Priority levels in the stand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03240" y="4419720"/>
            <a:ext cx="83170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number of levels could increase in fu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n need manageable PDP and PaS parame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 and Station priority separation by CWmin param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41240" y="1849320"/>
            <a:ext cx="4910040" cy="2387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5715000" y="1828800"/>
            <a:ext cx="40384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 prior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DP = 0; PaS =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w Prior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DP = x; PaS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inimum comformance lev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50960" y="4038480"/>
            <a:ext cx="84693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w Priority only” implementations are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y do not need PaS generation cap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t they do need PaS detection cap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w Priority only” is very similar to current Foundation behavi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PaS generation required but detection facility is mand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60560" y="1717560"/>
            <a:ext cx="535320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PaS and PDP du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74640" y="3429000"/>
            <a:ext cx="846936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uration depend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sy Medium ” -off detection toler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dium propagation de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ergy/signal detect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ly single antenna measurement accep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tenna slotting synchronization will help decrease tolera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S detection can effect CCA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ultiple PaS signals will over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073240" y="1674720"/>
            <a:ext cx="574992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DIFS du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486080" y="3863880"/>
            <a:ext cx="7577280" cy="23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S impact of the “Hidden node problem” which depends on the Defer thresh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S may jam the Ack consist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Solution: DIFS should be &gt; SIFS+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so shows the unsynchronized PaS case due to the same phenom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ll cause leakage between priority 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28640" y="1798560"/>
            <a:ext cx="66387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DTBS Hi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50960" y="21337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ed Time Bounded service (DTBS) introduced by Apple in January meeting following Hiperlan appro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SMA/CA with priority mechanism introduced in March meeting by AT&amp;T (doc 94/5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ittee decides to support DTBS, but method is still to be deci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Draft standard updates nee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92040" y="1644480"/>
            <a:ext cx="4637160" cy="29275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714920" y="4270320"/>
            <a:ext cx="5124600" cy="2368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5181480" y="1752480"/>
            <a:ext cx="4648320" cy="14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ange “Medium Free DIF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o:  “MFC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xt changes in several s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Performan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simulation environment currently available to assess total system behavi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in priority level the following can be said relative to the doc 94/58 proposal (Multiple IFS priorit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formance very similar to results presented sof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ss overhead for Low Priority traff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ttle more overhead of High Priority traff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lay distribution as function of priority traffic load has different characteristics (more hierarchical separ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FMACSIM simulator should be upgra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valuate “Hidden node” behavio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valuate parameter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Concl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50960" y="21337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icient priority method proposed to support the defined Foundation MAC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ority based DCF definition is needed now to assure coexistance with optional (future) Time Bounded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 priority only is very similar to current Fou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PaS generation required but detection facility is mand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erent AP and Station priorities can be achieved through different CWmin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otions: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50960" y="160020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t 802.11 should adopt the priority based DCF proposal as documented in 94/1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t 802.11 should adopt two hierarchical independent priority levels mapped to the services provided by the Foundation MA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t 802.11 should specify different CWmin parameters for AP and Stations, to allow relative priority diffe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Priority proposal Hi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50960" y="21337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vious proposal introduced (doc 94/58) in IEEE and ETSI to support DTBS. (Priority through IFS differenc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ternative priority mechanism (based on priority signalling) suggested in IEEE by Apple in their January DTBS propo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&amp;T, Apple and Symbionics propose in May IEEE meeting to drop the reservation based TBS of the Foundation MAC in favor of the priority based DTBS approach. This was adopted as a recommend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ority signalling method analysed, and solutions were found for identified potential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Vi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50960" y="182880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is important to have a World-wide standard for high speed WL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5.2 GHz band is a good candidate to become World-wide available (unused extension band for obsolete ML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like Hiperlan in Europe, the FCC is not expected to exclusively assign such large amount of unlicensed spectrum to a single stand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tiquette needed to allow coexistence between dissimilar systems in the same b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urrent (1.9 GHz) Etiquette does not support priority access as would be needed to support the Hiperlan and IEEE services (DTBS) in the 5.2 GHZ b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World-wide 5.2 GHz standard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03240" y="2133720"/>
            <a:ext cx="801216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ETSI and IEEE are coexistent because they are based on the same Channel Access Method (CAM) supporting priority access, then this CAM can 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fc0128"/>
                </a:solidFill>
                <a:latin typeface="Arial"/>
                <a:ea typeface="Arial"/>
              </a:rPr>
              <a:t>The 5.2 GHz Etiquett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5.2 GHz band is needed for High speed 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 can be the next unlicensed world-wide b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equate spectrum available for High Sp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n spreading modulation types could be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Combined propos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74640" y="1676520"/>
            <a:ext cx="8393040" cy="46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pdated proposal supported by AT&amp;T and Symbionics in both IEEE 802.11 and ETSI RES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ority signalling method accepted for Hiperl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ention resolution method still under discu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iginal random backoff based CSMA/CA proposal is upgraded with a priority signalling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ides for efficient priority separation and contention reso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ports multiple priority levels with efficient hierarchical sepa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intains low criticality on PHY requir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x-Rx turnaround time is not criti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IPR ownership invol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iginal publication by Rom and Tobagi in 198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Basic Medium Access Mechanis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480" y="487692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annel Access Mechansm is split into two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ority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ention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84240" y="1728720"/>
            <a:ext cx="77756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Low traffic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434340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medium is idle, transmit immed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dium Free Condition (MFC) avoids “Channel Idle” decision during a conten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priority resolution, no contention resolution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04960" y="2054160"/>
            <a:ext cx="64882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Priority Re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50960" y="4648320"/>
            <a:ext cx="839304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ority Resolution is split into two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ority Detection Period (PD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ority Assertion Signal (P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84240" y="1728720"/>
            <a:ext cx="77756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