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273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150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19320" y="411120"/>
            <a:ext cx="3641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e Priority DCF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B9914627-E96B-4D31-8F1C-C8598D20E6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1040" y="531720"/>
            <a:ext cx="203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&amp;T / Symbi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y DT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19320" y="1630440"/>
            <a:ext cx="7162920" cy="44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 protocol proposal defined the optional PCF to support Time Bou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mitation due to PCF overlap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ming problems for T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limits larger instal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evant for current and future frequency b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peed in 1.9 GHz PCS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peed in potential 5.2 GHz band (HIPERL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hoc +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for reservation based “Time Bounded” Servic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 Distributed Time Bounded Service (DTBS) using priority access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38080" y="9907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 adopted by the MAC: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802.11 should adopt the “Priority based DCF” proposal as documented in 94/1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te in MAC subgroup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/11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Questions to the PHY subgrou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the PHY’s support the “Active Priority Signalling” accepted in the MAC sub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the expected timing (per PHY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A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 detection (if differ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cted “Medium Busy-off” detection tole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quired characteristic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257480" y="1716120"/>
            <a:ext cx="7162920" cy="451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Best effort delivery servi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No overlap limi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twee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for all priority levels to support “Bursty”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probability distribution for High Priority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um delay limit for DTBS acceptable to support Voice applications.(for 1-2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-30 msec frame times seem fea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er delays acceptable for local conn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impact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Low Priority only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lay and throughput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62120" y="50292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 of May meeting (ratified on mon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BS is selected to support Time Bounded Services, and decided to delete the original Contention Free TBS  from the dra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7160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 adopted in March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dd a 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ed Time  Bound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 service functionality to the Foundation MAC and to determine  by the end of the May meeting whether  one or both of the TBS’s will remain in the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Questions addressed in May mee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2135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we support one or both TBS methods in the draf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Only DT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the priority mechanism be optio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the priority should be considered a fixed part of the non-optional DC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DTBS be an optional or standard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Optional (no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Basic Medium Access Mechan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502920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nel Access Mechansm is split into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reso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using active signa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reso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ot chang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36520" y="188136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38080" y="9907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14400" y="9907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hysical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26920" y="4572000"/>
            <a:ext cx="839304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signalling is one pu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st priority does not need to send th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s need to be able to detect th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 detection of multiple overlapping sources, so may impact CCA detectio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 duration depends on synchronization 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36520" y="172872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14400" y="99072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nimum comformance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03240" y="4038480"/>
            <a:ext cx="8469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” implementation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do not need PaS generation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they do need PaS detection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” is very similar to current Foundation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PaS generation required but detection facility is mand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12840" y="1870200"/>
            <a:ext cx="53532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aS and PDP du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03240" y="3429000"/>
            <a:ext cx="84693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ation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y Medium ” -off detection tole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/signal detec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single antenna measurement may be accep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nna slotting synchronization will help decrease toler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 detection may effect CCA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PaS signals will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301840" y="1674720"/>
            <a:ext cx="57499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HY and Interface asp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needed to Xmit a P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 can use the normal modulation and signal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ggest it to be the first part of the PHY-pream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Controls the duration of this signal by turning PHY TX on and off using the normal TX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r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A indication can be used to signal PaS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ction timing can be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ection rel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Reliability of detection of multiple overlapping PaS signals from different sources is not catastrophic and can be acceptable (degradation is graceful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can contain provisions to reduce “False Alarm” imp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