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43040" y="838080"/>
            <a:ext cx="8337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305840" y="455760"/>
            <a:ext cx="2273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EEE P802.11-94/150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019320" y="411120"/>
            <a:ext cx="323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ic Priority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19000" y="1447920"/>
            <a:ext cx="840132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366040" y="884160"/>
            <a:ext cx="73512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2CF90D14-0606-4047-A53D-71029B7AA5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581040" y="531720"/>
            <a:ext cx="782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T&amp;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50960" y="21337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w to continue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ime Bounde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: Wim Diepstr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Stat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50960" y="21337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adopted to use DTBS, and delete the original CF-TBS spec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Active priority based DTBS proposal was voted down in the Orlando planery after acceptance by the MA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did not get any feedback from the PHY people about their Active priority signalling conse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to continue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A generic priority appro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50960" y="21337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a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 a generic approach in the MAC for the DCF priority mechanism, that allows both an active and passive implementation on a per PHY ba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very PHY standard should also specify the parameters for selecting the priority control metho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What is needed to comply with our P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50960" y="21337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need a MAC that can support DTBS, to comply with the P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es all PHY’s need to specify support for DTB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rrent lower speed PHY’s are less or not suited for support of actual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er speed PHY’s are better suited for most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, do all PHY’s need to support DTBS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50960" y="21337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3808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Generic Priority mechanisms propos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74640" y="4191120"/>
            <a:ext cx="90788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ws for different priority implementation mechanisms on a per PHY ba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S=L,H with PDP=PaS=0 for multiple IFS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S= fixed with PDP and PaS parameterization for active priority signalling (future PHY’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 and Station priority separation by CWmin parameter (MA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88960" y="1544760"/>
            <a:ext cx="4910040" cy="2387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5486400" y="1523880"/>
            <a:ext cx="43434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 prio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S=y; PDP = 0; PaS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S=H; PDP = 0; PaS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 Prio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S=y; PDP = x; PaS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S=L; PDP = 0; PaS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Priority mechanism sele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PHY standard should specify the three channel access parameters per priority level (DIFS, PDP, Pa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rrent PHY standards can select the multiple IFS approach if they have a problem with active signal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5.2 GHz PHY’s should select active priority signalling, to be compatible with a “priority based Etiquett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 state machine should include active priority signalling under parameter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allows acceptance of the generic mechanism while postponing or circomventing the PHY specific issue’s associated with active priority signa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