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164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82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-Rate support in the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C2918DF8-7C65-482C-966C-A1E6439F76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 Rate Support in the MAC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R. Valadas - University of Aveir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. Dobyns - Photonic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. Diepstraten - AT&amp;T G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. Brenner - LANN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llow rate switching, the transmitter should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upported rate of the local P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upported rate of the destination P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k quality, Power Saving, or other relevant condition if dynamic switching is used (implementation specifi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oks 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ine a "Supported_Rate" Element to be includ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"Association Request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"Association Respons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"Beacon" (usefull for the Ad Hoc netwo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/ Response Management frame to query the capabilities of a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oks requir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support rate negotiation, the following elements ar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Requested_Rate" in RT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dicates the rate that the sender wants to transmit th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Granted_Rate" in CT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 to "Requested_Rate" if supported and conditions allow, or BASIC_RATE if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is the NAV upda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9810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/CTS messages are send in BASIC_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NAV updat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tion for fragmented fr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(with CTS function) is transmitted at the BASIC_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ll Stations can understand the duration field in the data frame, but Physical CS will assure defe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dden station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98320" y="1676520"/>
            <a:ext cx="8393040" cy="47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TS function (Distribute duration around the receiver) is working f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TS function (Distribute duration around transmitter) has a potential prob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is not or incorrectly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will hear this transmission and do properly defer until DIFS after !CCA dr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anger is that the Ack gets jammed by those stations that are outof Rx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blem is basic to the MAC and unrelated to the rate switching (need DIFS&gt;2*SIFS+Ac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s been detected also in the DTBS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lso present when RTS/CTS is not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effect occurs when RTS or Data frame has CRC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ffect on CCA for different spee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s about the CCA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PHY’s use “Length” to aid in “End Delimiter detectio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” is encoded at the common PLCP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“Length” to control CCA indication, independent of the modulation used in the Payload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ggest to code the “Length” in “Time”(usec) rather then bits/oct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makes it bitrate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te Coding for future speeds can freely be defined in future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is Contention Free affect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s are not aff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-Ack to be transmitted at the BASIC_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oll Messages are sent in BASIC_RATE, and NAV operation of hidden stations (or stations not supporting the transmitted rate) is guaranteed by the stations setting their NAVs to the Maximum CF-Burst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umm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support Multiple Rate BSSs in a flexible way, we need to speci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Supported_Rate"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Association, Beacon and Mngt Request/Response PDU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Requested_Rate" element / Field (in 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Granted_Rate" element / Field (in 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a simple set of rules defined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adopt the recommendations in 94/164 as the basic hooks for the support of Multi rate support in the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hy Multiple R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gration Path to future higher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want to re-use the current spectrum for the future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/Range Trade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ing the best speed on all the area will be difficult or expensive to the customer. The user will prefer that some areas would be served with a different Quality of Service, rather than having "black spots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/Power Consumption Trade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 case: higher rates transmission consume more power, hence the AP may transmit in high rates, while the stations may choose lower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ssible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Rate for 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recommen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ecause it restricts ESS to use a single PHY. This limits migration to a complete new  network and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uld still have an ESS overlap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Rate for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ould require overlapping BSS’s on the different sp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AV will not work when BSS’s of different rates overl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is is not recommen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 Rat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a way to resolve the NAV update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the recommended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C Concerns to be analyz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74640" y="1752480"/>
            <a:ext cx="8393040" cy="43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rol Packets (Probes, Beacons, etc) must be heard by all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cast/Broadcast must be heard by all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es a station know which rate to use for transmi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 stations update their NAV for transactions in other sp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effect of frag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re hidden-stations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does CCA work for different speeds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are Contention Free Services 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hook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 /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SS_BASIC_RATE_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rates that all the stations on the given BSS are capable of receiv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ording to the PHYs definitions the default BSS BASIC RATE SETs for the different PHYs will b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DS: {1,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FH: {1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R:   {1,2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_BASIC_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value belonging to the BSS BASIC RATE SET, that is used by the station for its trans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 / definition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ED_RATE_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et of rates beyond the BASIC_RATE_SET that a station supports, this could in the future be {1,2 and future x Mbit/s} for any of the existing plus future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_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ate used for transmitting the PHY preamble, and PLCP heade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ransparent to the MAC, but must be the same for all stations in the B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assumption is already implemented on  all the current PHY propos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98320" y="1676520"/>
            <a:ext cx="83930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reamble and the PLCP Headers are transmitted always at the PLCP_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, PIFS, DIFS are the same for the whole 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the Control, Multicast and Broadcast Messages are sent at one of the STATION_BASIC_RAT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/CTS are sent at one of the STATION_BASIC_RAT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TS/CTS "duration" field is specified in time (usec). This is already in the 802.11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is the rate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ultiple approaches possi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to determine rate (Does not require interaction with the receiv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-only decision based on gathered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de on station characteristics (Power Save mo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ecide on link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otiate rate using the RTS/CT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quires Tx-Rx inte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mmend to allow both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cast Data Frames are sent on any rate as selected by the transm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lgorithm for selecting this rate is implementation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trivial algorithms c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y high, retransmit on lower (go back to high after T time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fixed tables for each pe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tive query using management Supported_Rate Request/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eep dynamic tables for each peer using a signal quality (or any other parameter) dependent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, obviously, transmit always in BASIC_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