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C9260257-3AF5-40DE-BAB9-BCF397E5FF6F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5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 29 - September 1,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n Antonio, Tex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August 29, 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4/99A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/8-1 S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n Antonio, T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git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ine Village, N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857160"/>
                <a:tab algn="l" pos="1600200"/>
                <a:tab algn="l" pos="3886200"/>
                <a:tab algn="l" pos="4857840"/>
                <a:tab algn="l" pos="5600520"/>
                <a:tab algn="l" pos="6686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ke Tah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n J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Bar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SE &amp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Tether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 Palm Bch, F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ma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t Lake City, 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ui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MAC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 prep of MAC draft text for Nov Letter Bal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2 draft review, clairification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maining open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T, Frame format details, multi rates etc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paramete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TB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PHY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ize Air Interface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it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ize LME and MAC/PHY SAP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ize CCA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990720"/>
            <a:ext cx="90676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|------------------|---------------|---------------|---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|     Monday       |    Tuesday    |   Wednesday   |    Thurs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|------------------|---------------|---------------|---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|     802.11       |PH!PH!PH!PH!MAC|PH!PH!PH!PH!MAC|PH!PH!PH!PH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|..................|DS!FH!IR!IR!   |DS!FH!IR!IR!   |DS!FH!IR!IR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|PH!PH!PH!PH!PH!MAC|  !  !CB!BB!   |  !  !CB!BB!   |  !  !CB!BB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|DS!FH!HS!IR!IR!MAC|  !  !  !  !   |..!..!..!..!   |..!..!..!..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|  !  !  !CB!BB!   |  !  !  !  !   |    PHY    !   |    PHY  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|------------------|---------------|---------------|---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|PH!PH!PH!PH!PH!MAC|PH!PH!PH!PH!MAC|     802.11    |     802.11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|DS!FH!HS!IR!IR!   |DS!FH!IR!IR!   |   MAC / PHY   |    Reports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|  !  !  !CB!BB!   |  !  !CB!BB!   |   Interface   |    Outputs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|  !  !  !  !  !   |  !  !  !  !   |...............|   Next mtng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|  !  !  !  !  !   |  !  !  !  !   |  PHY  !  MAC  |  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|------------------|---------------|---------------|---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MAC / PHY      | MAC / PHY     | MAC / PHY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Interface a-h  |  Interface a-h|  Interface a-h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-|---------------|---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August 29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ncouver meeting (subject to quorum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4/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lando meeting (subject to quorum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4/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August 29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simu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ncial report Oshawa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4/1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nt on updates of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Aug. 31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/PHY (interface)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ort from the ad-ho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Sept. 1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/PHY interface ad-ho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Sept. 1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Sept. 16 and Oct.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