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85920"/>
            <a:ext cx="9133200" cy="6091200"/>
            <a:chOff x="0" y="385920"/>
            <a:chExt cx="9133200" cy="6091200"/>
          </a:xfrm>
        </p:grpSpPr>
        <p:grpSp>
          <p:nvGrpSpPr>
            <p:cNvPr id="1" name=""/>
            <p:cNvGrpSpPr/>
            <p:nvPr/>
          </p:nvGrpSpPr>
          <p:grpSpPr>
            <a:xfrm>
              <a:off x="0" y="385920"/>
              <a:ext cx="965520" cy="449640"/>
              <a:chOff x="0" y="385920"/>
              <a:chExt cx="965520" cy="44964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385920"/>
                <a:ext cx="319320" cy="449640"/>
              </a:xfrm>
              <a:custGeom>
                <a:avLst/>
                <a:gdLst/>
                <a:ahLst/>
                <a:rect l="0" t="0" r="r" b="b"/>
                <a:pathLst>
                  <a:path w="887" h="1249">
                    <a:moveTo>
                      <a:pt x="0" y="0"/>
                    </a:moveTo>
                    <a:lnTo>
                      <a:pt x="887" y="0"/>
                    </a:lnTo>
                    <a:lnTo>
                      <a:pt x="728" y="1249"/>
                    </a:lnTo>
                    <a:lnTo>
                      <a:pt x="0" y="124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297000" y="385920"/>
                <a:ext cx="263880" cy="449640"/>
              </a:xfrm>
              <a:custGeom>
                <a:avLst/>
                <a:gdLst/>
                <a:ahLst/>
                <a:rect l="0" t="0" r="r" b="b"/>
                <a:pathLst>
                  <a:path w="733" h="1249">
                    <a:moveTo>
                      <a:pt x="151" y="0"/>
                    </a:moveTo>
                    <a:lnTo>
                      <a:pt x="0" y="1249"/>
                    </a:lnTo>
                    <a:lnTo>
                      <a:pt x="581" y="1249"/>
                    </a:lnTo>
                    <a:lnTo>
                      <a:pt x="733" y="0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34960" y="385920"/>
                <a:ext cx="219600" cy="449640"/>
              </a:xfrm>
              <a:custGeom>
                <a:avLst/>
                <a:gdLst/>
                <a:ahLst/>
                <a:rect l="0" t="0" r="r" b="b"/>
                <a:pathLst>
                  <a:path w="610" h="1249">
                    <a:moveTo>
                      <a:pt x="153" y="0"/>
                    </a:moveTo>
                    <a:lnTo>
                      <a:pt x="0" y="1249"/>
                    </a:lnTo>
                    <a:lnTo>
                      <a:pt x="458" y="1249"/>
                    </a:lnTo>
                    <a:lnTo>
                      <a:pt x="610" y="0"/>
                    </a:ln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5400" y="385920"/>
                <a:ext cx="162360" cy="449640"/>
              </a:xfrm>
              <a:custGeom>
                <a:avLst/>
                <a:gdLst/>
                <a:ahLst/>
                <a:rect l="0" t="0" r="r" b="b"/>
                <a:pathLst>
                  <a:path w="451" h="1249">
                    <a:moveTo>
                      <a:pt x="150" y="0"/>
                    </a:moveTo>
                    <a:lnTo>
                      <a:pt x="0" y="1249"/>
                    </a:lnTo>
                    <a:lnTo>
                      <a:pt x="300" y="1249"/>
                    </a:lnTo>
                    <a:lnTo>
                      <a:pt x="451" y="0"/>
                    </a:lnTo>
                    <a:lnTo>
                      <a:pt x="1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5720" y="385920"/>
                <a:ext cx="109800" cy="449640"/>
              </a:xfrm>
              <a:custGeom>
                <a:avLst/>
                <a:gdLst/>
                <a:ahLst/>
                <a:rect l="0" t="0" r="r" b="b"/>
                <a:pathLst>
                  <a:path w="305" h="1249">
                    <a:moveTo>
                      <a:pt x="143" y="0"/>
                    </a:moveTo>
                    <a:lnTo>
                      <a:pt x="0" y="1249"/>
                    </a:lnTo>
                    <a:lnTo>
                      <a:pt x="154" y="1249"/>
                    </a:lnTo>
                    <a:lnTo>
                      <a:pt x="305" y="0"/>
                    </a:lnTo>
                    <a:lnTo>
                      <a:pt x="1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38080" y="6167520"/>
              <a:ext cx="8295120" cy="309600"/>
              <a:chOff x="838080" y="6167520"/>
              <a:chExt cx="8295120" cy="309600"/>
            </a:xfrm>
          </p:grpSpPr>
          <p:sp>
            <p:nvSpPr>
              <p:cNvPr id="8" name=""/>
              <p:cNvSpPr/>
              <p:nvPr/>
            </p:nvSpPr>
            <p:spPr>
              <a:xfrm>
                <a:off x="838080" y="6402240"/>
                <a:ext cx="8295120" cy="74880"/>
              </a:xfrm>
              <a:custGeom>
                <a:avLst/>
                <a:gdLst/>
                <a:ahLst/>
                <a:rect l="0" t="0" r="r" b="b"/>
                <a:pathLst>
                  <a:path w="23042" h="208">
                    <a:moveTo>
                      <a:pt x="0" y="208"/>
                    </a:moveTo>
                    <a:lnTo>
                      <a:pt x="23042" y="208"/>
                    </a:lnTo>
                    <a:lnTo>
                      <a:pt x="23042" y="0"/>
                    </a:lnTo>
                    <a:lnTo>
                      <a:pt x="50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65080" y="6284880"/>
                <a:ext cx="8268120" cy="74880"/>
              </a:xfrm>
              <a:custGeom>
                <a:avLst/>
                <a:gdLst/>
                <a:ahLst/>
                <a:rect l="0" t="0" r="r" b="b"/>
                <a:pathLst>
                  <a:path w="22967" h="208">
                    <a:moveTo>
                      <a:pt x="0" y="208"/>
                    </a:moveTo>
                    <a:lnTo>
                      <a:pt x="22967" y="208"/>
                    </a:lnTo>
                    <a:lnTo>
                      <a:pt x="22967" y="0"/>
                    </a:lnTo>
                    <a:lnTo>
                      <a:pt x="50" y="0"/>
                    </a:lnTo>
                    <a:lnTo>
                      <a:pt x="0" y="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2080" y="6167520"/>
                <a:ext cx="8241120" cy="78120"/>
              </a:xfrm>
              <a:custGeom>
                <a:avLst/>
                <a:gdLst/>
                <a:ahLst/>
                <a:rect l="0" t="0" r="r" b="b"/>
                <a:pathLst>
                  <a:path w="22892" h="217">
                    <a:moveTo>
                      <a:pt x="0" y="217"/>
                    </a:moveTo>
                    <a:lnTo>
                      <a:pt x="22892" y="208"/>
                    </a:lnTo>
                    <a:lnTo>
                      <a:pt x="22892" y="0"/>
                    </a:lnTo>
                    <a:lnTo>
                      <a:pt x="50" y="0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" name=""/>
          <p:cNvSpPr txBox="1"/>
          <p:nvPr/>
        </p:nvSpPr>
        <p:spPr>
          <a:xfrm>
            <a:off x="90360" y="6485040"/>
            <a:ext cx="2211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c: IEEE 802.11 94/17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 txBox="1"/>
          <p:nvPr/>
        </p:nvSpPr>
        <p:spPr>
          <a:xfrm>
            <a:off x="4371840" y="6485040"/>
            <a:ext cx="399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2EBA3982-D8EE-4607-8BD0-398699CD152E}" type="datetime"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 txBox="1"/>
          <p:nvPr/>
        </p:nvSpPr>
        <p:spPr>
          <a:xfrm>
            <a:off x="8653320" y="6485040"/>
            <a:ext cx="399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7B43D68-F75B-4644-A662-AC5708034C67}" type="slidenum">
              <a:rPr b="0" lang="en-US" sz="14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RAME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 APPROACH BASED ON MINIMAL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rame Leng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790040" cy="303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243828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74880" y="1233360"/>
            <a:ext cx="626256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 significant change in frame l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arsing th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sistent for every fr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ple state machine o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ember that the frame might be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y need to back everything out if CRC b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ed ‘temporary’ storage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94/171 - Fixing the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HY Specific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me Stamp in Bea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moving Asynchronous Contention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Fragmentation Field only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LOAD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store ‘RETRY’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Emph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emphasis was on changing the functionality as littl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fer that to another paper (94/1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ts of history behind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n’t want to break something by acc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ok at each functionality change, one by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cus on field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How to PARSE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tter definition for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First By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sion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duce it to two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rovide two reserved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re are only 9 types currently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 not need the distinction for data, management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4 bi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cond By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The Control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o AP, From AP ( no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lements Present, More (no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wer Management Bits (no chan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tention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t gone yet, two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dundant, bu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ote to put back if CF g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twork ID, Sequence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Put NID here for consis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eded in nearly every fram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Sequence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SDU-ID is a poor choice of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Only need to have a “negligible” rate of packet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 count is easier and good 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was the HASH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219320"/>
            <a:ext cx="777240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uld go in any fr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eded for PHY specific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Microcells for D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ackward 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very frame is handled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Elements are handled con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ways in the sam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fer to flow chart for p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laced before any TYPE dependant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ny undefine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sion Field and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How does the version field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SION 1 devic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ject higher version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Backward 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Table driv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SION 1 device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Ignore Elements it doesn’t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It can PARSE them but ignor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ded only when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TYPE Dependant Fiel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uration there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Minor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eacon timestamp, now a fixe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7144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Is the CRC 8 really 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65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  <a:ea typeface="Book Antiqua"/>
              </a:rPr>
              <a:t>PHY work suggests CRC 16 OK for very short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C should standardize on one C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EEE 32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