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tember 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34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4/1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499080"/>
            <a:ext cx="1192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870360" y="649908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A9D85B8-4085-43D6-A8D9-221CBD01BA6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49908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812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Dat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44792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rns with Priority Assertion Signal Based D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rns with Priority Assertio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(PAS) has impacts on Clear Channel Asses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ference could be detected as a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reliable detection of the PAS could degrade the performance of the protoc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Impacts on C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(PAS) is not a complete frame. May be some or all of the radio prea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ion of PAS could be different than detection of normal frame (Radio Pream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ion of PAS should be reliable in presences of coll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of collision is higher for PAS than a normal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is required to detect both PAS and Radio Preamble at any point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 could collide with a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s  of Unreliable Detection of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 Detection of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uses station to unnecessarily defer until next contention window of given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could cause station to defer indefini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tected P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ld preempt or collide with higher priority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and Hidden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hidden station will not detect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S from the hidden station may collided with a frame or may cause the media to appear busy to a higher priority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4038480"/>
            <a:ext cx="7162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A transmi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 does not detect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 transmi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a later Priority Resolution 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uld collide with a frame from Station A or preempt Station A if it detects PA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0160" y="1447920"/>
            <a:ext cx="759780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reliable detection of PAS decreases performance of the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lear Channel Assessment algorithms have not been concerned with detecting a PAS. Reliability of CCA decreases in the presence of collision. Timing is very critic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of collision of the PAS is much higher than that of a normal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M Band is a high interferenc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 of the Priority Assertion Signal should be reliable in the presence of collision or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 of the Priority Assertion Signal must be defined in order to maximize reliable detection of the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 (co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based DTBS is more appropriate for low interference environments (licensed spectr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based DTBS should be opt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a STA is not required to implement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also means that a STA is not required to detect a Priority Assertion Signal PAS if it does not implement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