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1905120"/>
            <a:ext cx="7543800" cy="43434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90720" y="609480"/>
            <a:ext cx="7162920" cy="13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C/PHY Interface Ad-hoc Mee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rlando, F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n interim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a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 remainder of tonight’s 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3 - A pragmatic PHY proposal (Doby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7a - Proposed Changes for multi-rate PHYs (Brenn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3 - Text changes to MAC/PHY interface (Gei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32 - Elaborate CCA... (Zuckerm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9 -Strategic implications of IR PHY (Blomey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8a - Knobs... (O’Ha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Pragmatic PHY Proposal (94/16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lved that responsibility for the production of the Physical Layer Service Access Point definition rests exclusively with the MAC/PHY interface group of the 802.11 and Physical Layer Principles of Operation definition rests exclusively with the PHY subcommittee of 802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d: Barry, 2nd: Ed 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0-0 P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 Pragmatic PHY Proposal (94/16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olved that each PHY working group is directed to concentrate its efforts on the production of a unique PLCP in conformance with the standard Physical Layer Service Access Points definitions and Physical Layer Principles of Operation defin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d: Barry, 2nd: Paul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-12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609480"/>
            <a:ext cx="7162920" cy="13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posed Changes to the Draft Standard in Order to Support Multi-Rate PHYs (94/1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d: Adopt 94/157 as the foundation for the support of multiple rates and instruct the editors to create and include text using 94/157 as a reference without precluding rate shifts when RTS/CTS is not used in the MPDU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d: Mike, 2nd: Way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-16-9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609480"/>
            <a:ext cx="7162920" cy="13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xt Changes to the Draft Standard for Physical Layer Service Primitives (94/20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d: Adopt the text in 94/203 as replacement for the current PHY Layer service primit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d: Ed G., 2nd: Dean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 to postpone to MAC/PHY joint session Wednesday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d: Dave B, 2nd: Dave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3-3-1 P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