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304920"/>
            <a:ext cx="8839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477120"/>
            <a:ext cx="8839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36440" y="22320"/>
            <a:ext cx="984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ly 19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613560" y="22320"/>
            <a:ext cx="23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4/1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0480" y="6499080"/>
            <a:ext cx="1260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3870360" y="6499080"/>
            <a:ext cx="905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CB494037-EDF1-4DC4-8E62-4A6DE25F6A9B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6918480" y="6499080"/>
            <a:ext cx="194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ck White, Moto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Assertion Signal Impacts on 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ty Assertion Signal (PAS) is not a complete frame. May be some or all of the radio pream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ction of PAS could be different than detection of normal frame (Radio Pream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ction of PAS should be reliable in presences of coll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ability of collision is higher for PAS than a normal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CA is required to detect both PAS and Radio Preamble at any point i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AS could collide with a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s  of Unreliable Detection of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lse Detection of 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uses station to unnecessarily de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tected 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ld preempt or collide with higher priority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Assertion Signal and Hidden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hidden station will not detect the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AS from the hidden station may collided with a frame or may cause the media to appear busy to a higher priority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Assertion Signal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403848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A transmits PA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B does not detect PA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B transmits PA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a later Priority Resolution S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ould collide with a frame from Station A or preempt Station A if it detects PA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30160" y="1447920"/>
            <a:ext cx="75978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