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3480" y="6545160"/>
            <a:ext cx="2994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MAC Report  July 1994 doc 94/19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70760" y="6545160"/>
            <a:ext cx="954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vid Bag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July ‘94 MAC group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1905120"/>
            <a:ext cx="4572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895480"/>
            <a:ext cx="4572000" cy="144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18ffd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5105520"/>
            <a:ext cx="457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71800" y="3276720"/>
            <a:ext cx="2895480" cy="102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  <a:ea typeface="Arial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43200" y="518148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098960" y="210996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69960" y="4548240"/>
            <a:ext cx="788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r wondered why MAC is an abbreviation for Media Acce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indo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corporated into Fragmentation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 separate work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o/From bi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120 Mac fram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o/From bi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text for a more complete desc of the operation of the “to/from AP” bits be derived from 94/120 and included in the next revision of the dra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30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54, 1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98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&amp; Station por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the definition of the MAC and SMT portions of the MIB as described in 94/98a be adopted and placed in the draft standard and supersede the recommendation made in the closing plenary in May to use 94/98 as a work in progress for the framework for the MIB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25, 1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51, 1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ssu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pen issues in issues log section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ssue recs accepted as a group in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51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ssu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ssue 5.9: How to find 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c: alt 1 - listen then 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posed Text for 20b1, pg 2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i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  </a:t>
            </a:r>
            <a:r>
              <a:rPr b="1" i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or the details of how a station learns about what APs are present see section 7.1.3 on scan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9, 0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ssu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ssue 5.6: Association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c: al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posed Text for 20b1, pg 2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i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  </a:t>
            </a:r>
            <a:r>
              <a:rPr b="1" i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ssociation is always initiated by the mobile S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24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ssu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ssue 5.7, 5.8: explicit reassoc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c 5.7: alt 1, rec 5.8: al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posed text for 20b1, pg 2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i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  </a:t>
            </a:r>
            <a:r>
              <a:rPr b="1" i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association is always initiated by the mobile 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24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ssu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ssue 5.3b: what infra services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c: moot - covered by 5.3a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25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sc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pproval of Mar, May MAC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inutes of this mtg to show “approved as amende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port Pre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Volunteers to write up multi-rate concerns from MAC standpo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ike, W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e B will re-xmit previous email discussion ms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ssue 20.6: f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osed via plenary vote on 7/11/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it ord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1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it ord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at the M/P interface all information shall be in canonical bit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27, 1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mended in plenar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at the M/P interface all information shall be in the bit order specified in 802.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 on amended motion: 45, 4, 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it ord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the final frame formats adopted by 802.11 shall be an integral number of oct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 29, 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44, 2,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it ord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the changes within 94/155 section 2.1 be incorporated in the 802.11 draft and octets are transmitted in ascending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(2.1 says: each octet of the MAC frame, with the exception of the CRC, is transmitted low order bit first, which is bit 0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 26, 1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51, 2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T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isc of PaS implic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esire disc with phy group in joint M/P ses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vered in Joint M/P session on W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T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802.11 should adopt the priority based DCF proposal as documented in 94/1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6, 11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14-20-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July cut vs schedule discuss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uggestion: only async service for Nov, suspend work on non-asy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raw poll, 6, 15,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MAC group believes the MAC will be complete for November L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or Sept 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inal prep of MAC draft text for Nov Letter Bal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2 draft review, clairification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maining open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T, Frame format details, multi rates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 paramete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TBS (effort dependent on July plenary vo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group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’s all folk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olor information requ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the 802.11 chair is requested to investigate with 802 the possibility that the 802.11 standard could include some color printing and report th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unan voice 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y recommendation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dopted by plenary 7/10/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ho is providing the text for the decisions to the ed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clude Fragmentation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ick after frag discu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SDU = 2k+ o’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J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PDU sunny / rainy speced by each 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ick for general text - ask phys in plenary who will provide these nums for each phy to the edi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y recommendation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urrent MPDU MIB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b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efault for current  = s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b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urrent MPDU = MAC MIB 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b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PDU fl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b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e TB = DT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Kerry / Wim / Tim for DTBS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moval of old TB to be done by edi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y recommendation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hen due to editor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&lt; 7/29/94 to editors, target is second mai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end to all the editors (Bob O, Greg E, Kerry L, Jim 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rag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1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rag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the fragmentation mechanism described in document 94/147 be adopted as the basis for fragmentation mechanism incorporation in the next draft re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32, 1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49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ragment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the “active max mpdu size” shall be a managed object per sta rather than per BSS as previously dec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9, 1,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51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