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746280" y="-1440"/>
            <a:ext cx="1798560" cy="33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ptember, 19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994440" y="6551640"/>
            <a:ext cx="1380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. McDona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53080"/>
            <a:ext cx="8839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93640" y="6551640"/>
            <a:ext cx="1335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794040" y="6551640"/>
            <a:ext cx="9525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E938709A-DC15-4894-BD9F-F13B1C021288}" type="slidenum"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715000" y="0"/>
            <a:ext cx="2743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 94/2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137160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al for Transmitter Splatter Specification for the 2.4 GHz Frequency Hop 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3505320"/>
            <a:ext cx="716292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5257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ed for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 of channel radiation from a transmitter in the 2.4 GHz band has the potential to interferewith the reception of another signal by a receiver operating on a different frequency in th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T specification provides a reference for this type of consi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ed for Specification,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synchronousaspect of data communications provides more opportunitiesfor near-far scenarios that have the potential for inter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us, it is proposed that the 2.4 GHz Phy Splatter specification be more aggressive than the DECT specification. What is proposed is illustratedon the next slid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0240" y="1130400"/>
            <a:ext cx="8115480" cy="4876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609480"/>
            <a:ext cx="7086600" cy="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762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43000" y="2133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48120" y="2514600"/>
            <a:ext cx="76176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2514600"/>
            <a:ext cx="44960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48120" y="2895480"/>
            <a:ext cx="761760" cy="381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895480"/>
            <a:ext cx="4572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98560" y="1119240"/>
            <a:ext cx="2979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802.11 FH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057400"/>
            <a:ext cx="60984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676520"/>
            <a:ext cx="60984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752480"/>
            <a:ext cx="1447920" cy="2362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ient Spl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ent splatter is the out of channel emissions that exist during the ramp up or ramp down peri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ient splatter puts only a few bits at risk in terms of potential interference, whereas, static splatter exist for the entire length of a packet transmission, which may be thousands of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ient Splatter, cont’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standpoint of probabilityof packet error rate, one could tolerate a BER of several orders of magnitudehigher during the ramp transient period than during the static peri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proposed, therefore, that the dynamic splatter specification be 10 dB less than the static splatter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st spec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d in a 1 M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d while on a fixed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d in static mode with random data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sured during ramp periods with ramp modulation. This is a peak reading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