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2484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presentation August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6001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ev 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4327560" y="6545160"/>
            <a:ext cx="960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4/21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5622840" y="6545160"/>
            <a:ext cx="6634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A9293FA8-1376-41A2-9A50-30A3964450F1}" type="slidenum"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802.11 Frame Bod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id Ba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'Hara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ick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Roberts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rk Dem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MD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AMD Place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50 East Commerce D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nnyvale, CA 94088-3453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chaumburg, IL 601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Jon Rosdah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v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22 East 1700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/s C-22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vo, UT  84606-61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CK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contains all need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F-ACK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contains all need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OLL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SP and POLL are both used as names for the same frame in B2; editors please clean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eac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4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eaco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1 oc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TIM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 , 1 oc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inu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eac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TIM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hannel sync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ferenced in B2, but not fully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op sequence, where in sequenc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SS 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x size of 128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inue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eac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roadcast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TIM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contains all need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e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quest / Response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e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ame as beacon w/o TIM and Broadcast indi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ime 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4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ac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1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TIM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 , 1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inued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obe contents (respon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TIM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2 4.3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nnel sync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ferenced in B2, but not fully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Hop sequence, where in sequence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SS 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variable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ax size of 128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802.11 frame inform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pecifies information required for each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el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ngth of info if fix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es not specify how the information items are encoded with in th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parate proposals will cover encoding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soci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quest / Response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 Algorithm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length determined by  802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value = current privacy algorithm in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soci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u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Not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Successful,  follow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pecific error codes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, follow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B2 4.3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tem not included in msg in B2, required after Association as the SID is the index into a 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eassoci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quest / Response 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urrent A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6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 Algorithm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Length determined by 802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value = current privacy algorithm in 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eassoci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u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Not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Successful,  follow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pecific error codes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, follow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B2 4.3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tem not included in msg in B2, required after Association as the SID is the index into a T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sassoci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needed information in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sg from STA to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'm disassociat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A = STA disassoci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 = old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sg from AP to 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you're being disassocia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A = old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 = STA being dis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ivac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1 oc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: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ivac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pported algorithm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uctur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Number of algs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Privacy Algorithm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field for each alg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rivacy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u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Not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Successful,  follow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pecific error codes TB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, follow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 Algorithm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Privacy algorithm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thentic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xed length, 1 oc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: 1, 2, 3, 4, 5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is started by S1, to S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l for STA to 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infrastructure S1 = STA, S2 =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hallenge response information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ion alg dependent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tained in authentication transaction ms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thentication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 (by, 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y challenging STA, of STA being challeng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Len fixed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rest = alg dependent challeng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_Response (by,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y STA that was challenged, to STA issued challe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Len fixed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rest = alg dependent respons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_Result (from,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om STA challenging STA, to responding 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Len fixed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rest = alg dependent result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thentic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pported algorithm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riable length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ucture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Number of algs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uthentication Algorithm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one field for each alg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thentic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u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ol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Not 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Successful,  follow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ind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one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pecific error codes TB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thentic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Transaction 2 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ccessful, follow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dentity assertion by 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not in frame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contained implicitly in msg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A = 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ion Algorithm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fixed length, 2 oct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uthentication  algorithm sel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determines how contents of subsequent frames parsed for rest of this authentication transaction sequ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thentic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 ( by S1, of S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dentify assertion by 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mplicitly in msg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SA = 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_Response ( from S2, to S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 ( by S2, of S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thenticati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5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_Result ( from S1, to S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_Response ( from S1, to S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ransaction sequence = 6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llenge_Result( from S2, to S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o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 the information contents of frames as described in 94/214a be adopted and that the draft be updated to reflect th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Sub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ynchronous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-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Subty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a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T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information cont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ata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synchronou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S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F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S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F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S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RTS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contains all need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TS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eader contains all need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