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268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August 1994 doc 94/224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ust ‘94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51055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51814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69960" y="4548240"/>
            <a:ext cx="6497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: an abbreviation for Media Acce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frame form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e 94/2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36 has 9 authors and more contributors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dentified what was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dentified deltas from B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solved differ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reated common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236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eader Ctrl field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parated CF fr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ded a type for CF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Allowed enough bits for all ctrl info bits in all frames in one oct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frame types (except C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B2 Ctrl bits pres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fr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B2 Ctrl Bits, bu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ack, CF poll functionality to be detailed by mike f, wim d, tim 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maybe a bit, subtype(s) or com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Probably one bit will 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tra” Reserved bi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ly enough to pad required octets, not ex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236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PDU-ID &amp; BSS-ID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ed MPDU-ID &amp; BSS-ID changes from 2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PDU-ID -&gt; (sa, seq #) &amp; directed ctrl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SS ID -&gt; unique address &amp; ESS-ID -&gt; fewer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ue Diligence / comfort commit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terested parties will work thru corner cases before N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vening vote:15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236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ype, subtype, req/resp grou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roup deci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e 6 bi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ry to make 2 groups if possi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code space to tight for separate fields would try to pack from ends to middle of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t fit nice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quest / response moved into subtyp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ivacy trans (2) -&gt; req/resp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oll -&gt; ctrl type from m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ed msg contents from 2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236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ncod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ork will continue in light of frame format progress made during mt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thdrawn from agenda with consent of auth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4/215, 215a: Encoding of MAC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4/228: Shorter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236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 20.3: Fram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That issue 20.3 be closed and updated to reflect the frame format decisions reported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f doc 94/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6 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9, 0,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RC 3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31: Error control in mac frame for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quested change adopted before paper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all frames use a common CRC as defined 94/230 &amp; 213 (with the extra paren in section 2 removed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1 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3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ost 236 adoption minor chang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hift table 4-1 so req/resp are even/odd for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2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hange name of VIA to BSS-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Formats (Additional Msg conten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1, 171a: PHY Dependant Elements for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dded Phy dependent elements from 17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/ change of geographic location -&gt; regulatory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2, 4 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8, 1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ke Fragmentation field a “present when needed” fie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5, 11, 4  -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Formats (misc issu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8: How Long Is Long Enough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eld already 2 octets by the time the paper came up on the agen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9: Making Ha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de moot by frame decisions, no more h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pproval of MAC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 - u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weeks minutes to be compiled by Chris, Jon and sent to Vic for mai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ower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2: The SPM (Simple Power Managemen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motions made after straw poll by auth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64: Required MAC functions to support MultiRate PH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formal motion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bject was in Wed Joint M/P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2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85: Inconsistencies &amp; Omissions in 94/20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F capable vs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d CF capable indication to Assoc &amp; Reassoc ms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d CF mgt msg to put CF capable a station on/off poll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7, 0, 3 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0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striction of numbers of STA per BSS due to encodings of TIM / el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Encoding combination of TIMs &amp; elements limits STAs/BSS - remove accidental lim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tion: Mike F to submit proposed detai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ny editorial corrections referred to edi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2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09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CF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paper avail at presentation time, will be in mail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discu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2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29: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2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eacon interval referenced to TSF timer, timer in mod(n*beacon interval). TS range = 0 - (n * beacon interv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m to provide detailed language propo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2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066680"/>
            <a:ext cx="7162920" cy="49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Chairman and Editors thank the people who took the time to read and comment on B2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such review is anticip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ase categorize review comments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ruely editorial that the editors can fix w/o group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ctual Confli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: Section A says X=5 while B says X=12, which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nor functionality question 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: CF capable vs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ference all comments to proposed B3 draft section #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ch progres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680" y="11430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6: Concerns with Priority Assertion Signal based D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ion: None made. Paper informative of probl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50d: DTBS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ted dicsu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96: Issues impacted by DTBS propo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be input to Nov Issue log clea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rom July 94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ep of MAC draft text before Nov Lette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gnificant work done, revisions will be in B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echanisms adop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ing major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rame formats, RT, multi rat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cussed, decisions in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MAC parameter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completed, will work on before nove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not all Phys will be required to support the optional MAC DTBS functionality. Each Phy will specify if it supports this or not as part of it’s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4, 5, 1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5, 10, 6 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ere shall be only one mechanism to support DTBS within each p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5, 2, 1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6, 2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ere shall only be one common MAC mechanism to support DTBS across all PH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5, 9, 5 - fai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MAC provide only DTBS Mechanism of Paramiterized  Active / passive, per phy, as described in 94/150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7, 6, 2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14, 6, 14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T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tion: Wim to bring detailed text to reflect these motions to Nov (for monday), for review by MA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greed by Wim and MAC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ushed Off schedu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/P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4/168: 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/PHY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author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Everyon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should  </a:t>
            </a:r>
            <a:r>
              <a:rPr b="1" i="1" lang="en-US" sz="2400" spc="-1" strike="noStrike" u="sng">
                <a:solidFill>
                  <a:srgbClr val="f95ab7"/>
                </a:solidFill>
                <a:uFillTx/>
                <a:latin typeface="Arial"/>
                <a:ea typeface="Arial"/>
              </a:rPr>
              <a:t>** READ **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B3 draft </a:t>
            </a:r>
            <a:r>
              <a:rPr b="1" lang="en-US" sz="2400" spc="-1" strike="noStrike" u="sng">
                <a:solidFill>
                  <a:srgbClr val="f95ab7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the November mee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settled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red Equivalent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s log clean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TBS decisions affects lots of iss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ncoding propo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ork going on between mtgs, anticipating a consensus recommendation next mee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n November, plan on (minor) draft tweaking before (internal) 802.11 lette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ecutive Cmtee At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lk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apers Discu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July 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180: Doing Without 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text from 180 as amen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age of MPDU, MSDU corrected, no default valu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tual final text in MAC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9, 0, 5  - </a:t>
            </a:r>
            <a:r>
              <a:rPr b="1" lang="en-US" sz="1800" spc="-1" strike="noStrike">
                <a:solidFill>
                  <a:srgbClr val="00ae00"/>
                </a:solidFill>
                <a:latin typeface="Arial"/>
                <a:ea typeface="Arial"/>
              </a:rPr>
              <a:t>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0, 0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4/181: Standard Random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ackoff random 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motion made - Author withdrew based on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me Formats (format / functional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170, 170a: Frame format for the MAC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30: Fram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4/213, 213a, 214a: MAC frame forma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iscussion resulted in eve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ormat priorities straw pol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rrect functionality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fficiency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everal kinds of effici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iform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yte / bit counts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