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1447920"/>
            <a:ext cx="8229600" cy="0"/>
          </a:xfrm>
          <a:prstGeom prst="line">
            <a:avLst/>
          </a:prstGeom>
          <a:ln w="255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152280"/>
            <a:ext cx="8229600" cy="655308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533520" y="30492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torial on procedures for handling draft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219320" y="28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c Hayes, chair IEEE P802.1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&amp;T Global Information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till Nov. 199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940040"/>
            <a:ext cx="777240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irst b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9148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irst ballo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1854360"/>
            <a:ext cx="77630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aper is a tutorial on the procedure to follow for developing the 802.11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paper also contains the time schedule for getting to the first ballot and the schedule for the first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uthoritative document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 Operating Rules for IEEE Project 80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ences below are from this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become available on the FTP servers (oprls91.do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EEE Standards, 1994 Operations Man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obtained from Rona Kershner, fax +1 908 562 3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towards WG b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draft for first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1: “The function of the Working Group is to produce a draft standard, recommended practice or guidel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out for first ballot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on at November 1994 plenary meeting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bmit draft 1 to the Executive committee for ballot by the Sponsor Ballot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towards Sponsor ball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negative votes and prepare next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sult was affirmative: send new draft to ExCom for Sponsor Balloting Group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sult was not affirmative: send new draft out for confirmation ballot within W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 towards IEEE Standards Board 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negative votes and prepare next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sult was affirmative: send new draft to ExCom for submission to the IEEE Standards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result was not affirmative: send new draft out for confirmation ballot within Sponsor Balloting Group ballo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rules at WG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60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50 % return of ballots from voting members to make ballot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ting members have an obligation to vo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3.3: “Membership may be lost if two of the last three Working Group letter ballots are not returned or returned with an abstention other than "lack of technical expertise"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2.2: “The ballot shall contain three cho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ve. (May attach non-binding commen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ve.  (Must attach specific comments on what must be done to the draft to change the vote to "Approve"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.  (Must include reasons for abstention.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45720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rules at WG level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75 % approval by those voting to pass the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 is to reach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Approve” votes of observers will also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Working Group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negative v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2.2: “ Submission of a draft standard or a revised standard to the Executive Committee must be accompanied by any outstanding negative votes and a statement of why these unresolved negative votes could not be resolv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Sponsor ballot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5238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75 % return to make ballot 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fore actual ballot the sponsor ballot group will be assembled by inviting those that have shown interest in Sponsor Balloting Group for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se that accept the invitation have committed to v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75 % approval by those voting to pass the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jected “Do Not Approve” votes have to be presented to voter with reasons for rebuttal and a request to change vote into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4572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les for sending proposal to IEEE Standards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7524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sal has to con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llot summary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ies of all unresolved negative votes, together with the reasons given by the negative voters and the rebuttals by the spon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of of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