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52280"/>
            <a:ext cx="8915400" cy="640080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990720" y="762120"/>
            <a:ext cx="7162560" cy="0"/>
          </a:xfrm>
          <a:prstGeom prst="line">
            <a:avLst/>
          </a:prstGeom>
          <a:ln w="25560">
            <a:solidFill>
              <a:srgbClr val="618f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7908840" y="6080040"/>
            <a:ext cx="523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fld id="{9099591B-3390-4A25-A34E-74ACA4EEBAA8}" type="slidenum"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838080" y="457200"/>
            <a:ext cx="731520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26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th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Session of meetings of</a:t>
            </a:r>
            <a:br>
              <a:rPr sz="36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EEE P802.11</a:t>
            </a:r>
            <a:br>
              <a:rPr sz="18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Wireless Local Area Networks</a:t>
            </a:r>
            <a:br>
              <a:rPr sz="3600"/>
            </a:br>
            <a:br>
              <a:rPr sz="1800"/>
            </a:br>
            <a:r>
              <a:rPr b="1" lang="en-US" sz="6600" spc="-1" strike="noStrike">
                <a:solidFill>
                  <a:srgbClr val="000000"/>
                </a:solidFill>
                <a:latin typeface="Arial"/>
                <a:ea typeface="Arial"/>
              </a:rPr>
              <a:t>Tentative Agend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2971800"/>
            <a:ext cx="8381880" cy="32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ubject to changes by committ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ovember 7-11, 199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cline Village, N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session starts on Monday, November 7, 16:30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r half an hour after adjournment of the 802 plena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990720" y="304920"/>
            <a:ext cx="7162920" cy="9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hursday PM, November 10 , 199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6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xt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* Objectives for next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* Mailing Dates: November 18 and Decembe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6.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uture Meet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6.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ther Intermediate Meetings requir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7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ew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8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osur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5:00 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entative Meeting Schedu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80880" y="91440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ate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onth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Year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lace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yp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ocation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ost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7-1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v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cline Village, NV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yatt Regency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857160"/>
                <a:tab algn="l" pos="1600200"/>
                <a:tab algn="l" pos="3886200"/>
                <a:tab algn="l" pos="4857840"/>
                <a:tab algn="l" pos="5600520"/>
                <a:tab algn="l" pos="66866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ake Taho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9-1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a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n Jos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Bar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iSE &amp;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Tetherl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6-1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est Palm Bch, F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amad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8-1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ta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pe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v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-1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ul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ui, H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yatt Regenc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p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pe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6-1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v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ntreal, PQ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Queen Elizabeth Hot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1-1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rc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 Joll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yatt Reg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8-1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ul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etherland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1-1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v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ancouver  B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tel Vancouv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BJECTIVES MAC Gro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000160" indent="-34308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543120"/>
                <a:tab algn="l" pos="42861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Everyon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hould 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** READ **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B3 draft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befor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he November mee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nsettled su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34308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  <a:tabLst>
                <a:tab algn="l" pos="0"/>
                <a:tab algn="l" pos="399960"/>
                <a:tab algn="l" pos="857160"/>
                <a:tab algn="l" pos="4400640"/>
                <a:tab algn="l" pos="514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ired Equivalent Secu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ssues log clean 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34308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  <a:tabLst>
                <a:tab algn="l" pos="0"/>
                <a:tab algn="l" pos="399960"/>
                <a:tab algn="l" pos="857160"/>
                <a:tab algn="l" pos="4400640"/>
                <a:tab algn="l" pos="514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TBS decisions affects lots of issu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ncoding propo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34308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  <a:tabLst>
                <a:tab algn="l" pos="0"/>
                <a:tab algn="l" pos="399960"/>
                <a:tab algn="l" pos="857160"/>
                <a:tab algn="l" pos="4400640"/>
                <a:tab algn="l" pos="514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ork going on between mtgs, anticipating a consensus recommendation next meet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 November, plan on (minor) draft tweaking before (internal) 802.11 letter ballo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BJECTIVES PHY Gro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ose all open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solve specifications and text requirements for the draft specifications of the letter ball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Rough graphic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76320" y="990720"/>
            <a:ext cx="883908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-----|---------------|------------|------------|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   Monday    |    Tuesday    |  Wednesday |   Thursday |Friday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-----|---------------|------------|------------|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Exec. ! 802.11|PH!PH!PH!PH!MAC|PH!PH!PH!MAC|PH!PH!PH!MAC|802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AM | Comm ! PHY   |DS!FH!IR!HS!   |DS!FH!IR!   |DS!FH!IR!   |Plen-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     !       |  !  !  !  !   |  !  !  !   |........!   |   ary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     !       |  !  !  !  !   |  !  !  !   |  PHY   !   |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-----|---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802   !      | PH! PH! PH!MAC|Full 802.11 |Full 802.11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Plenary!      | DS! FH! IR!   |  MAC / PHY |   Reports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PM |       !      |   !   !   !   |  Interface |   Outputs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..............|   !   !   !   |............|  Next mtng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 Full 802.11 |   !   !   !   | PHY ! MAC  |       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-----|---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Eve-| MAC / PHY    | MAC / PHY     |Social      |   Exec.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ning| Interface a-h|  Interface a-h|     Event  |     Comm.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-----|---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Legend:   ......... = flexible adjournment/St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onday PM, November 7, 199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533520" y="91440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en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4:30 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r half an hour after plenary ad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ecret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oll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oting righ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ttendance list, Regist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ogistics (breaks, lunch, copying, document distribu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ther announc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pproval of the minutes of previous mee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ancouver meet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1-94/8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rlando meeti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1-94/2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an Antonio meeti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1-94/2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tters arising from the min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onday PM, November 7 , 199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Executive Committ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edi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simul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letter ball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shawa meeting fina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6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an Antonio meeting financ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4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view of contribution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5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doption of the Agend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1-94/24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onday PM, November 7 , 199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6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nfinished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6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ents on draft stand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7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ew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8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djourn for sub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e Rough graphic outline for subgroup m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990720" y="304920"/>
            <a:ext cx="7162920" cy="9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Wednesday PM, November 9, 199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9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en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:00 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oll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ocument list up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34308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4400640"/>
                <a:tab algn="l" pos="514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gnetic version pleas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genda adjust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.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nounc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0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C/PHY (interface)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port from the ad-hoc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1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HY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2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C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3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djou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e Rough graphic outline for subgroup m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990720" y="304920"/>
            <a:ext cx="7162920" cy="9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hursday PM, November 10, 199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4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en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:00 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4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nounc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4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ocument list up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4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genda adjust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5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5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C/PHY interface ad-hoc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5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C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5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HY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6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nfinished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6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cap of output docu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allot on Draft Stand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6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cap of document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