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43040" y="838080"/>
            <a:ext cx="8337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305840" y="455760"/>
            <a:ext cx="2149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EEE P802.11-94/2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019320" y="411120"/>
            <a:ext cx="382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lti-Rate support in the 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43040" y="1600200"/>
            <a:ext cx="840096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366040" y="884160"/>
            <a:ext cx="73512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CF2DC50F-9870-4839-886F-BE3E104DEF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81040" y="531720"/>
            <a:ext cx="7826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: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. Diepstraten   - AT&amp;T WC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chael Fischer - Digital Oc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25146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ulti Rate Support in the MAC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Level-2 Hooks requir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a "Supported_Rate" MIB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lude “Supported_Rate” field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"Association Request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indicates the Rate capabilities of the reque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"Association Respons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indicates the Rate capabilities of the respon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Management Type Request and response Frames to query the capabilities of the dest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cates the Rate capabilities of the requester, and requests a response indicating the remote Rate capabil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“Supported_Rate” indicates all speeds that the sender is able to rece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How is the NAV upda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50960" y="1676520"/>
            <a:ext cx="8393040" cy="45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TS / CTS / Ack frames are send in BASIC_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NAV update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tuation for fragmented fr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k (with CTS function) is transmitted at the BASIC_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 all Stations can understand the duration field in the data frame (indicating the NAV update for the next fragment), but Physical CS will assure def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returning Ack can suffer from the “Hidden Station”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problem is unrelated to the mixed rate situation, and basic to the MAC  (need type specific DIFS specific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s been detected also in the DTBS propos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also present when RTS/CTS is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me effect occurs when RTS or Data frame has CRC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 is provided in a separate sub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Effect on CCA for different spee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ptions about the CCA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rrent PHY’s use “Length” to aid in “End Delimiter detection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ngth” and “Rate” are encoded at the common PLCP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“Length” (and “Rate”) to control CCA indication, independent of the modulation used in the Payload a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ggest to code the “Length” and “Rate” in a way that current stations can interprete (future) extended rate headers to determine the “CCA Duration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ferably this specification should be bitrate indepen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 example could be to specify “Length” in terms of the PLCP header symbol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IPR situ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50960" y="1676520"/>
            <a:ext cx="8393040" cy="46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bility of the ‘236 pa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vel 1 provisions are definitial and unrelated to the coverage of the cited pa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te Negotiation has been deleted, because it was sufficiently close to the subject ma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te Capability” knowledge distribution is changed such that coverage is avoi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change of Rate Capability information between multiple peer MAC entities needs to be avoi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Infrastructure the “Rate Capability” exchange is between a station and the Distribution Services above the MA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ad-Hoc the “Rate Capability” distribution is to be done above the MAC by mechanisms that can access the “Rate Capability” MIB vari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 is that described method does avoid the mechanism as described in the ‘236 pa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50960" y="1676520"/>
            <a:ext cx="83930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support Multiple Rate ESSs in a flexible way, we need to specif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evel-1 defin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evel-1 basic r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allow distribution of the “Supported Rate” capabil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“Supported_Rate” MIB vari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"Supported_Rate" element / field in (Re-)Association request and respon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"Supported_Rate" element / field in a Probe Request / Response Management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o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adopt the recommendations in 94/247b as the basic mechanisms for the support of Multi rate Phy’s in the MAC and change section 9.1.4.17, section 9.1.3.2, and section 9.1.2 to replace BSS by 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sses 41/12/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ultirate stat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 94/164 did analyze the MAC Multi rate issue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alyzed the configuration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ed to support mixed bitrate per B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alyzed interoperability issue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Broadcast / Multicast must be at common r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alyzed coexistance issue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Control frames must be at common r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s proper NAV updates in whole B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 94/164 further proposed definitions and mech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 94/234 did identify a patent infringement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ultirate support leve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50960" y="1676520"/>
            <a:ext cx="8393040" cy="45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 94/164 provisions can be subdivided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ition of the Basic_Rate_Set and the rules that assure coexistence and interoperability in a mixed bitrate enviro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isions to gather / distribute "Rate Capability"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te negotiation per frame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vel 1 is the minimum support level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vel 2 is desir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vel 3 appears to be sufficient close to the patented subject matter that the mechanism has been dele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Level-1 Basic Defin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S_BASIC_RATE_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et of rates that all the stations on the given ESS are capable of receiv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cording to the PHYs definitions the default ESS_BASIC_RATE_SETs for the different PHYs will b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DS: {1 Mbps, 2 Mbps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FH: {1 Mbps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IR:  {1 Mbps, 2 Mbps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_BASIC_R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value belonging to the ESS_BASIC_RATE_SET, that is used by the station for its transmis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Level-1 Basic Definitions (cont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TENDED_RATE_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et of rates beyond the ESS_BASIC_RATE_SET that a station supports, this could in the future be {1,2 and future x Mbit/s} for any of the existing plus future PH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 for the current FH this would be {1 Mbps and 2 Mbps}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CP_R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rate used for transmitting the PHY preamble, and PLCP hea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transparent to the MAC, but must be the same for all stations in the 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assumption is already implemented on  all the current PHY propos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Level-1 Basic ru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50960" y="175248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eamble and the PLCP Headers are always transmitted at the PLCP_R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FS specifications are station bitrate independent and specified per Phy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the Multicast and Broadcast Messages are sent at one of the STATION_BASIC_RATE set spe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Control frames (RTS / CTS / Ack etc.) are sent at one of the STATION_BASIC_RATE set spee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Duration" field is specified in time (usec). This is already in the 802.11 Dra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unicast data frames can be sent on any available Tx-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How is the rate selec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ultiple approaches possi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mitter to determine rate (Does not require interaction with the receiv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x-only decision based on gathered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de on station characteristics (Power Save mod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decide on link cond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cast Data Frames are sent on any rate as selected by the transmi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algorithm for selecting this rate is implementation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me trivial algorithms could 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y high, retransmit on lower (go back to high after T time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eep fixed tables for each pe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ctive query using management Supported_Rate Request/Respon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eep dynamic tables for each peer using a signal quality (or any other parameter) dependent algorith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, obviously, transmit always in BASIC_R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What is nee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allow rate switching, the transmitter should kn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upported Rates of the local P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upported Rates of the destination P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nk quality, Power Saving, or other relevant condition if dynamic switching is used (implementation specifi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