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2295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Presentation Nov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461280" y="6545160"/>
            <a:ext cx="1363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4/248  rev 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327560" y="6545160"/>
            <a:ext cx="663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9BF1D30B-AD6E-4900-9BA5-04CDD77580A4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10666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xtending B3 frame formats to include WDS suppo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228600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vision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id Ba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’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Rob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dvanced Micro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One AMD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nnyvale CA, 940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3 not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3 uses the following conce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A = sourc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 = Destinatio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VIA = the address of the (single) AP which is a member of a specific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name was changed to BSSID during the August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 bit”: indicates if a frame was “to”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om bit”: indicates if a frame was “from”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e connectivity categori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frastructur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dependent BSS (“Ad-Hoc”)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reless DS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xed terminology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1: STA to STA, via DS; fir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tering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DS via 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2: STA to STA via DS; la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xiting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DS via 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3: STA to AP; frame destined f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3 destined to A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4: AP to STA; frame originated by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AP3 destined to 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dependent BSS (“Ad-Hoc”)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5: STA to STA di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ample: Frame originated by S4 destined for S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: AP to AP, distributing (a case 1 or 2 frame) via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sam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(i.e. in-band) wireless medium as that used for either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first OR las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terminology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verlapping”, “within”, “when a member of”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re later, after we have examined the concepts that are being intermix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eparate overloaded conce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alysis of case 6 points out that we are still mixing concepts and overloading different concepts onto address fie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chitectural “transit point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riginato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rminato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mitte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eiver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chitectural “transit point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term “source” has been used to refer to both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riginato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nd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mitte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term “destination” has been used to refer to both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stination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nd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eiver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of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fusion occurs because we do not always mean the same thing by “source” and “destination” in all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probably because our brains have been constrained by thinking about networks with zero levels of in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802.11 architecture is a 1 indirection level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chitectural “transit points”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the Ad-hoc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riginator = Transmitter = “sour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rminator  = Receiver = “destin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frastructure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VIA concept in B3, is a recognition that in transiting an ESS, “receiver” does NOT always equal “terminato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6, also points out that if you have a WDS, “originator” does not always equal “transmitter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leads one to introduce the concept of “RA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ummary of proposed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unctiona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nectivity comb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erform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eader l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uplicate detection / Mis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fil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presentation will comment on each of these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name these different addres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et [ variable ] == the value of “variable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SA] = Maddr (of the STA which originated the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consistent with the term SA as used in other 802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DA] = Maddr (of the STA which is the final destination of the fra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consistent with the term DA as used in other 802 stand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RA] = Maddr (of the STA which is intended to receive the frame off the 802.11 wireless med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[TA] = Maddr (of the STA which placed the frame onto the 802.11 wireless med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direction wrt 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802.11 has also found it necessary to specify the direction of a frame with respect to the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done by bits in the FC field of the frame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 bit” == Frame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ter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he DS from the wireless medium via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om bit” == Frame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xit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he DS via an AP onto the wireless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direction wrt 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truth table for these bit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FROM  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lse   False    “Direct, not via a 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lse   True      “Frame outbound from 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ue     False    “Frame inbound to D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ue     True     “Frame wirelessly distribu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oncept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o / from an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P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oncept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is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o / from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S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should correct the names of the b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 AP” is changed to “To 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om AP” is changed to “From 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209680"/>
            <a:ext cx="6705720" cy="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1828800"/>
            <a:ext cx="0" cy="205740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1828800"/>
            <a:ext cx="0" cy="2057400"/>
          </a:xfrm>
          <a:prstGeom prst="line">
            <a:avLst/>
          </a:prstGeom>
          <a:ln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0720" y="68580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nsider cases concepts separated out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18288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efore optimizing the addressing needed for each case, we must clearly understand which address is needed for each case and wh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: A claim that four addresses are needed in every message is </a:t>
            </a:r>
            <a:r>
              <a:rPr b="1" i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going to be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dependent BSS (“Ad-Hoc”)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5: STA to STA dir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originated by S4 destined for S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S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1: STA to STA, via DS; fir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ter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S via A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inbound to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2: STA to STA via DS; las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xiting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S via A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A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outbound from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3: STA to AP; frame destined fo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3 destined to A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, it is destined to the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4: AP to STA; frame originated by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AP3 destined to S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, it originated at the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uidance from August 94 meet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t functionality correct as highest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fficiency improvements follow functionality in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ing this guideline, this paper analyzes functionality first, performance improvements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general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371600"/>
            <a:ext cx="7162920" cy="4952880"/>
          </a:xfrm>
          <a:prstGeom prst="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3657600"/>
            <a:ext cx="198108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43000" y="54100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010280" y="54100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4290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5880" y="342900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447920" y="4038480"/>
            <a:ext cx="53316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4038480"/>
            <a:ext cx="53352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75248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086600" y="44197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0"/>
                </a:moveTo>
                <a:lnTo>
                  <a:pt x="1483" y="0"/>
                </a:lnTo>
                <a:cubicBezTo>
                  <a:pt x="1223" y="0"/>
                  <a:pt x="967" y="78"/>
                  <a:pt x="741" y="227"/>
                </a:cubicBezTo>
                <a:cubicBezTo>
                  <a:pt x="516" y="376"/>
                  <a:pt x="329" y="589"/>
                  <a:pt x="199" y="847"/>
                </a:cubicBezTo>
                <a:cubicBezTo>
                  <a:pt x="69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1694"/>
                </a:moveTo>
                <a:lnTo>
                  <a:pt x="1483" y="1694"/>
                </a:lnTo>
                <a:lnTo>
                  <a:pt x="1483" y="1694"/>
                </a:lnTo>
                <a:cubicBezTo>
                  <a:pt x="1483" y="1397"/>
                  <a:pt x="1414" y="1105"/>
                  <a:pt x="1284" y="847"/>
                </a:cubicBezTo>
                <a:cubicBezTo>
                  <a:pt x="1154" y="589"/>
                  <a:pt x="967" y="376"/>
                  <a:pt x="741" y="227"/>
                </a:cubicBezTo>
                <a:cubicBezTo>
                  <a:pt x="516" y="78"/>
                  <a:pt x="260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2743200"/>
            <a:ext cx="914760" cy="609840"/>
          </a:xfrm>
          <a:custGeom>
            <a:avLst/>
            <a:gdLst/>
            <a:ahLst/>
            <a:rect l="0" t="0" r="r" b="b"/>
            <a:pathLst>
              <a:path fill="none" w="2541" h="1694">
                <a:moveTo>
                  <a:pt x="2541" y="0"/>
                </a:moveTo>
                <a:lnTo>
                  <a:pt x="2541" y="0"/>
                </a:lnTo>
                <a:cubicBezTo>
                  <a:pt x="2095" y="0"/>
                  <a:pt x="1657" y="78"/>
                  <a:pt x="1270" y="227"/>
                </a:cubicBezTo>
                <a:cubicBezTo>
                  <a:pt x="884" y="376"/>
                  <a:pt x="563" y="589"/>
                  <a:pt x="340" y="847"/>
                </a:cubicBezTo>
                <a:cubicBezTo>
                  <a:pt x="117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2743200"/>
            <a:ext cx="838440" cy="686160"/>
          </a:xfrm>
          <a:custGeom>
            <a:avLst/>
            <a:gdLst/>
            <a:ahLst/>
            <a:rect l="0" t="0" r="r" b="b"/>
            <a:pathLst>
              <a:path fill="none" w="2329" h="1906">
                <a:moveTo>
                  <a:pt x="2329" y="1906"/>
                </a:moveTo>
                <a:lnTo>
                  <a:pt x="2329" y="1906"/>
                </a:lnTo>
                <a:lnTo>
                  <a:pt x="2329" y="1906"/>
                </a:lnTo>
                <a:cubicBezTo>
                  <a:pt x="2329" y="1571"/>
                  <a:pt x="2221" y="1243"/>
                  <a:pt x="2017" y="953"/>
                </a:cubicBezTo>
                <a:cubicBezTo>
                  <a:pt x="1813" y="663"/>
                  <a:pt x="1519" y="423"/>
                  <a:pt x="1164" y="255"/>
                </a:cubicBezTo>
                <a:cubicBezTo>
                  <a:pt x="810" y="88"/>
                  <a:pt x="409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666880" y="297180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362320" y="1447920"/>
            <a:ext cx="39625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Distribution System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971800" y="4952880"/>
            <a:ext cx="2819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52480" y="1828800"/>
            <a:ext cx="53341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ical Distribution Service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2743200"/>
            <a:ext cx="1522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3048120"/>
            <a:ext cx="914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itional WDS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2057400" y="2209680"/>
            <a:ext cx="457200" cy="129564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2362320"/>
            <a:ext cx="0" cy="114300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2286000"/>
            <a:ext cx="228600" cy="129528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: AP to AP, distributing a frame via the wireless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ample: Frame from S1 destined to S2, transiting a wireless DS between AP1 and AP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reless DS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: with all four addresses, it is possible to handle an arbitrary number of WDS h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provides a general solution for wireless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terminology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ny loose terms causing conf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verlapp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thi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hen a member o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 the same volume a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sociated wit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key concept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verlapping coverag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volu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ases under discussion are those where a STA desires to both make use of the services of an ESS, and also be able to communicate directly with another 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 are 3 combinations which cover the permu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key is to understand that the state of a STA (with respect to membership in an ESS)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rthogona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o the communication method used for any particular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990720" y="1066680"/>
            <a:ext cx="7162920" cy="13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Consider the mixed mode cases wrt SA, DA, RA, TA, To, &amp; From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9880" y="190512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905120" y="388620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38680" y="380988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41911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352680" y="373392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s A, B,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1 is a member of a BSS which contains AP1 and is Associated with AP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7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member of the same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7 is a member of a BSS which contains AP1 and is Associated with AP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1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member of the same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1 is a member of a BSS which contains AP1 and S1 is Associated with AP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7 is also a member of the BSS which contains AP1 and S7 is Associated with AP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S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D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A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RA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inbound to DS from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From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is NOT outbound from DS onto the 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nnectivity ca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0 connectivity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 cases from 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 additional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ll three of the mixed mode cases are the s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rt SA, DA, RA, TA, To &amp; From, all three mixed mode cases are ident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three mixed mode cases are also identical to case 5 (direct communic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3 contains confusion when it talks about the address of the BSS, within a ESS of which S1 is a member, and overload this concept with BSS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o let’s examine the concept of BSSI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SSID vs mixed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 is desirable to have a BSSID so that receiving STAs can filter incoming msgs based on BSS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 particular, there is interest in filtering Broadcast and Multicast ms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is substituting in our shared media environment for the concept of a “logically separate medi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SSID vs mixed m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key question: What is the BSSID that should be used for mixed mode cases A, B and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swer: The BSS that contains both S1 and S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may or may no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be the same BSS which contains AP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ets look at each case closer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15238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981080" y="205740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057400" y="403848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791320" y="396252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809880" y="388620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1752480"/>
            <a:ext cx="2209680" cy="3276720"/>
          </a:xfrm>
          <a:prstGeom prst="round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81280"/>
            <a:ext cx="5638680" cy="1523880"/>
          </a:xfrm>
          <a:prstGeom prst="roundRect">
            <a:avLst/>
          </a:prstGeom>
          <a:noFill/>
          <a:ln w="12600">
            <a:solidFill>
              <a:srgbClr val="00ae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429000" y="190512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  <a:ea typeface="Arial"/>
              </a:rPr>
              <a:t>BSSID = Maddr(AP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67080" y="51814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BSSID = “Ad-Hoc A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A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the frame going from S1 to S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must = “Ad-Hoc 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he only piece of info common to both S1 and S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4300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15238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791320" y="198108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057400" y="403848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791320" y="396252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05320" y="388620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1600200"/>
            <a:ext cx="1981080" cy="3276720"/>
          </a:xfrm>
          <a:prstGeom prst="round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3581280"/>
            <a:ext cx="5638680" cy="1523880"/>
          </a:xfrm>
          <a:prstGeom prst="roundRect">
            <a:avLst/>
          </a:prstGeom>
          <a:noFill/>
          <a:ln w="12600">
            <a:solidFill>
              <a:srgbClr val="00ae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124080" y="190512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  <a:ea typeface="Arial"/>
              </a:rPr>
              <a:t>BSSID = Maddr(AP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05320" y="51814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BSSID = “Ad-Hoc B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B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the frame going from S1 to S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must = “Ad-Hoc 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he only BSSID known to S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he only piece of info common to both S1 and S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3352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15238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6200" y="2514600"/>
            <a:ext cx="106668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057400" y="4038480"/>
            <a:ext cx="914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91320" y="3962520"/>
            <a:ext cx="9907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8120" y="434340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05320" y="3886200"/>
            <a:ext cx="16002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xed mode case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1752480"/>
            <a:ext cx="6324480" cy="3886200"/>
          </a:xfrm>
          <a:prstGeom prst="roundRect">
            <a:avLst/>
          </a:prstGeom>
          <a:noFill/>
          <a:ln w="12600">
            <a:solidFill>
              <a:srgbClr val="618ffd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3581280"/>
            <a:ext cx="5638680" cy="1523880"/>
          </a:xfrm>
          <a:prstGeom prst="roundRect">
            <a:avLst/>
          </a:prstGeom>
          <a:noFill/>
          <a:ln w="12600">
            <a:solidFill>
              <a:srgbClr val="00ae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429000" y="190512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  <a:ea typeface="Arial"/>
              </a:rPr>
              <a:t>BSSID = Maddr(AP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267080" y="518148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BSSID = “Ad-Hoc C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the frame going from S1 to S7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 are two choices for BSS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-Hoc 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ddr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ither will get the msg from the source to the destination without causing any problems at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To] = [From] = False, so APs will not attempt to process the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irect communication BSSID 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BSSID must be that of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BSS of which both the Source and Destination stations are me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allows both choices for Case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uch a BSS always exists for direct communication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hoice of BSSID to use for mixed mode case C can be unspecified by 802.11 - either works from the MAC view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choice of which to use and/or try first is not of significance to 802.11 MAC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3 Connectivity cas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36960" y="2855880"/>
            <a:ext cx="66024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60440" y="2703600"/>
            <a:ext cx="66024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689440" y="2703600"/>
            <a:ext cx="66024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76200" y="415116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762600" y="407520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019400" y="415116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343240" y="559908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1905120"/>
            <a:ext cx="4267080" cy="9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523880" y="3124080"/>
            <a:ext cx="990720" cy="990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6668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3124080"/>
            <a:ext cx="91440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619600" y="5599080"/>
            <a:ext cx="495360" cy="3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114800" y="3276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3276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579132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71600" y="33526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629400" y="320040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35812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05320" y="35812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962520" y="533412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62520" y="1600200"/>
            <a:ext cx="762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114800" y="2209680"/>
            <a:ext cx="380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frastructure BSSID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 BSSs which are part of an 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SSID = Maddr(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Using ESSID to find BSS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an ESS, a STA learns about local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hat it learns is { ESSID, Maddr(AP) } p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tained in beacon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s wishing to join a particular administrative group, pick an AP by using the Maddr(AP) of an AP which belongs to the desired administrativ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Using Ad-Hoc admin group to find BSSI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BSSID of an IBSS = Maddr( the STA which initiated establishment of the B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same mechanism used by a STA to find BSSID from ESSID is su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STA wishing to join an IBSS simply selects a Maddr which corresponds with the desired administrative group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dependent BSSID va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clusion: For Independent BSSs, BSSID = Maddr( the STA which initiated establishment of the B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supports as much differentiation between different IBSSs  as desi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us broadcast, multicast filtering by BSSID is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interaction 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t any given insta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STA may be a member of zero or 1 ES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                        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STA may be a member of as many IBSSs as it des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ince APs are STAs, this also applies to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DS compon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 u="sng">
                <a:solidFill>
                  <a:srgbClr val="001af0"/>
                </a:solidFill>
                <a:uFillTx/>
                <a:latin typeface="Arial"/>
                <a:ea typeface="Arial"/>
              </a:rPr>
              <a:t>Logically</a:t>
            </a:r>
            <a:r>
              <a:rPr b="1" i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BSSs are used to build WD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144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3657600"/>
            <a:ext cx="198108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1260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143000" y="5410080"/>
            <a:ext cx="60948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5410080"/>
            <a:ext cx="6094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8288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429000" y="3352680"/>
            <a:ext cx="6858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5880" y="3429000"/>
            <a:ext cx="6858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1447920" y="4038480"/>
            <a:ext cx="53316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29400" y="4038480"/>
            <a:ext cx="533520" cy="1371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75248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086600" y="441972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3828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0"/>
                </a:moveTo>
                <a:lnTo>
                  <a:pt x="1483" y="0"/>
                </a:lnTo>
                <a:cubicBezTo>
                  <a:pt x="1223" y="0"/>
                  <a:pt x="967" y="78"/>
                  <a:pt x="741" y="227"/>
                </a:cubicBezTo>
                <a:cubicBezTo>
                  <a:pt x="516" y="376"/>
                  <a:pt x="329" y="589"/>
                  <a:pt x="199" y="847"/>
                </a:cubicBezTo>
                <a:cubicBezTo>
                  <a:pt x="69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71800" y="2743200"/>
            <a:ext cx="533880" cy="609840"/>
          </a:xfrm>
          <a:custGeom>
            <a:avLst/>
            <a:gdLst/>
            <a:ahLst/>
            <a:rect l="0" t="0" r="r" b="b"/>
            <a:pathLst>
              <a:path fill="none" w="1483" h="1694">
                <a:moveTo>
                  <a:pt x="1483" y="1694"/>
                </a:moveTo>
                <a:lnTo>
                  <a:pt x="1483" y="1694"/>
                </a:lnTo>
                <a:lnTo>
                  <a:pt x="1483" y="1694"/>
                </a:lnTo>
                <a:cubicBezTo>
                  <a:pt x="1483" y="1397"/>
                  <a:pt x="1414" y="1105"/>
                  <a:pt x="1284" y="847"/>
                </a:cubicBezTo>
                <a:cubicBezTo>
                  <a:pt x="1154" y="589"/>
                  <a:pt x="967" y="376"/>
                  <a:pt x="741" y="227"/>
                </a:cubicBezTo>
                <a:cubicBezTo>
                  <a:pt x="516" y="78"/>
                  <a:pt x="260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2743200"/>
            <a:ext cx="914760" cy="609840"/>
          </a:xfrm>
          <a:custGeom>
            <a:avLst/>
            <a:gdLst/>
            <a:ahLst/>
            <a:rect l="0" t="0" r="r" b="b"/>
            <a:pathLst>
              <a:path fill="none" w="2541" h="1694">
                <a:moveTo>
                  <a:pt x="2541" y="0"/>
                </a:moveTo>
                <a:lnTo>
                  <a:pt x="2541" y="0"/>
                </a:lnTo>
                <a:cubicBezTo>
                  <a:pt x="2095" y="0"/>
                  <a:pt x="1657" y="78"/>
                  <a:pt x="1270" y="227"/>
                </a:cubicBezTo>
                <a:cubicBezTo>
                  <a:pt x="884" y="376"/>
                  <a:pt x="563" y="589"/>
                  <a:pt x="340" y="847"/>
                </a:cubicBezTo>
                <a:cubicBezTo>
                  <a:pt x="117" y="1105"/>
                  <a:pt x="0" y="1397"/>
                  <a:pt x="0" y="1694"/>
                </a:cubicBezTo>
              </a:path>
            </a:pathLst>
          </a:custGeom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743200"/>
            <a:ext cx="838440" cy="686160"/>
          </a:xfrm>
          <a:custGeom>
            <a:avLst/>
            <a:gdLst/>
            <a:ahLst/>
            <a:rect l="0" t="0" r="r" b="b"/>
            <a:pathLst>
              <a:path fill="none" w="2329" h="1906">
                <a:moveTo>
                  <a:pt x="2329" y="1906"/>
                </a:moveTo>
                <a:lnTo>
                  <a:pt x="2329" y="1906"/>
                </a:lnTo>
                <a:lnTo>
                  <a:pt x="2329" y="1906"/>
                </a:lnTo>
                <a:cubicBezTo>
                  <a:pt x="2329" y="1571"/>
                  <a:pt x="2221" y="1243"/>
                  <a:pt x="2017" y="953"/>
                </a:cubicBezTo>
                <a:cubicBezTo>
                  <a:pt x="1813" y="663"/>
                  <a:pt x="1519" y="423"/>
                  <a:pt x="1164" y="255"/>
                </a:cubicBezTo>
                <a:cubicBezTo>
                  <a:pt x="810" y="88"/>
                  <a:pt x="409" y="0"/>
                  <a:pt x="0" y="0"/>
                </a:cubicBezTo>
              </a:path>
            </a:pathLst>
          </a:custGeom>
          <a:ln w="12600">
            <a:solidFill>
              <a:srgbClr val="fc0128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666880" y="2971800"/>
            <a:ext cx="6094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se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362320" y="14479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Distribution System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971800" y="4952880"/>
            <a:ext cx="2819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063de8"/>
                </a:solidFill>
                <a:uFillTx/>
                <a:latin typeface="Arial"/>
                <a:ea typeface="Arial"/>
              </a:rPr>
              <a:t>Wirel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752480" y="1828800"/>
            <a:ext cx="5334120" cy="68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ff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gical Distribution Service 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29200" y="2743200"/>
            <a:ext cx="1522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648320" y="3048120"/>
            <a:ext cx="914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ditional WDS lin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666880"/>
            <a:ext cx="2514600" cy="1600200"/>
          </a:xfrm>
          <a:prstGeom prst="roundRect">
            <a:avLst/>
          </a:prstGeom>
          <a:noFill/>
          <a:ln w="38160">
            <a:solidFill>
              <a:srgbClr val="8901f3"/>
            </a:solidFill>
            <a:round/>
            <a:tailEnd len="med" type="triangle" w="med"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2057400" y="2209680"/>
            <a:ext cx="457200" cy="129564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2362320"/>
            <a:ext cx="0" cy="114300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2286000"/>
            <a:ext cx="228600" cy="1295280"/>
          </a:xfrm>
          <a:prstGeom prst="line">
            <a:avLst/>
          </a:prstGeom>
          <a:ln w="12600">
            <a:solidFill>
              <a:srgbClr val="00ff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429000" y="4343400"/>
            <a:ext cx="45720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8901f3"/>
                </a:solidFill>
                <a:latin typeface="Arial"/>
                <a:ea typeface="Arial"/>
              </a:rPr>
              <a:t>I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 u="sng">
                <a:solidFill>
                  <a:srgbClr val="001af0"/>
                </a:solidFill>
                <a:uFillTx/>
                <a:latin typeface="Arial"/>
                <a:ea typeface="Arial"/>
              </a:rPr>
              <a:t>Logically</a:t>
            </a:r>
            <a:r>
              <a:rPr b="1" i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, 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BSSs are used to build WD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wo APs must be in direct communication or they can not be used to wirelessly distribute a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terestingly, the BSSID of the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ogica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IBSS i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ot required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within the case 6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e case 6 frame examples later in pap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nly a DS need know how APs are re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In order to figure out which APs to use to wirelessly distribute a fram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f were needed, the logically correct BSSID for a case 6 frame is the ID of the BSS which contains both AP1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ND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AP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hether a DS actually does, or does not, set up the logical IBSSs is irrelevant to the 802.11 M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bile STAs neither need to know, nor care, about these logical BS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bservations about WDS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 is only required for wirelessly distributed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ATA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ype 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trol frame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ever transi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TS, CTS, ACK,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nagement frame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never transit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y are always between directly communicating S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 to STA in a B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 to AP in an 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ata frames are ever Distributed and hence transit a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bservations about WDS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se 6 (WDS) is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case where all four logical addresses can actually have 4 distinc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all case 6 “hops”, the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logica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istribution Service, is invok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quired in order to access the Association information to determine how to distribute the original frame from S1 to S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hether this functionality is implemented within a physical AP is not relev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dditional c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0666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ittee discussion has been using loose terminology, resulting in less than optimum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icter terminology and attention to notational detail are required to correctly understand all the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fore, the first step in the analysis is to establish more precise terminolog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DS Data frame suppor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should enable support of W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relessly distributed msgs are identified by  [To] = [From] =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DS link msgs use a WDS Data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vides support for WDS lin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ly a small amount of additional information is needed (above a normal Data header) for specific ms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verhead cost is only paid for msgs that are actually wirelessly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other msgs have increased over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DS Data h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143000" y="2438280"/>
            <a:ext cx="2514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3 DATA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657600" y="2438280"/>
            <a:ext cx="6858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i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0" y="2438280"/>
            <a:ext cx="3352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S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819520" y="3352680"/>
            <a:ext cx="3276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 IFF [To] = [From] = TRUE in FC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114800" y="3048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14300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209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43400" y="22096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600200" y="1905120"/>
            <a:ext cx="1905120" cy="2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DS Data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mpacts on frame head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w that we have explored the previously overloaded concepts, lets look at what this means for frame head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TA = Maddr( transmitt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RA = Maddr( receiv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RA = Maddr( receiv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RA = Maddr( receiv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TA = Maddr( transmitting ST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AP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s 5, A &amp; B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(case 5 example sh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d-hoc initiating 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erminology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n has been used to describe both a station and a station’s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Ps, and their address are described as AP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obscures the fact that APs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RE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obscures the fact that APs straddle two logically different  address sp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two address spaces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could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physically b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&amp;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1) or Maddr (ad-hoc initiating S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] =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(WDS DATA support fr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using 236/B3 field na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BSSID field ] = Maddr (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R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field 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T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field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D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Orig SA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s actually SA 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 is proposed that for the WDS Data header, the fields be renamed to accurately reflect their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ase 6 example would beco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(WDS DATA support fr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ase 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RA ] = Maddr (A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A ] = Maddr (A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DA ] = Maddr (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SA ] = Maddr (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To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[ From DS ]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eader Address field contents for each msg 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DS DATA header field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371600" y="1828800"/>
            <a:ext cx="5181840" cy="380880"/>
            <a:chOff x="1371600" y="1828800"/>
            <a:chExt cx="5181840" cy="380880"/>
          </a:xfrm>
        </p:grpSpPr>
        <p:sp>
          <p:nvSpPr>
            <p:cNvPr id="306" name=""/>
            <p:cNvSpPr txBox="1"/>
            <p:nvPr/>
          </p:nvSpPr>
          <p:spPr>
            <a:xfrm>
              <a:off x="137160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190512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243828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297180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3505320" y="182880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4343400" y="1828800"/>
              <a:ext cx="9144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257800" y="1828800"/>
              <a:ext cx="7621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6019920" y="1828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xtended B3 H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90720" y="10666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 /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D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676520" y="5867280"/>
            <a:ext cx="5486400" cy="380880"/>
            <a:chOff x="1676520" y="5867280"/>
            <a:chExt cx="5486400" cy="380880"/>
          </a:xfrm>
        </p:grpSpPr>
        <p:sp>
          <p:nvSpPr>
            <p:cNvPr id="317" name=""/>
            <p:cNvSpPr txBox="1"/>
            <p:nvPr/>
          </p:nvSpPr>
          <p:spPr>
            <a:xfrm>
              <a:off x="1676520" y="58672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2209680" y="586728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3048120" y="5867280"/>
              <a:ext cx="4114800" cy="380880"/>
              <a:chOff x="3048120" y="5867280"/>
              <a:chExt cx="4114800" cy="380880"/>
            </a:xfrm>
          </p:grpSpPr>
          <p:sp>
            <p:nvSpPr>
              <p:cNvPr id="320" name=""/>
              <p:cNvSpPr txBox="1"/>
              <p:nvPr/>
            </p:nvSpPr>
            <p:spPr>
              <a:xfrm>
                <a:off x="3048120" y="586728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3581280" y="586728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>
                <a:off x="4114800" y="5867280"/>
                <a:ext cx="83808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q #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>
                <a:off x="4952880" y="5867280"/>
                <a:ext cx="91440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ag #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5867280" y="586728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 txBox="1"/>
              <p:nvPr/>
            </p:nvSpPr>
            <p:spPr>
              <a:xfrm>
                <a:off x="6629400" y="586728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676520" y="4952880"/>
            <a:ext cx="4952880" cy="380880"/>
            <a:chOff x="1676520" y="4952880"/>
            <a:chExt cx="4952880" cy="380880"/>
          </a:xfrm>
        </p:grpSpPr>
        <p:sp>
          <p:nvSpPr>
            <p:cNvPr id="327" name=""/>
            <p:cNvSpPr txBox="1"/>
            <p:nvPr/>
          </p:nvSpPr>
          <p:spPr>
            <a:xfrm>
              <a:off x="1676520" y="49528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2209680" y="495288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048120" y="49528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3581280" y="495288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4114800" y="495288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4952880" y="4952880"/>
              <a:ext cx="9144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g 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867280" y="4952880"/>
              <a:ext cx="7621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 txBox="1"/>
          <p:nvPr/>
        </p:nvSpPr>
        <p:spPr>
          <a:xfrm>
            <a:off x="3048120" y="327672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867280" y="3276720"/>
            <a:ext cx="7621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676520" y="1447920"/>
            <a:ext cx="4952880" cy="380880"/>
            <a:chOff x="1676520" y="1447920"/>
            <a:chExt cx="4952880" cy="380880"/>
          </a:xfrm>
        </p:grpSpPr>
        <p:grpSp>
          <p:nvGrpSpPr>
            <p:cNvPr id="337" name=""/>
            <p:cNvGrpSpPr/>
            <p:nvPr/>
          </p:nvGrpSpPr>
          <p:grpSpPr>
            <a:xfrm>
              <a:off x="1676520" y="1447920"/>
              <a:ext cx="4952880" cy="380880"/>
              <a:chOff x="1676520" y="1447920"/>
              <a:chExt cx="4952880" cy="380880"/>
            </a:xfrm>
          </p:grpSpPr>
          <p:sp>
            <p:nvSpPr>
              <p:cNvPr id="338" name=""/>
              <p:cNvSpPr txBox="1"/>
              <p:nvPr/>
            </p:nvSpPr>
            <p:spPr>
              <a:xfrm>
                <a:off x="1676520" y="14479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3048120" y="14479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 txBox="1"/>
              <p:nvPr/>
            </p:nvSpPr>
            <p:spPr>
              <a:xfrm>
                <a:off x="3581280" y="14479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5867280" y="144792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2209680" y="182880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14800" y="1828800"/>
              <a:ext cx="1752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676520" y="2362320"/>
            <a:ext cx="4952880" cy="380880"/>
            <a:chOff x="1676520" y="2362320"/>
            <a:chExt cx="4952880" cy="380880"/>
          </a:xfrm>
        </p:grpSpPr>
        <p:grpSp>
          <p:nvGrpSpPr>
            <p:cNvPr id="345" name=""/>
            <p:cNvGrpSpPr/>
            <p:nvPr/>
          </p:nvGrpSpPr>
          <p:grpSpPr>
            <a:xfrm>
              <a:off x="1676520" y="2362320"/>
              <a:ext cx="4952880" cy="380880"/>
              <a:chOff x="1676520" y="2362320"/>
              <a:chExt cx="4952880" cy="380880"/>
            </a:xfrm>
          </p:grpSpPr>
          <p:sp>
            <p:nvSpPr>
              <p:cNvPr id="346" name=""/>
              <p:cNvSpPr txBox="1"/>
              <p:nvPr/>
            </p:nvSpPr>
            <p:spPr>
              <a:xfrm>
                <a:off x="1676520" y="23623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3048120" y="2362320"/>
                <a:ext cx="5335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 txBox="1"/>
              <p:nvPr/>
            </p:nvSpPr>
            <p:spPr>
              <a:xfrm>
                <a:off x="5867280" y="2362320"/>
                <a:ext cx="762120" cy="380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2209680" y="274320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81280" y="27432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676520" y="3276720"/>
            <a:ext cx="4190760" cy="380880"/>
            <a:chOff x="1676520" y="3276720"/>
            <a:chExt cx="4190760" cy="380880"/>
          </a:xfrm>
        </p:grpSpPr>
        <p:sp>
          <p:nvSpPr>
            <p:cNvPr id="352" name=""/>
            <p:cNvSpPr txBox="1"/>
            <p:nvPr/>
          </p:nvSpPr>
          <p:spPr>
            <a:xfrm>
              <a:off x="1676520" y="327672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209680" y="3657600"/>
              <a:ext cx="8384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280" y="36576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1676520" y="4114800"/>
            <a:ext cx="2438280" cy="380880"/>
            <a:chOff x="1676520" y="4114800"/>
            <a:chExt cx="2438280" cy="380880"/>
          </a:xfrm>
        </p:grpSpPr>
        <p:sp>
          <p:nvSpPr>
            <p:cNvPr id="356" name=""/>
            <p:cNvSpPr txBox="1"/>
            <p:nvPr/>
          </p:nvSpPr>
          <p:spPr>
            <a:xfrm>
              <a:off x="1676520" y="4114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2209680" y="4114800"/>
              <a:ext cx="8380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SS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3581280" y="4114800"/>
              <a:ext cx="53352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48120" y="4495680"/>
              <a:ext cx="533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xed mode case corrections to B3 section 2 tex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3 Section 2 State Diagram Cor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w that we understand the mixed mode cases it becomes clear that the transmitting station state diagram in sec 2.5 is incorrect and needs to be corr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existing states described in B3 section 2 are still correct, but the division of services is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correct dependency on STA state is sets of allowable transmit frames, not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y frame can be received at any time, but if not in a correct state at the receiver (e.g authenticated), an error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ion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itial start state, Unauthenticated, Unassoci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uthenticated, not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uthenticated and Associ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01880" y="1351080"/>
            <a:ext cx="7162920" cy="4952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141720" y="1463760"/>
            <a:ext cx="2297160" cy="833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1af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tate 1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Unauthenticate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Unassoci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213000" y="3143160"/>
            <a:ext cx="2286000" cy="88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1af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tate 2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uthenticate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Unassoci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119400" y="4927680"/>
            <a:ext cx="2320920" cy="87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1af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tate 3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uthentic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nd Associ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592520" y="2262240"/>
            <a:ext cx="559080" cy="498960"/>
          </a:xfrm>
          <a:custGeom>
            <a:avLst/>
            <a:gdLst/>
            <a:ahLst/>
            <a:rect l="0" t="0" r="r" b="b"/>
            <a:pathLst>
              <a:path w="1553" h="1386">
                <a:moveTo>
                  <a:pt x="59" y="162"/>
                </a:moveTo>
                <a:lnTo>
                  <a:pt x="0" y="162"/>
                </a:lnTo>
                <a:lnTo>
                  <a:pt x="0" y="180"/>
                </a:lnTo>
                <a:lnTo>
                  <a:pt x="29" y="261"/>
                </a:lnTo>
                <a:lnTo>
                  <a:pt x="88" y="321"/>
                </a:lnTo>
                <a:lnTo>
                  <a:pt x="147" y="403"/>
                </a:lnTo>
                <a:lnTo>
                  <a:pt x="177" y="463"/>
                </a:lnTo>
                <a:lnTo>
                  <a:pt x="236" y="541"/>
                </a:lnTo>
                <a:lnTo>
                  <a:pt x="295" y="604"/>
                </a:lnTo>
                <a:lnTo>
                  <a:pt x="354" y="664"/>
                </a:lnTo>
                <a:lnTo>
                  <a:pt x="469" y="823"/>
                </a:lnTo>
                <a:lnTo>
                  <a:pt x="558" y="923"/>
                </a:lnTo>
                <a:lnTo>
                  <a:pt x="587" y="965"/>
                </a:lnTo>
                <a:lnTo>
                  <a:pt x="646" y="1004"/>
                </a:lnTo>
                <a:lnTo>
                  <a:pt x="676" y="1044"/>
                </a:lnTo>
                <a:lnTo>
                  <a:pt x="731" y="1086"/>
                </a:lnTo>
                <a:lnTo>
                  <a:pt x="761" y="1125"/>
                </a:lnTo>
                <a:lnTo>
                  <a:pt x="880" y="1224"/>
                </a:lnTo>
                <a:lnTo>
                  <a:pt x="1057" y="1347"/>
                </a:lnTo>
                <a:lnTo>
                  <a:pt x="1113" y="1365"/>
                </a:lnTo>
                <a:lnTo>
                  <a:pt x="1172" y="1365"/>
                </a:lnTo>
                <a:lnTo>
                  <a:pt x="1202" y="1386"/>
                </a:lnTo>
                <a:lnTo>
                  <a:pt x="1261" y="1386"/>
                </a:lnTo>
                <a:lnTo>
                  <a:pt x="1320" y="1365"/>
                </a:lnTo>
                <a:lnTo>
                  <a:pt x="1320" y="1347"/>
                </a:lnTo>
                <a:lnTo>
                  <a:pt x="1349" y="1347"/>
                </a:lnTo>
                <a:lnTo>
                  <a:pt x="1379" y="1326"/>
                </a:lnTo>
                <a:lnTo>
                  <a:pt x="1379" y="1305"/>
                </a:lnTo>
                <a:lnTo>
                  <a:pt x="1438" y="1266"/>
                </a:lnTo>
                <a:lnTo>
                  <a:pt x="1438" y="1245"/>
                </a:lnTo>
                <a:lnTo>
                  <a:pt x="1464" y="1206"/>
                </a:lnTo>
                <a:lnTo>
                  <a:pt x="1464" y="1164"/>
                </a:lnTo>
                <a:lnTo>
                  <a:pt x="1494" y="1125"/>
                </a:lnTo>
                <a:lnTo>
                  <a:pt x="1494" y="1086"/>
                </a:lnTo>
                <a:lnTo>
                  <a:pt x="1523" y="1004"/>
                </a:lnTo>
                <a:lnTo>
                  <a:pt x="1523" y="802"/>
                </a:lnTo>
                <a:lnTo>
                  <a:pt x="1553" y="763"/>
                </a:lnTo>
                <a:lnTo>
                  <a:pt x="1553" y="382"/>
                </a:lnTo>
                <a:lnTo>
                  <a:pt x="1523" y="240"/>
                </a:lnTo>
                <a:lnTo>
                  <a:pt x="1523" y="0"/>
                </a:lnTo>
                <a:lnTo>
                  <a:pt x="1464" y="0"/>
                </a:lnTo>
                <a:lnTo>
                  <a:pt x="1464" y="21"/>
                </a:lnTo>
                <a:lnTo>
                  <a:pt x="1464" y="240"/>
                </a:lnTo>
                <a:lnTo>
                  <a:pt x="1494" y="382"/>
                </a:lnTo>
                <a:lnTo>
                  <a:pt x="1494" y="763"/>
                </a:lnTo>
                <a:lnTo>
                  <a:pt x="1464" y="802"/>
                </a:lnTo>
                <a:lnTo>
                  <a:pt x="1464" y="1004"/>
                </a:lnTo>
                <a:lnTo>
                  <a:pt x="1438" y="1086"/>
                </a:lnTo>
                <a:lnTo>
                  <a:pt x="1438" y="1104"/>
                </a:lnTo>
                <a:lnTo>
                  <a:pt x="1409" y="1146"/>
                </a:lnTo>
                <a:lnTo>
                  <a:pt x="1409" y="1206"/>
                </a:lnTo>
                <a:lnTo>
                  <a:pt x="1379" y="1224"/>
                </a:lnTo>
                <a:lnTo>
                  <a:pt x="1379" y="1245"/>
                </a:lnTo>
                <a:lnTo>
                  <a:pt x="1349" y="1266"/>
                </a:lnTo>
                <a:lnTo>
                  <a:pt x="1349" y="1284"/>
                </a:lnTo>
                <a:lnTo>
                  <a:pt x="1290" y="1326"/>
                </a:lnTo>
                <a:lnTo>
                  <a:pt x="1231" y="1347"/>
                </a:lnTo>
                <a:lnTo>
                  <a:pt x="1261" y="1347"/>
                </a:lnTo>
                <a:lnTo>
                  <a:pt x="1202" y="1347"/>
                </a:lnTo>
                <a:lnTo>
                  <a:pt x="1172" y="1326"/>
                </a:lnTo>
                <a:lnTo>
                  <a:pt x="1113" y="1326"/>
                </a:lnTo>
                <a:lnTo>
                  <a:pt x="1028" y="1266"/>
                </a:lnTo>
                <a:lnTo>
                  <a:pt x="969" y="1245"/>
                </a:lnTo>
                <a:lnTo>
                  <a:pt x="939" y="1224"/>
                </a:lnTo>
                <a:lnTo>
                  <a:pt x="910" y="1185"/>
                </a:lnTo>
                <a:lnTo>
                  <a:pt x="791" y="1104"/>
                </a:lnTo>
                <a:lnTo>
                  <a:pt x="761" y="1065"/>
                </a:lnTo>
                <a:lnTo>
                  <a:pt x="731" y="1025"/>
                </a:lnTo>
                <a:lnTo>
                  <a:pt x="676" y="983"/>
                </a:lnTo>
                <a:lnTo>
                  <a:pt x="646" y="944"/>
                </a:lnTo>
                <a:lnTo>
                  <a:pt x="617" y="905"/>
                </a:lnTo>
                <a:lnTo>
                  <a:pt x="528" y="802"/>
                </a:lnTo>
                <a:lnTo>
                  <a:pt x="380" y="643"/>
                </a:lnTo>
                <a:lnTo>
                  <a:pt x="354" y="583"/>
                </a:lnTo>
                <a:lnTo>
                  <a:pt x="295" y="523"/>
                </a:lnTo>
                <a:lnTo>
                  <a:pt x="236" y="442"/>
                </a:lnTo>
                <a:lnTo>
                  <a:pt x="206" y="382"/>
                </a:lnTo>
                <a:lnTo>
                  <a:pt x="147" y="300"/>
                </a:lnTo>
                <a:lnTo>
                  <a:pt x="88" y="240"/>
                </a:lnTo>
                <a:lnTo>
                  <a:pt x="59" y="162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8520" y="2162160"/>
            <a:ext cx="138600" cy="136800"/>
          </a:xfrm>
          <a:custGeom>
            <a:avLst/>
            <a:gdLst/>
            <a:ahLst/>
            <a:rect l="0" t="0" r="r" b="b"/>
            <a:pathLst>
              <a:path w="385" h="380">
                <a:moveTo>
                  <a:pt x="0" y="380"/>
                </a:moveTo>
                <a:lnTo>
                  <a:pt x="172" y="0"/>
                </a:lnTo>
                <a:lnTo>
                  <a:pt x="385" y="380"/>
                </a:lnTo>
                <a:lnTo>
                  <a:pt x="172" y="265"/>
                </a:lnTo>
                <a:lnTo>
                  <a:pt x="0" y="380"/>
                </a:lnTo>
                <a:close/>
              </a:path>
            </a:pathLst>
          </a:custGeom>
          <a:solidFill>
            <a:srgbClr val="ff00ff"/>
          </a:solidFill>
          <a:ln w="12600">
            <a:solidFill>
              <a:srgbClr val="ff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664080" y="2290680"/>
            <a:ext cx="125640" cy="923040"/>
            <a:chOff x="3664080" y="2290680"/>
            <a:chExt cx="125640" cy="923040"/>
          </a:xfrm>
        </p:grpSpPr>
        <p:sp>
          <p:nvSpPr>
            <p:cNvPr id="374" name=""/>
            <p:cNvSpPr/>
            <p:nvPr/>
          </p:nvSpPr>
          <p:spPr>
            <a:xfrm>
              <a:off x="3714840" y="2290680"/>
              <a:ext cx="9720" cy="864000"/>
            </a:xfrm>
            <a:custGeom>
              <a:avLst/>
              <a:gdLst/>
              <a:ahLst/>
              <a:rect l="0" t="0" r="r" b="b"/>
              <a:pathLst>
                <a:path w="27" h="2400">
                  <a:moveTo>
                    <a:pt x="27" y="30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2400"/>
                  </a:lnTo>
                  <a:lnTo>
                    <a:pt x="14" y="2400"/>
                  </a:lnTo>
                  <a:lnTo>
                    <a:pt x="14" y="2374"/>
                  </a:lnTo>
                  <a:lnTo>
                    <a:pt x="27" y="2374"/>
                  </a:lnTo>
                  <a:lnTo>
                    <a:pt x="27" y="30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64080" y="3075120"/>
              <a:ext cx="125640" cy="138600"/>
            </a:xfrm>
            <a:custGeom>
              <a:avLst/>
              <a:gdLst/>
              <a:ahLst/>
              <a:rect l="0" t="0" r="r" b="b"/>
              <a:pathLst>
                <a:path w="349" h="385">
                  <a:moveTo>
                    <a:pt x="349" y="0"/>
                  </a:moveTo>
                  <a:lnTo>
                    <a:pt x="177" y="385"/>
                  </a:lnTo>
                  <a:lnTo>
                    <a:pt x="0" y="0"/>
                  </a:lnTo>
                  <a:lnTo>
                    <a:pt x="177" y="12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3678120" y="4016520"/>
            <a:ext cx="125640" cy="922680"/>
            <a:chOff x="3678120" y="4016520"/>
            <a:chExt cx="125640" cy="922680"/>
          </a:xfrm>
        </p:grpSpPr>
        <p:sp>
          <p:nvSpPr>
            <p:cNvPr id="377" name=""/>
            <p:cNvSpPr/>
            <p:nvPr/>
          </p:nvSpPr>
          <p:spPr>
            <a:xfrm>
              <a:off x="3728880" y="4016520"/>
              <a:ext cx="9720" cy="864000"/>
            </a:xfrm>
            <a:custGeom>
              <a:avLst/>
              <a:gdLst/>
              <a:ahLst/>
              <a:rect l="0" t="0" r="r" b="b"/>
              <a:pathLst>
                <a:path w="27" h="2400">
                  <a:moveTo>
                    <a:pt x="27" y="30"/>
                  </a:moveTo>
                  <a:lnTo>
                    <a:pt x="27" y="0"/>
                  </a:lnTo>
                  <a:lnTo>
                    <a:pt x="0" y="0"/>
                  </a:lnTo>
                  <a:lnTo>
                    <a:pt x="0" y="2400"/>
                  </a:lnTo>
                  <a:lnTo>
                    <a:pt x="14" y="2400"/>
                  </a:lnTo>
                  <a:lnTo>
                    <a:pt x="14" y="2374"/>
                  </a:lnTo>
                  <a:lnTo>
                    <a:pt x="27" y="2374"/>
                  </a:lnTo>
                  <a:lnTo>
                    <a:pt x="27" y="3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678120" y="4800600"/>
              <a:ext cx="125640" cy="138600"/>
            </a:xfrm>
            <a:custGeom>
              <a:avLst/>
              <a:gdLst/>
              <a:ahLst/>
              <a:rect l="0" t="0" r="r" b="b"/>
              <a:pathLst>
                <a:path w="349" h="385">
                  <a:moveTo>
                    <a:pt x="349" y="0"/>
                  </a:moveTo>
                  <a:lnTo>
                    <a:pt x="177" y="385"/>
                  </a:lnTo>
                  <a:lnTo>
                    <a:pt x="0" y="0"/>
                  </a:lnTo>
                  <a:lnTo>
                    <a:pt x="177" y="120"/>
                  </a:lnTo>
                  <a:lnTo>
                    <a:pt x="349" y="0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4716360" y="4037040"/>
            <a:ext cx="125640" cy="922680"/>
            <a:chOff x="4716360" y="4037040"/>
            <a:chExt cx="125640" cy="922680"/>
          </a:xfrm>
        </p:grpSpPr>
        <p:sp>
          <p:nvSpPr>
            <p:cNvPr id="380" name=""/>
            <p:cNvSpPr/>
            <p:nvPr/>
          </p:nvSpPr>
          <p:spPr>
            <a:xfrm>
              <a:off x="4781520" y="4095720"/>
              <a:ext cx="9720" cy="864000"/>
            </a:xfrm>
            <a:custGeom>
              <a:avLst/>
              <a:gdLst/>
              <a:ahLst/>
              <a:rect l="0" t="0" r="r" b="b"/>
              <a:pathLst>
                <a:path w="27" h="2400">
                  <a:moveTo>
                    <a:pt x="0" y="2370"/>
                  </a:moveTo>
                  <a:lnTo>
                    <a:pt x="0" y="2400"/>
                  </a:lnTo>
                  <a:lnTo>
                    <a:pt x="27" y="2400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14" y="25"/>
                  </a:lnTo>
                  <a:lnTo>
                    <a:pt x="0" y="25"/>
                  </a:lnTo>
                  <a:lnTo>
                    <a:pt x="0" y="237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16360" y="4037040"/>
              <a:ext cx="125640" cy="138600"/>
            </a:xfrm>
            <a:custGeom>
              <a:avLst/>
              <a:gdLst/>
              <a:ahLst/>
              <a:rect l="0" t="0" r="r" b="b"/>
              <a:pathLst>
                <a:path w="349" h="385">
                  <a:moveTo>
                    <a:pt x="0" y="385"/>
                  </a:moveTo>
                  <a:lnTo>
                    <a:pt x="171" y="0"/>
                  </a:lnTo>
                  <a:lnTo>
                    <a:pt x="349" y="385"/>
                  </a:lnTo>
                  <a:lnTo>
                    <a:pt x="171" y="265"/>
                  </a:lnTo>
                  <a:lnTo>
                    <a:pt x="0" y="385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513160" y="5424480"/>
            <a:ext cx="936720" cy="471960"/>
            <a:chOff x="2513160" y="5424480"/>
            <a:chExt cx="936720" cy="471960"/>
          </a:xfrm>
        </p:grpSpPr>
        <p:sp>
          <p:nvSpPr>
            <p:cNvPr id="383" name=""/>
            <p:cNvSpPr/>
            <p:nvPr/>
          </p:nvSpPr>
          <p:spPr>
            <a:xfrm>
              <a:off x="2513160" y="5424480"/>
              <a:ext cx="900360" cy="471960"/>
            </a:xfrm>
            <a:custGeom>
              <a:avLst/>
              <a:gdLst/>
              <a:ahLst/>
              <a:rect l="0" t="0" r="r" b="b"/>
              <a:pathLst>
                <a:path w="2501" h="1311">
                  <a:moveTo>
                    <a:pt x="1592" y="55"/>
                  </a:moveTo>
                  <a:lnTo>
                    <a:pt x="1592" y="0"/>
                  </a:lnTo>
                  <a:lnTo>
                    <a:pt x="1566" y="0"/>
                  </a:lnTo>
                  <a:lnTo>
                    <a:pt x="1464" y="85"/>
                  </a:lnTo>
                  <a:lnTo>
                    <a:pt x="1365" y="140"/>
                  </a:lnTo>
                  <a:lnTo>
                    <a:pt x="1263" y="200"/>
                  </a:lnTo>
                  <a:lnTo>
                    <a:pt x="1160" y="255"/>
                  </a:lnTo>
                  <a:lnTo>
                    <a:pt x="883" y="427"/>
                  </a:lnTo>
                  <a:lnTo>
                    <a:pt x="656" y="572"/>
                  </a:lnTo>
                  <a:lnTo>
                    <a:pt x="605" y="628"/>
                  </a:lnTo>
                  <a:lnTo>
                    <a:pt x="481" y="713"/>
                  </a:lnTo>
                  <a:lnTo>
                    <a:pt x="405" y="743"/>
                  </a:lnTo>
                  <a:lnTo>
                    <a:pt x="353" y="798"/>
                  </a:lnTo>
                  <a:lnTo>
                    <a:pt x="302" y="828"/>
                  </a:lnTo>
                  <a:lnTo>
                    <a:pt x="226" y="913"/>
                  </a:lnTo>
                  <a:lnTo>
                    <a:pt x="175" y="939"/>
                  </a:lnTo>
                  <a:lnTo>
                    <a:pt x="25" y="1111"/>
                  </a:lnTo>
                  <a:lnTo>
                    <a:pt x="25" y="1141"/>
                  </a:lnTo>
                  <a:lnTo>
                    <a:pt x="0" y="1170"/>
                  </a:lnTo>
                  <a:lnTo>
                    <a:pt x="0" y="1200"/>
                  </a:lnTo>
                  <a:lnTo>
                    <a:pt x="25" y="1256"/>
                  </a:lnTo>
                  <a:lnTo>
                    <a:pt x="51" y="1256"/>
                  </a:lnTo>
                  <a:lnTo>
                    <a:pt x="76" y="1286"/>
                  </a:lnTo>
                  <a:lnTo>
                    <a:pt x="102" y="1286"/>
                  </a:lnTo>
                  <a:lnTo>
                    <a:pt x="153" y="1311"/>
                  </a:lnTo>
                  <a:lnTo>
                    <a:pt x="529" y="1311"/>
                  </a:lnTo>
                  <a:lnTo>
                    <a:pt x="656" y="1286"/>
                  </a:lnTo>
                  <a:lnTo>
                    <a:pt x="733" y="1286"/>
                  </a:lnTo>
                  <a:lnTo>
                    <a:pt x="883" y="1256"/>
                  </a:lnTo>
                  <a:lnTo>
                    <a:pt x="1036" y="1226"/>
                  </a:lnTo>
                  <a:lnTo>
                    <a:pt x="1135" y="1200"/>
                  </a:lnTo>
                  <a:lnTo>
                    <a:pt x="1314" y="1170"/>
                  </a:lnTo>
                  <a:lnTo>
                    <a:pt x="1416" y="1141"/>
                  </a:lnTo>
                  <a:lnTo>
                    <a:pt x="1515" y="1111"/>
                  </a:lnTo>
                  <a:lnTo>
                    <a:pt x="1617" y="1085"/>
                  </a:lnTo>
                  <a:lnTo>
                    <a:pt x="1745" y="1055"/>
                  </a:lnTo>
                  <a:lnTo>
                    <a:pt x="1844" y="1025"/>
                  </a:lnTo>
                  <a:lnTo>
                    <a:pt x="1971" y="1000"/>
                  </a:lnTo>
                  <a:lnTo>
                    <a:pt x="2223" y="913"/>
                  </a:lnTo>
                  <a:lnTo>
                    <a:pt x="2351" y="884"/>
                  </a:lnTo>
                  <a:lnTo>
                    <a:pt x="2501" y="828"/>
                  </a:lnTo>
                  <a:lnTo>
                    <a:pt x="2501" y="768"/>
                  </a:lnTo>
                  <a:lnTo>
                    <a:pt x="2475" y="768"/>
                  </a:lnTo>
                  <a:lnTo>
                    <a:pt x="2351" y="828"/>
                  </a:lnTo>
                  <a:lnTo>
                    <a:pt x="2223" y="854"/>
                  </a:lnTo>
                  <a:lnTo>
                    <a:pt x="1971" y="939"/>
                  </a:lnTo>
                  <a:lnTo>
                    <a:pt x="1844" y="969"/>
                  </a:lnTo>
                  <a:lnTo>
                    <a:pt x="1719" y="1000"/>
                  </a:lnTo>
                  <a:lnTo>
                    <a:pt x="1617" y="1025"/>
                  </a:lnTo>
                  <a:lnTo>
                    <a:pt x="1515" y="1055"/>
                  </a:lnTo>
                  <a:lnTo>
                    <a:pt x="1416" y="1085"/>
                  </a:lnTo>
                  <a:lnTo>
                    <a:pt x="1314" y="1111"/>
                  </a:lnTo>
                  <a:lnTo>
                    <a:pt x="1113" y="1141"/>
                  </a:lnTo>
                  <a:lnTo>
                    <a:pt x="1036" y="1170"/>
                  </a:lnTo>
                  <a:lnTo>
                    <a:pt x="857" y="1200"/>
                  </a:lnTo>
                  <a:lnTo>
                    <a:pt x="707" y="1226"/>
                  </a:lnTo>
                  <a:lnTo>
                    <a:pt x="631" y="1226"/>
                  </a:lnTo>
                  <a:lnTo>
                    <a:pt x="529" y="1256"/>
                  </a:lnTo>
                  <a:lnTo>
                    <a:pt x="153" y="1256"/>
                  </a:lnTo>
                  <a:lnTo>
                    <a:pt x="102" y="1226"/>
                  </a:lnTo>
                  <a:lnTo>
                    <a:pt x="76" y="1226"/>
                  </a:lnTo>
                  <a:lnTo>
                    <a:pt x="76" y="1200"/>
                  </a:lnTo>
                  <a:lnTo>
                    <a:pt x="51" y="1200"/>
                  </a:lnTo>
                  <a:lnTo>
                    <a:pt x="76" y="1170"/>
                  </a:lnTo>
                  <a:lnTo>
                    <a:pt x="76" y="1141"/>
                  </a:lnTo>
                  <a:lnTo>
                    <a:pt x="102" y="1111"/>
                  </a:lnTo>
                  <a:lnTo>
                    <a:pt x="102" y="1085"/>
                  </a:lnTo>
                  <a:lnTo>
                    <a:pt x="175" y="1000"/>
                  </a:lnTo>
                  <a:lnTo>
                    <a:pt x="226" y="969"/>
                  </a:lnTo>
                  <a:lnTo>
                    <a:pt x="251" y="939"/>
                  </a:lnTo>
                  <a:lnTo>
                    <a:pt x="328" y="884"/>
                  </a:lnTo>
                  <a:lnTo>
                    <a:pt x="379" y="828"/>
                  </a:lnTo>
                  <a:lnTo>
                    <a:pt x="430" y="798"/>
                  </a:lnTo>
                  <a:lnTo>
                    <a:pt x="503" y="743"/>
                  </a:lnTo>
                  <a:lnTo>
                    <a:pt x="631" y="657"/>
                  </a:lnTo>
                  <a:lnTo>
                    <a:pt x="682" y="628"/>
                  </a:lnTo>
                  <a:lnTo>
                    <a:pt x="908" y="487"/>
                  </a:lnTo>
                  <a:lnTo>
                    <a:pt x="1186" y="315"/>
                  </a:lnTo>
                  <a:lnTo>
                    <a:pt x="1289" y="255"/>
                  </a:lnTo>
                  <a:lnTo>
                    <a:pt x="1391" y="200"/>
                  </a:lnTo>
                  <a:lnTo>
                    <a:pt x="1490" y="140"/>
                  </a:lnTo>
                  <a:lnTo>
                    <a:pt x="1592" y="55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321000" y="5662440"/>
              <a:ext cx="128880" cy="117720"/>
            </a:xfrm>
            <a:custGeom>
              <a:avLst/>
              <a:gdLst/>
              <a:ahLst/>
              <a:rect l="0" t="0" r="r" b="b"/>
              <a:pathLst>
                <a:path w="358" h="327">
                  <a:moveTo>
                    <a:pt x="0" y="0"/>
                  </a:moveTo>
                  <a:lnTo>
                    <a:pt x="358" y="88"/>
                  </a:lnTo>
                  <a:lnTo>
                    <a:pt x="51" y="327"/>
                  </a:lnTo>
                  <a:lnTo>
                    <a:pt x="128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222880" y="3036960"/>
            <a:ext cx="697320" cy="576720"/>
            <a:chOff x="5222880" y="3036960"/>
            <a:chExt cx="697320" cy="576720"/>
          </a:xfrm>
        </p:grpSpPr>
        <p:sp>
          <p:nvSpPr>
            <p:cNvPr id="386" name=""/>
            <p:cNvSpPr/>
            <p:nvPr/>
          </p:nvSpPr>
          <p:spPr>
            <a:xfrm>
              <a:off x="5249880" y="3036960"/>
              <a:ext cx="670320" cy="576720"/>
            </a:xfrm>
            <a:custGeom>
              <a:avLst/>
              <a:gdLst/>
              <a:ahLst/>
              <a:rect l="0" t="0" r="r" b="b"/>
              <a:pathLst>
                <a:path w="1862" h="1602">
                  <a:moveTo>
                    <a:pt x="677" y="1534"/>
                  </a:moveTo>
                  <a:lnTo>
                    <a:pt x="677" y="1602"/>
                  </a:lnTo>
                  <a:lnTo>
                    <a:pt x="696" y="1602"/>
                  </a:lnTo>
                  <a:lnTo>
                    <a:pt x="772" y="1498"/>
                  </a:lnTo>
                  <a:lnTo>
                    <a:pt x="846" y="1430"/>
                  </a:lnTo>
                  <a:lnTo>
                    <a:pt x="921" y="1357"/>
                  </a:lnTo>
                  <a:lnTo>
                    <a:pt x="997" y="1289"/>
                  </a:lnTo>
                  <a:lnTo>
                    <a:pt x="1204" y="1080"/>
                  </a:lnTo>
                  <a:lnTo>
                    <a:pt x="1372" y="903"/>
                  </a:lnTo>
                  <a:lnTo>
                    <a:pt x="1411" y="835"/>
                  </a:lnTo>
                  <a:lnTo>
                    <a:pt x="1504" y="730"/>
                  </a:lnTo>
                  <a:lnTo>
                    <a:pt x="1561" y="694"/>
                  </a:lnTo>
                  <a:lnTo>
                    <a:pt x="1599" y="626"/>
                  </a:lnTo>
                  <a:lnTo>
                    <a:pt x="1637" y="590"/>
                  </a:lnTo>
                  <a:lnTo>
                    <a:pt x="1694" y="485"/>
                  </a:lnTo>
                  <a:lnTo>
                    <a:pt x="1732" y="454"/>
                  </a:lnTo>
                  <a:lnTo>
                    <a:pt x="1843" y="245"/>
                  </a:lnTo>
                  <a:lnTo>
                    <a:pt x="1843" y="208"/>
                  </a:lnTo>
                  <a:lnTo>
                    <a:pt x="1862" y="172"/>
                  </a:lnTo>
                  <a:lnTo>
                    <a:pt x="1862" y="135"/>
                  </a:lnTo>
                  <a:lnTo>
                    <a:pt x="1843" y="67"/>
                  </a:lnTo>
                  <a:lnTo>
                    <a:pt x="1824" y="67"/>
                  </a:lnTo>
                  <a:lnTo>
                    <a:pt x="1805" y="31"/>
                  </a:lnTo>
                  <a:lnTo>
                    <a:pt x="1786" y="31"/>
                  </a:lnTo>
                  <a:lnTo>
                    <a:pt x="1748" y="0"/>
                  </a:lnTo>
                  <a:lnTo>
                    <a:pt x="1468" y="0"/>
                  </a:lnTo>
                  <a:lnTo>
                    <a:pt x="1372" y="31"/>
                  </a:lnTo>
                  <a:lnTo>
                    <a:pt x="1315" y="31"/>
                  </a:lnTo>
                  <a:lnTo>
                    <a:pt x="1204" y="67"/>
                  </a:lnTo>
                  <a:lnTo>
                    <a:pt x="1090" y="104"/>
                  </a:lnTo>
                  <a:lnTo>
                    <a:pt x="1016" y="135"/>
                  </a:lnTo>
                  <a:lnTo>
                    <a:pt x="883" y="172"/>
                  </a:lnTo>
                  <a:lnTo>
                    <a:pt x="808" y="208"/>
                  </a:lnTo>
                  <a:lnTo>
                    <a:pt x="734" y="245"/>
                  </a:lnTo>
                  <a:lnTo>
                    <a:pt x="658" y="276"/>
                  </a:lnTo>
                  <a:lnTo>
                    <a:pt x="563" y="312"/>
                  </a:lnTo>
                  <a:lnTo>
                    <a:pt x="489" y="349"/>
                  </a:lnTo>
                  <a:lnTo>
                    <a:pt x="394" y="380"/>
                  </a:lnTo>
                  <a:lnTo>
                    <a:pt x="206" y="485"/>
                  </a:lnTo>
                  <a:lnTo>
                    <a:pt x="111" y="522"/>
                  </a:lnTo>
                  <a:lnTo>
                    <a:pt x="0" y="590"/>
                  </a:lnTo>
                  <a:lnTo>
                    <a:pt x="0" y="663"/>
                  </a:lnTo>
                  <a:lnTo>
                    <a:pt x="18" y="663"/>
                  </a:lnTo>
                  <a:lnTo>
                    <a:pt x="111" y="590"/>
                  </a:lnTo>
                  <a:lnTo>
                    <a:pt x="206" y="558"/>
                  </a:lnTo>
                  <a:lnTo>
                    <a:pt x="394" y="454"/>
                  </a:lnTo>
                  <a:lnTo>
                    <a:pt x="489" y="418"/>
                  </a:lnTo>
                  <a:lnTo>
                    <a:pt x="582" y="380"/>
                  </a:lnTo>
                  <a:lnTo>
                    <a:pt x="658" y="349"/>
                  </a:lnTo>
                  <a:lnTo>
                    <a:pt x="734" y="312"/>
                  </a:lnTo>
                  <a:lnTo>
                    <a:pt x="808" y="276"/>
                  </a:lnTo>
                  <a:lnTo>
                    <a:pt x="883" y="245"/>
                  </a:lnTo>
                  <a:lnTo>
                    <a:pt x="1033" y="208"/>
                  </a:lnTo>
                  <a:lnTo>
                    <a:pt x="1090" y="172"/>
                  </a:lnTo>
                  <a:lnTo>
                    <a:pt x="1223" y="135"/>
                  </a:lnTo>
                  <a:lnTo>
                    <a:pt x="1334" y="104"/>
                  </a:lnTo>
                  <a:lnTo>
                    <a:pt x="1391" y="104"/>
                  </a:lnTo>
                  <a:lnTo>
                    <a:pt x="1468" y="67"/>
                  </a:lnTo>
                  <a:lnTo>
                    <a:pt x="1748" y="67"/>
                  </a:lnTo>
                  <a:lnTo>
                    <a:pt x="1786" y="104"/>
                  </a:lnTo>
                  <a:lnTo>
                    <a:pt x="1805" y="104"/>
                  </a:lnTo>
                  <a:lnTo>
                    <a:pt x="1805" y="135"/>
                  </a:lnTo>
                  <a:lnTo>
                    <a:pt x="1824" y="135"/>
                  </a:lnTo>
                  <a:lnTo>
                    <a:pt x="1805" y="172"/>
                  </a:lnTo>
                  <a:lnTo>
                    <a:pt x="1805" y="208"/>
                  </a:lnTo>
                  <a:lnTo>
                    <a:pt x="1786" y="245"/>
                  </a:lnTo>
                  <a:lnTo>
                    <a:pt x="1786" y="276"/>
                  </a:lnTo>
                  <a:lnTo>
                    <a:pt x="1732" y="380"/>
                  </a:lnTo>
                  <a:lnTo>
                    <a:pt x="1694" y="418"/>
                  </a:lnTo>
                  <a:lnTo>
                    <a:pt x="1675" y="454"/>
                  </a:lnTo>
                  <a:lnTo>
                    <a:pt x="1618" y="522"/>
                  </a:lnTo>
                  <a:lnTo>
                    <a:pt x="1580" y="590"/>
                  </a:lnTo>
                  <a:lnTo>
                    <a:pt x="1542" y="626"/>
                  </a:lnTo>
                  <a:lnTo>
                    <a:pt x="1487" y="694"/>
                  </a:lnTo>
                  <a:lnTo>
                    <a:pt x="1391" y="798"/>
                  </a:lnTo>
                  <a:lnTo>
                    <a:pt x="1353" y="835"/>
                  </a:lnTo>
                  <a:lnTo>
                    <a:pt x="1185" y="1007"/>
                  </a:lnTo>
                  <a:lnTo>
                    <a:pt x="978" y="1216"/>
                  </a:lnTo>
                  <a:lnTo>
                    <a:pt x="902" y="1289"/>
                  </a:lnTo>
                  <a:lnTo>
                    <a:pt x="827" y="1357"/>
                  </a:lnTo>
                  <a:lnTo>
                    <a:pt x="753" y="1430"/>
                  </a:lnTo>
                  <a:lnTo>
                    <a:pt x="677" y="1534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222880" y="3179880"/>
              <a:ext cx="95760" cy="143280"/>
            </a:xfrm>
            <a:custGeom>
              <a:avLst/>
              <a:gdLst/>
              <a:ahLst/>
              <a:rect l="0" t="0" r="r" b="b"/>
              <a:pathLst>
                <a:path w="266" h="398">
                  <a:moveTo>
                    <a:pt x="266" y="398"/>
                  </a:moveTo>
                  <a:lnTo>
                    <a:pt x="0" y="290"/>
                  </a:lnTo>
                  <a:lnTo>
                    <a:pt x="228" y="0"/>
                  </a:lnTo>
                  <a:lnTo>
                    <a:pt x="170" y="215"/>
                  </a:lnTo>
                  <a:lnTo>
                    <a:pt x="266" y="398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 txBox="1"/>
          <p:nvPr/>
        </p:nvSpPr>
        <p:spPr>
          <a:xfrm>
            <a:off x="2433600" y="2502000"/>
            <a:ext cx="1190520" cy="5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ccessfu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92840" y="2387520"/>
            <a:ext cx="10746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ass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818320" y="3327480"/>
            <a:ext cx="8334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ass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957320" y="5187960"/>
            <a:ext cx="81288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lass 1, 2 &amp;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381640" y="1855800"/>
            <a:ext cx="2175120" cy="3664440"/>
            <a:chOff x="5381640" y="1855800"/>
            <a:chExt cx="2175120" cy="3664440"/>
          </a:xfrm>
        </p:grpSpPr>
        <p:sp>
          <p:nvSpPr>
            <p:cNvPr id="393" name=""/>
            <p:cNvSpPr/>
            <p:nvPr/>
          </p:nvSpPr>
          <p:spPr>
            <a:xfrm>
              <a:off x="5452920" y="1919160"/>
              <a:ext cx="2103840" cy="2048400"/>
            </a:xfrm>
            <a:custGeom>
              <a:avLst/>
              <a:gdLst/>
              <a:ahLst/>
              <a:rect l="0" t="0" r="r" b="b"/>
              <a:pathLst>
                <a:path fill="none" w="5844" h="5690">
                  <a:moveTo>
                    <a:pt x="5844" y="5690"/>
                  </a:moveTo>
                  <a:lnTo>
                    <a:pt x="5844" y="5690"/>
                  </a:lnTo>
                  <a:lnTo>
                    <a:pt x="5844" y="5690"/>
                  </a:lnTo>
                  <a:cubicBezTo>
                    <a:pt x="5844" y="4691"/>
                    <a:pt x="5574" y="3710"/>
                    <a:pt x="5061" y="2845"/>
                  </a:cubicBezTo>
                  <a:cubicBezTo>
                    <a:pt x="4548" y="1980"/>
                    <a:pt x="3810" y="1262"/>
                    <a:pt x="2922" y="762"/>
                  </a:cubicBezTo>
                  <a:cubicBezTo>
                    <a:pt x="2034" y="263"/>
                    <a:pt x="1026" y="0"/>
                    <a:pt x="0" y="0"/>
                  </a:cubicBezTo>
                </a:path>
              </a:pathLst>
            </a:custGeom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81640" y="3967200"/>
              <a:ext cx="2173680" cy="1553040"/>
            </a:xfrm>
            <a:custGeom>
              <a:avLst/>
              <a:gdLst/>
              <a:ahLst/>
              <a:rect l="0" t="0" r="r" b="b"/>
              <a:pathLst>
                <a:path fill="none" w="6038" h="4314">
                  <a:moveTo>
                    <a:pt x="0" y="4314"/>
                  </a:moveTo>
                  <a:lnTo>
                    <a:pt x="0" y="4314"/>
                  </a:lnTo>
                  <a:cubicBezTo>
                    <a:pt x="1060" y="4314"/>
                    <a:pt x="2101" y="4115"/>
                    <a:pt x="3019" y="3736"/>
                  </a:cubicBezTo>
                  <a:cubicBezTo>
                    <a:pt x="3937" y="3357"/>
                    <a:pt x="4699" y="2813"/>
                    <a:pt x="5229" y="2157"/>
                  </a:cubicBezTo>
                  <a:cubicBezTo>
                    <a:pt x="5759" y="1501"/>
                    <a:pt x="6038" y="757"/>
                    <a:pt x="6038" y="0"/>
                  </a:cubicBezTo>
                </a:path>
              </a:pathLst>
            </a:custGeom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423040" y="1855800"/>
              <a:ext cx="136800" cy="138600"/>
            </a:xfrm>
            <a:custGeom>
              <a:avLst/>
              <a:gdLst/>
              <a:ahLst/>
              <a:rect l="0" t="0" r="r" b="b"/>
              <a:pathLst>
                <a:path w="380" h="385">
                  <a:moveTo>
                    <a:pt x="380" y="385"/>
                  </a:moveTo>
                  <a:lnTo>
                    <a:pt x="0" y="212"/>
                  </a:lnTo>
                  <a:lnTo>
                    <a:pt x="380" y="0"/>
                  </a:lnTo>
                  <a:lnTo>
                    <a:pt x="265" y="212"/>
                  </a:lnTo>
                  <a:lnTo>
                    <a:pt x="380" y="385"/>
                  </a:lnTo>
                  <a:close/>
                </a:path>
              </a:pathLst>
            </a:custGeom>
            <a:solidFill>
              <a:srgbClr val="ff00ff"/>
            </a:solidFill>
            <a:ln w="12600">
              <a:solidFill>
                <a:srgbClr val="ff00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 txBox="1"/>
          <p:nvPr/>
        </p:nvSpPr>
        <p:spPr>
          <a:xfrm>
            <a:off x="6345360" y="1841400"/>
            <a:ext cx="1521000" cy="4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558880" y="4135320"/>
            <a:ext cx="117792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75120" y="4297320"/>
            <a:ext cx="137304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sassoca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ss 1 frames (any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gal from within States 1, 2 an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trol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gt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be R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e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ccess enables Class 2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ailure leaves STA in State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erminology problem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loose english concepts of “within a BSS”, “within an ESS”, “a member of a BSS”, “associated” and “in the same physical volume” have been used interchangeab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has caused much confusion among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 are several of these cases depending on how the loose terms are interpr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1 -&gt; 2 tran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ccessful Authentication frames sequence transitions to stat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ss 2 frames (IFF Authentic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gal from within States 1, 2 an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ta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ync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Direct only NOT to/from 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gt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sociation R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ccess enables Class 3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ailure leaves STA in state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2 -&gt; 3 transition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ccessful Association frames sequence transitions to state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90720" y="132876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ss 3 frames (IFF Associ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gal from within States 1, 2 and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ta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yn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Direct and indirect allow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gt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ivacy R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association R/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issa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tinue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990720" y="13255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ss 3 frames (IFF Associa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Data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CF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CF DATA + 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Control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CF 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3 -&gt; 2 transition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issasociation: STA now Unassociated, so back to state 2 and Class 2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 State vs 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ate 2 or 3 -&gt; 1 transition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urrent draft assumes Authentication is aged during inactive perio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can result in “disauthentication” as an error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isauthenticaion =&gt; Disassocaition, so is back to State 1 and Class 1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As shown in B3 state diagra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hat in order to provide WDS support, the extensions and corrections to B3 contained in 94/248 and 94/248A be adopted and that the changes be incoroprated into draft B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et’s get more formal in terminolo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ddr(sta) == 802.11 MAC address of a 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can only be a wireless medium address as that is the only address space used by 802.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notation is for 802.11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covers both STAs and APs, since APs are addressable STAs within the 802.11 MAC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Saddr(sta) == the DS address of an 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the address used by the DS to address the </a:t>
            </a: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S side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of an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details of the DS address space are dependent on the DS implementation and outside the scope of 802.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 single DS implementation that 802.11 impacts is when a DS is implemented using an 802.11 wireless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