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7924680" cy="6324480"/>
          </a:xfrm>
          <a:prstGeom prst="roundRect">
            <a:avLst/>
          </a:prstGeom>
          <a:noFill/>
          <a:ln w="12600">
            <a:solidFill>
              <a:srgbClr val="00279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1203480" y="6545160"/>
            <a:ext cx="695952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EEE 802.11 presentation Nov. 1994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age </a:t>
            </a:r>
            <a:fld id="{A6853D93-F78A-41C8-9850-D81941582F9E}" type="slidenum"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            94/249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WEP - Wired Equivalent Priv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WEP Fea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Wired Equivalent Str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Very good replacement for wire physical propert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Privacy strength actually better that many wire exam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Not perfect, absolute privacy, is a good “wired equivalent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Effic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F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Less than one page of C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Self synchroniz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Each MSDU cryptographicly indepen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IP f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Public domain algorith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ontinued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WEP Fea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Designed for probable ex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Conforms to SPA guidel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No guarant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that’s now how the system wo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An 802.11 o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Because of export vari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WEP Encipher Block Diagr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04880" y="1935000"/>
            <a:ext cx="7718400" cy="22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WEP Decryption Block Diagr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95240" y="1968480"/>
            <a:ext cx="7559640" cy="23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WEP Algorith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Less than one page of C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Very effic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Easy implementation in either software or hard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See 94/249 for algorithm deta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Motio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hat the changes to B3 contained in 94/249 be adopted and incorporated in the 20B4 802.11 draft standard and that Issues 6.6 and 6.10 be closed and updated to reflect the adoption of the WEP propo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