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83808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432480" y="531720"/>
            <a:ext cx="2341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–94/25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398680" y="48744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ified CF–A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9320" y="1447920"/>
            <a:ext cx="808380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078760" y="103680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874D7F49-C467-4BA7-A878-C61790361C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04800" y="555480"/>
            <a:ext cx="1370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gital Oce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implified CF-Async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905120"/>
            <a:ext cx="60958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chael Fisch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gital Ocean, I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F-Period Usage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 Only Data frames (and resulting Ack frames, if any) shall be sent during the CF-period.  All management frames shall be sent during the contention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A PCF may send Async Data frames to any active station (not to stations in PSP or PSNP mo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-aware stations shall acknowledge receipt of each Async Data frame (from the PCF) that has CF-Poll=1 using CF-Ack=1 in a Data frame (possibly with No-Data=1), sent after an SIFS–interval; and shall acknowledge the receipt of all other Async Data frames using ACK Control frames sent after an SIFS–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-CF-aware stations shall acknowledge receipt of (all) Async Data frames using ACK Control frames sent after an SIFS–interval.  (This is the same as these stations already do for contention–based asyn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F-Period Usage Rule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09480" y="1523880"/>
            <a:ext cx="815328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When polled by the PCF (CF-Poll=1 in the header of a directed Data frame), a CF-aware station may send one Data frame to any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h a frame directed to or through the PCF station shall be acknowledged by the PCF, using CF-Ack=1 in a Data frame (possibly with No-Data=1), sent after an SIFS–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ch a frame directed to non–PCF stations shall be acknowledged using an ACK Control frame sent after an SIFS–interval.  (This is the same as these stations already do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polled CF-aware station with neither a Data frame nor acknowledgement to send shall not respond, permitting the PCF to resume transmission after a PIFS–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The PCF shall not send Data frames with CF-Poll=1 if insufficient time remains in the current CF-Period to permit the polled station to transmit a Data frame containing a maximum–length MP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To restore the explicit CF-Poll capability lost in 93/20b3, using a bit in the Frame Subtype, as defined in document 94/25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otion not made due to approval of Motion #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To eliminate the use of zero–length CF-Async frames for polling and acknowledgement when there is no CF-Async data, using instead a “no data” bit in the Frame Subtype, as defined in document 94/25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otion not made due to approval of Motion #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To adopt the changes to contention free asynchronous operation, including frame types/subtypes, usage rules, IFS durations, etc. as defined in document 94/25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otion not made due to approval of Motion #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To adopt the changes to contention free asynchronous operation, including frame types/subtypes, usage rules, IFS durations, etc. as defined in document 94/252; and to modify the updates to section 4.1.2.1.2. to desginate the “reserved” frame type (type code =11) as “time bounded” fram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this motion was approved in MAC group 18-2-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F-Async Fundamen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F-Async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livery moda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not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rvice cla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h contention-based Async and CF-Async deliver frames for the “asynchronous data” service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-Bounded Services involve one or more, service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F-Async differs from contention-based async in media access and control commun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the medium for CF-Async transmission is controlled by the PCF.  Stations receive permission to transmit when “polled” by the PC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F-Async frames are delivered without contention delays and backoffs, but only during the CF-Period of each super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F-Async acknowledgements and polls are (generally) piggybacked on the headers of CF-Async data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ings to Change About CF-Asy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Unify asynchronous data hand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iminate the separate CF fram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consistent acknowledgement ti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ine rules under which all active stations can receive asynchronous data frames during the contention period and the contention free 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Correct some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 a mechanism broken in 20b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 a latent flaw present in 20b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rify the rules for usage of the CF-peri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liminating the CF Fr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523880"/>
            <a:ext cx="8153280" cy="46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F-Async does not need a separate frame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defining some new subtypes, all asynchronous data frames can use the “Asynchronous” data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simplifies the use of either contention-based async or CF-Async for data frame transmission at stations that support both delivery moda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creates a reserved frame type, which may be useful for other service classes.  (Time-Bounded Service may be able to benefit from using the spare frame typ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ing a single frame type simplifies asynchronous data delivery and allows simpler control state machines, especially for IFS and Ack gen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E:  The terms “CF-up” and “CF-down” that still appear in the draft are strictly descriptive (meaning to and from the PCF, respectively).  The adoption of 94/236 eliminated the CF-up and CF-down frame types (which are unnecessar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is Optional About CF-Asyn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bility for a station to operate as the PCF is op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ptions concerning contention-free “service” pertain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ss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ring the CF-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stations c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eiv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ata frames sent as CF-Asy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may optionall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m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data frames when polled by the PC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that are not “CF–Aware” acknowledge CF-Data frame reception identically to contention-based data frames (by sending an ACK control fram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limination of the separate CF frame type simplifies the reception of asynchronous data frames by non–CF–Awar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Fixing a Broke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 changes from 94/236 broke a PCF mech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F-Poll frame control bit was eliminated, using the receipt of a CF frame from the PCF as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mplic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-Po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out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plic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-Poll function, the PCF has no way to acknowledge a received CF frame without granting access to the medium.  This means that, under certain condition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F–PERIOD MIGHT NEVER 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st way to correct this is to use one of the Subtype bits to encode the “CF-Poll” function.  This is detailed in a subsequen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Fixing a Latent F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1523880"/>
            <a:ext cx="8153280" cy="478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CF description in 93/20bX contains a flawed mech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unication of CF-Poll and CF-Ack indications, when there is no CF-Data frame to transfer, is specified to occur using a CF-Data frame with a zero–length paylo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a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roa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receipt of a data frame generates an indication to the receiver’s LLC, even for zero–length payl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is no mechanism to distinguish zero–length MSDUs provided by the transmitting LLC and zero–length CF-Data frames generated by the M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best way to correct this is to use one of the Subtype bits to encode a “no payload” function.  This is detailed in a subsequent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implified IFS Usage During the C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523880"/>
            <a:ext cx="8153280" cy="460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lternating use of PIFS and SIFS during the CF-Period is unnecessary and ineffic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IFS is require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two sit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 the beginning of the CF-Period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To allow the PCF to gain control of the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ing the CF-Period, when the recipient of a CF frame from the PCF fails to respond within an SIFS interval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To allow the PCF to retain control of the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IFS should be used betwee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ther frames during the CF-Peri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ontrol state machine is simplified because all acknowledgements, whether in ACK control frames or piggybacked in CF-Data+Ack frames, are expected an SIFS–duration after the associated data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ime required to send a given set of frames during the CF-Period is redu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Async Data Subtyp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2514600"/>
            <a:ext cx="815328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b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t 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0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S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(same as 20b3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0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F-S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+CF-Ack (same as 20b3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0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+CF-Po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0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+CF-Ack+CF-Pol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1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(any?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ull fun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1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F-S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F-Ack (no dat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1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F-Poll (no dat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1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C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F-Ack+CF-Poll (no dat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xx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n–CF–aware stations only need to test for “No–Data = 0” in the Subtype field of Async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CF–related combination already needs to be handled by the PCF and/or CF–aware stations (see 94/207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16765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16765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16765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16765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16765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10480" y="167652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89480" y="1825560"/>
            <a:ext cx="1212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167652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765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16765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23623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236232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23623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236232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61080" y="1825560"/>
            <a:ext cx="11113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–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156360" y="1825560"/>
            <a:ext cx="10350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F–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451640" y="1825560"/>
            <a:ext cx="103500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F–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69960" y="1841400"/>
            <a:ext cx="24876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sync Sub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