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305840" y="455760"/>
            <a:ext cx="2273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4/254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638440" y="258840"/>
            <a:ext cx="4446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 Format adjustment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9000" y="1447920"/>
            <a:ext cx="840132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594640" y="103680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2573EF46-CD67-400C-A74B-0D15DA398D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581040" y="531720"/>
            <a:ext cx="1257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&amp;T /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74640" y="2133720"/>
            <a:ext cx="83170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ame Format adjus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y: Wim Diepstra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ichael Fisch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Resulting changes compared to 20B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74640" y="1447920"/>
            <a:ext cx="8850240" cy="44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D functionality rest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restore the AP-to-AP functionality and other as was available in 20B2, but was inadvertently lost in 20B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D contains a 12 bit random number rather then a Ha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minates need for 6 Byte address fields in RTS,CTS and 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quence# and Fragment# fields eliminated / 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D allows Duplicate detection, and contains the F#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ess Filtering and Duration fields always on fixed field position in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duced / Simplified address comparison requirements an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SSID filtering only needed on BC/MC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ader lengths have been considerably de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ifferent address field filters:</a:t>
            </a: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mproved Frame ordering of 94/254 simplifies address field filt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bility of Address fields is resolved in the transmi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 rules are static and requires no real-time proce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248 proposal requires additional receiver complex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l time filter complexity in the rece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rules for AP and a S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TS and Data have different filtering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field used as return address in the Ack is differe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an AP it is the SA or TA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an Infrastructure Station it is the BSS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an Ad-Hoc station it is the SA fi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8380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P Filtering (248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523880"/>
            <a:ext cx="9067680" cy="46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R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       SA 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 to D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BSSID  DA  SA  S#  F#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or to AP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 to AP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RA        DA  TA   S#  F#  DUR 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Address Filtering            =Field copy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’s filter always on first address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ta to AP works because BSSID=Maddr(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1523880"/>
            <a:ext cx="533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52880" y="1447920"/>
            <a:ext cx="60948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19720" y="1828800"/>
            <a:ext cx="53316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62520" y="2819520"/>
            <a:ext cx="9907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62520" y="4114800"/>
            <a:ext cx="533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4572000"/>
            <a:ext cx="533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62520" y="3276720"/>
            <a:ext cx="533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0512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2819520"/>
            <a:ext cx="60948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38680" y="4114800"/>
            <a:ext cx="60948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724280" y="3124080"/>
            <a:ext cx="990720" cy="3049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572000" y="449568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50292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95288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Station Filtering (248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50960" y="1523880"/>
            <a:ext cx="839304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R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       SA 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S to S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BSSID  DA  SA   S#  F#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0160" indent="-17136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 to S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BSSID  DA  SA   S#  F#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0160" indent="-17136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A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 to S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BSSID  DA  SA   S#  F#  D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Address Filtering            =Field copy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filter depending on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ield used for Ack address depends on From b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1523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1447920"/>
            <a:ext cx="60948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572000" y="1828800"/>
            <a:ext cx="53352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236232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411480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4572000"/>
            <a:ext cx="533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14800" y="2819520"/>
            <a:ext cx="533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114800" y="1905120"/>
            <a:ext cx="533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14800" y="2362320"/>
            <a:ext cx="106668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4114800"/>
            <a:ext cx="60948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724280" y="4572000"/>
            <a:ext cx="106704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81480" y="327672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2666880"/>
            <a:ext cx="228960" cy="305280"/>
          </a:xfrm>
          <a:custGeom>
            <a:avLst/>
            <a:gdLst/>
            <a:ahLst/>
            <a:rect l="0" t="0" r="r" b="b"/>
            <a:pathLst>
              <a:path fill="none" w="636" h="848">
                <a:moveTo>
                  <a:pt x="636" y="0"/>
                </a:moveTo>
                <a:lnTo>
                  <a:pt x="636" y="424"/>
                </a:lnTo>
                <a:lnTo>
                  <a:pt x="0" y="848"/>
                </a:ln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3200400"/>
            <a:ext cx="609480" cy="45720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24280" y="3657600"/>
            <a:ext cx="106704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657600"/>
            <a:ext cx="53352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0292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495288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267080" y="1905120"/>
            <a:ext cx="609480" cy="457200"/>
          </a:xfrm>
          <a:prstGeom prst="round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3733920"/>
            <a:ext cx="609480" cy="304920"/>
          </a:xfrm>
          <a:prstGeom prst="round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819520"/>
            <a:ext cx="609480" cy="380880"/>
          </a:xfrm>
          <a:prstGeom prst="round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5486400"/>
            <a:ext cx="609480" cy="380880"/>
          </a:xfrm>
          <a:prstGeom prst="round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572000"/>
            <a:ext cx="609480" cy="380880"/>
          </a:xfrm>
          <a:prstGeom prst="round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03240" y="1523880"/>
            <a:ext cx="839304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R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  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 to S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  RA   BID  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 to AP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  RA   DA    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0160" indent="-17136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 to S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  RA   BID  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00160" indent="-17136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 to AP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  RA   DA   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  MID   D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Address Filtering            =Field copy         =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ry consistent filtering independent of AP/Sta or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94/254 Filte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67280" y="152388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236232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867280" y="502920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411480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327672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152388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236232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7672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41148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50292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5943600"/>
            <a:ext cx="762120" cy="380880"/>
          </a:xfrm>
          <a:prstGeom prst="ellipse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5867280"/>
            <a:ext cx="609480" cy="38088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5867280"/>
            <a:ext cx="609480" cy="380880"/>
          </a:xfrm>
          <a:prstGeom prst="roundRect">
            <a:avLst/>
          </a:prstGeom>
          <a:solidFill>
            <a:srgbClr val="cecece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20B2 version MPDUID functions are restored and repaired and combined with fragment numbering in the MID cons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connectivity functionality is rest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plicate filtering function improved compared to 2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need for separate Fragment number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other 236 changes are ado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me format field sequence is adapted for consistent filtering implem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unique formats needed to support all connectivity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ere are w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50960" y="160020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ivity problems in 236 are recognised and considered va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D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 to Station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wo proposals that try to correct the 236/20B3 fla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sms proposed are diffe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s in WDS support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eparate Frame format with 6 more Bytes is suggested in  248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 in implementation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specially filtering differ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 in Frame over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 does this compare with 24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proposals offer the same function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in difference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anteed uniqueness versus acceptable failure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overhead versus Low overh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s in real time filtering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248 proposal can be improved to reduce the field order to ease filt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does not solve the separate WDS frame format, unless an extra address field is added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ery fram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uniform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scorrelation probability is very 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compares to the Lost frame probability of an Ethernet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3 with 10e-9 BER will have 5e-6 packet failure rate when using 600 Byte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er layers are designed to cope with th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 270 does not take all factors into ac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collision probability is not consid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scorrelation only is an issue when there is an medium access collision with an approximate equal length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 270 assumes a high danger of repeated matching err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 did take bimodal frame length distribution into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enefit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54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s W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s W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form header length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DS headers hav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6 octets inserte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and removed en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er filtering than 20b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filtering as 20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wer overhead than 20b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overhead as 20b3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RT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8 octets vs. 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except +6 octets for W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RT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0 octets vs.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k of miscorrel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risk of miscorrel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frame in 3e5 (under rath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ssimistic assump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roblems identified in 23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03240" y="160020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nnectivity functionality is decreased compared to the B2 dr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not allow AP-to-AP transf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ra Station to/from Ad-Hoc station not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a problem with Sta-to-Sta Acknowled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complex Filtering requirements in 2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t address field filters for station and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t fields involved as source for returning the CTS or Ack 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me overhead is significantly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scorrelation:  A NON–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-layer acknowledgement is for us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MAC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or use by higher lay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3 has no MAC-layer acknowled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802.5 “frame copied” bit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 use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by higher lay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rience with ARCNET has indicates strongly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rely upon indication of MAC acknowledgement to mean that the recipient NOS (vs. recipient NIC) received the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N protocol stacks use acknowledgement at the Network and/or Transport lay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miscorrelation is indistinguishable, by LLC and higher layers, from an 802.3 frame that has no collision detected, but does not reach the intended recip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common LAN protocol stacks work over 802.3, where higher-layer acknowledgement 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onfirmation of delive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scorrelation:  A Rare Occu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50960" y="1523880"/>
            <a:ext cx="839304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equence of events for a miscorrel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pessimistic)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ultaneous TX start </a:t>
            </a:r>
            <a:r>
              <a:rPr b="1" lang="en-US" sz="1800" spc="-1" strike="noStrike">
                <a:solidFill>
                  <a:srgbClr val="000000"/>
                </a:solidFill>
                <a:latin typeface="Garamond Narrow"/>
                <a:ea typeface="Garamond Narrow"/>
              </a:rPr>
              <a:t>[NOTE 1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frame 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rox. equal frame length </a:t>
            </a:r>
            <a:r>
              <a:rPr b="1" lang="en-US" sz="1800" spc="-1" strike="noStrike">
                <a:solidFill>
                  <a:srgbClr val="000000"/>
                </a:solidFill>
                <a:latin typeface="Garamond Narrow"/>
                <a:ea typeface="Garamond Narrow"/>
              </a:rPr>
              <a:t>[NOTE 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fragment number </a:t>
            </a:r>
            <a:r>
              <a:rPr b="1" lang="en-US" sz="1800" spc="-1" strike="noStrike">
                <a:solidFill>
                  <a:srgbClr val="000000"/>
                </a:solidFill>
                <a:latin typeface="Garamond Narrow"/>
                <a:ea typeface="Garamond Narrow"/>
              </a:rPr>
              <a:t>[NOTE 3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ctly 1 frame received correct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Dialog Token val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4e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ALL PROBABIL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05e-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1:  Pessimistic, assuming a CWmin=32 slots then  p= 0.03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2:  This requires &gt;70% of frames to be equal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3:  Assumes BSS that does not require fragmentation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robability decreases as p(equal frame length)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scorrelation:  The Bottom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requency of miscorrelation is no worse, and typically much better, than frame loss on a wired 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wired LAN with 1e-9 BER will fail to deliver 600-octet frames due to bit errors with p= 5e-6; and 1100-octet frames due to bit errors with p= 9e-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254 proposal will fail to deliver frames due to miscorrelation with p&lt; 3e-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protocol stack works over 802.3, it will work just as well over 802.11 using this 254 proposal, and better (due to shorter headers and simpler filtering) than 802.11 using 24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Extreme case analy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74640" y="1523880"/>
            <a:ext cx="8393040" cy="43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equence of events for a miscorrela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v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Very pessimistic)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gh Simultaneous TX start </a:t>
            </a:r>
            <a:r>
              <a:rPr b="1" lang="en-US" sz="1800" spc="-1" strike="noStrike">
                <a:solidFill>
                  <a:srgbClr val="000000"/>
                </a:solidFill>
                <a:latin typeface="Garamond Narrow"/>
                <a:ea typeface="Garamond Narrow"/>
              </a:rPr>
              <a:t>[NOTE 1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frame 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rox. equal frame length </a:t>
            </a:r>
            <a:r>
              <a:rPr b="1" lang="en-US" sz="1800" spc="-1" strike="noStrike">
                <a:solidFill>
                  <a:srgbClr val="000000"/>
                </a:solidFill>
                <a:latin typeface="Garamond Narrow"/>
                <a:ea typeface="Garamond Narro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fragment number </a:t>
            </a:r>
            <a:r>
              <a:rPr b="1" lang="en-US" sz="1800" spc="-1" strike="noStrike">
                <a:solidFill>
                  <a:srgbClr val="000000"/>
                </a:solidFill>
                <a:latin typeface="Garamond Narrow"/>
                <a:ea typeface="Garamond Narrow"/>
              </a:rPr>
              <a:t>[NOTE 3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 1 frame received correct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Dialog Token value[Note 4]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97e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ALL PROBABILIT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1.22e-4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1:  This is an extreme load case using exponential back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3:  Assumes BSS that does not require frag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 4:  Assume that 4 responses are generated (hardly possib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scorrelation in extreme overlo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750960" y="1523880"/>
            <a:ext cx="8393040" cy="46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 extreme peak 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y stations contending with same frame l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ision probability is momentarily hig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es this will cause higher lost frames @ LLC boundary but it is still only 1.22e-4max. per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 this does not cost bandwid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umber of frames retransmitted DOES NOT INCR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takes only longer to discover “Lost Frame”, before retransmission can start by the higher layer (Time-ou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creates a “Soft overload” because the load will smear out over a longer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t frames will also start to occur due to a “Retry-limit overru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does not have effect on stab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iscorrelation failure mode does not affect stability even in the extreme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umber of frames retransmitted DOES NOT INCR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ose cases it is possible that the “Max-retry limit” failure will be higher then the miscorrelation err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does compare very well with a wired “lost frame” fail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should adopt the most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reduce complexity at the sam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dopt the Frame Formats and associated mechanisms as defined in 94/25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D Match failure modes backgrou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slides show more extensively the failure mode analy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assu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que sequences due to station dependent s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TS and Data will have different MID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D match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0960" y="5105520"/>
            <a:ext cx="83930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isions on approx. Equal Length frames can have a MID matching probl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38120" y="1658880"/>
            <a:ext cx="932508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D match effects in RTS/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77880" y="1897200"/>
            <a:ext cx="82375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nectivity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71720" y="1523880"/>
            <a:ext cx="799632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Understanding the failure m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0960" y="1523880"/>
            <a:ext cx="8393040" cy="462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D collisions are only relevant during an actual collision on the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ID value of the CTS and Ack frames are only relevant for those stations that are waiting for a CTS or Ack during a small window following an RTS or Data fragment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only when two (or more) sources generate a CTS or Ack in response to an RTS in the same window are releva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only when an RTS collides with an other 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when a Data frame collides with an other Data frame with approximately the same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y this results in an Ack within the Ack_Time-out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so then both transmitters conclude that the transmission was a success, while likely only one succee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e that the Data is going to the correct destin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isions of RTS and Data are not relevant for the MID match failure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at is the prob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74640" y="1523880"/>
            <a:ext cx="885024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T# in the MID uses is a PRN generator with sequence length of 4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he MID match probability 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ision Probability / 4K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does not take into account the frame length distribution, which will be application 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s assume a File transfer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y small length frames with a number of lengths &lt;64 Bytes. These are higher layer 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st frames &gt;64 Bytes will be of the maximum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will be occasional frames with lengths in betw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ume that in a busy network the Long/Short frame ratio is 7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the probability that two equal length frames collide is less then 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he failure mode is th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50960" y="1447920"/>
            <a:ext cx="8393040" cy="436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RTS collision: Two stations will generate the subsequent Data frame which will coll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ection of this collision is very likely when the subsequent Data/Ack does use a different MID then the RTS/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Data Collision: Two transmitters that generated the data frames, will both assume that the transmission was succes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hough that is possible, it is more likely that only one actually came through. So assume probability is 5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lost frame goes undetected in this c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ase that none get through there is no matching iss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of this occuring depend on the network load, and is approaximate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ision Probability / 4K / 2 (equal length)/ 2 (only one is succesfull)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suming a collision probability of 5% is approx. &lt;3*10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means that the higher layers need to recover from th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s this acceptab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50960" y="152388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ease note that this is NOT the same as the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undetected error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”, because that concerns with the probability that a received frame is not flagged to be in error, while it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sulting error rate of less then approx. 3 out of 10^6 frames is lost at the MAC level is considered very acceptable, in a “Best effort” service scen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ID non-uniqueness is no issue, and does not reduce the function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special provisions are needed to resolve its eff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asic adjustment Propos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: Change the 20B2 MPDUID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98720" y="1622520"/>
            <a:ext cx="77374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at was the function of the MPDU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749160" y="152244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tches RTS, CTS, Data, Ack together for a given       MS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m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Hash to create a unique value per 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to detect and eliminate duplic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chanism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 a Sequence number in the Ha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resolve the probl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unctions are OK, but the proposed mechanisms were a problem, 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ge the mechanism to serve both purpo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a sequence number per MSDU with a minimum sequence length and unique sequ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D Defini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0960" y="2438280"/>
            <a:ext cx="892656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# is a sequence number (generated per MSD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low probability of two stations using the same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g Sequence length desirable for duplicate detection and it determines the uniqueness prob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quence can be generated using a counter with a unique (odd) increment value per s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ability that a “DT# match” will cause a problem with data communication is neglig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relevant during Data coll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only when colliding Data PDU’s have approx. equal leng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rther reduction when Data/Ack uses a different DT#  than for the RTS/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ggest that RTS/CTS have different DT# than Data/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s 4-bit Fragment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47800" y="1557360"/>
            <a:ext cx="65628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Field Defin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4640" y="1676520"/>
            <a:ext cx="8545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 and Control Field (2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s PDU Type and contain necessary control b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as the B3 or doc 94/248 propo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D: MSDU-Identification Field (2 By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ains a 12-bit “Dialog Token” (D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a sequence number used to identify PDU’s that belong together, like RTS/CTS and Data/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also used for duplicate detection (If Retry bit in FC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ains a 4-bit Fragment number (F#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: Duration Field (2 By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field contains the time in usec from the end of the current frame until the end of the Ack, for the next Data /Ack ex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Field Definitions (cont’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50960" y="1447920"/>
            <a:ext cx="8774280" cy="49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ipient Address (6 By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s the IEEE address of the direct Wireless recip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AP address when the PDU is destined to the AP, or needs to go via the AP to a final dest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Final Destination Address when the ToAp=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the field used by all MAC’s for address filt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tination Address (6 Bytes)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(when ToAP=1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the final Destination Address when the PDU is sent via the AP, or to the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D: BSSID (6 Bytes)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(when ToAP=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iqually identifies the B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using the 48-bit IEEE address of the A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the Ad-Hoc station that initiated the creation of the B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rce Address (6 By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the original source address of the MSDU or Mngt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Resulting Frame Header Form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74640" y="1600200"/>
            <a:ext cx="8697960" cy="45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,  MID,  Dur,  R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T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,  MID,  D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,  MID,  Dur,  RA,  BID/DA, S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,  MID,  Du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ngt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,  MID,  Dur,  RA,  BID/DA, S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C,  MID,  Dur,  RA,  SI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vings compared to Doc 94/236 and 20B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S + CTS + Data + Ack = 48 Bytes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as 60 -20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+ Ack = 30 Bytes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as 34 -11.8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Header are sizes, mod 2 By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and Management Header size are, mod 4 By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