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83808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32480" y="531720"/>
            <a:ext cx="2341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EEE P802.11–94/255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779560" y="487440"/>
            <a:ext cx="2428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lective Inser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79320" y="1447920"/>
            <a:ext cx="808380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078760" y="1036800"/>
            <a:ext cx="73512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B127ABF9-A882-4611-AE3B-CCBE552E57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604800" y="55548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I/AT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9144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Selective Insertion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A Constrained Alternative to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9480" y="274320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chael Fisch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m Diepstrat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gital Oce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&amp;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0948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The Two Roles for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480" y="152388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ments have been proposed for two, distinct purpo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chanis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or encoding management information that facilitates optional inclusion of information and incremental protocol exten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chanis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or piggybacking MAC management or control information in frames that lack fields for this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have been confusing ourselves by trying to use one approach for both purp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oposal explicitly separates the two mechanisms and defines separate rules for 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0948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anagement Information En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09480" y="1523880"/>
            <a:ext cx="8153280" cy="460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benefits of “element” encoding for management information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elds are self-identifying.  This permits new information fields to be added to management frames without requiring a new protocol ver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new protocol version requires preexisting stations to ignore the new fr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f-identifying fields permit protocol analyzers to easily decode management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necessary fields can be omitted from particular instances of a given frame type without creating ambigu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xed fields must always be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riable length fields also require the receiving station to scan the frame body to locate the successor fie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0948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Control Information Convey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09480" y="1523880"/>
            <a:ext cx="815328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ve insertion of control information in other frames is a distinct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may be useful, but must be a very limited amount of information because length extension of CTS and ACK control frames can break the NAV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potential uses, such as TX power control, administrative compliance, and selective CRC coverage designation; but no mandatory purposes have yet been ident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mechanism to allow for possible use in the future is to add a MIB variable that controls the number of octets (even, 0-8) added to the end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eaders.  An abbreviated type representation is then used to identify the inserted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0948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2120" y="35053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men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2158920"/>
            <a:ext cx="1968480" cy="317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428920" y="2236680"/>
            <a:ext cx="6080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487680" y="2236680"/>
            <a:ext cx="4968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06800" y="3836880"/>
            <a:ext cx="2602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79760" y="1932120"/>
            <a:ext cx="2602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62200" y="1932120"/>
            <a:ext cx="2602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09680" y="2463840"/>
            <a:ext cx="19684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98600" y="2768760"/>
            <a:ext cx="1803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98600" y="3073320"/>
            <a:ext cx="1803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646360" y="2541600"/>
            <a:ext cx="11444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ets 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733840" y="2833560"/>
            <a:ext cx="8906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754280" y="1932120"/>
            <a:ext cx="471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316400" y="3138480"/>
            <a:ext cx="29354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 (3 bits): number of subsequent oct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316400" y="2833560"/>
            <a:ext cx="30322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de:          Selective Insertion Code (0:3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09680" y="4114800"/>
            <a:ext cx="1968480" cy="317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32040" y="4192560"/>
            <a:ext cx="1093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09800" y="4497480"/>
            <a:ext cx="4968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4419720"/>
            <a:ext cx="1968480" cy="120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98600" y="5041800"/>
            <a:ext cx="1803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98600" y="5334120"/>
            <a:ext cx="1803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646360" y="4802040"/>
            <a:ext cx="11444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ets Spe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733840" y="5094360"/>
            <a:ext cx="8906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316400" y="4192560"/>
            <a:ext cx="9367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bit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219640" y="4192560"/>
            <a:ext cx="19080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: More Elements Fo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219640" y="4497480"/>
            <a:ext cx="13032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: Last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316400" y="5170320"/>
            <a:ext cx="289404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:  8-bit number of subsequent 2-octe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groups (0-255 for 0-510 octe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316400" y="4865760"/>
            <a:ext cx="21067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 Type:   7 bits (0:1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4419720"/>
            <a:ext cx="1968480" cy="317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884320" y="4497480"/>
            <a:ext cx="4968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733840" y="3138480"/>
            <a:ext cx="6415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 to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657520" y="5322960"/>
            <a:ext cx="11667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ven, 0 to 5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06800" y="4141800"/>
            <a:ext cx="328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4114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754280" y="3836880"/>
            <a:ext cx="4716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181320" y="3836880"/>
            <a:ext cx="2602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52388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ive Insertion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52680" y="21337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0948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Usage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09480" y="152388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. Elements shall be used strictly in Management frames, and shall be used for all fields in the payloads of such fra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. Elements within the payload of any particular Management frame shall be ordered by increasing element type code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. Stations encountering an element type they do not understand shall ignore that e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. Element type codes and selective insertion codes not explicitly defined in the standard are reserved, and shall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ppear in any fra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. Selective insertion shall apply to all frames, with the NAV settings adjusted to protect these longer fra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0948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9480" y="152388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To adopt the management information encoding mechanism and usage rules proposed in document 94/25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To adopt the selective insertion mechanism and usage rules proposed in document 94/25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