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076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to specify the D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2C6A8BD-E1BF-46FD-92B6-67A7F757A8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ype dependent (Smart) DIF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tate Machine chang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{Extra slide to show the state Machine changes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opt the Smart DIFS mechanism as described in this contrib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 w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 is approx. one slot longer then the P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umber of problems have been identified based on the above assump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may be clobbered by a “Hidden n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for subsequent fragments may be clobbered by a “Hidden node” when Data is send at a Extended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will be clobered by a “Hidden node” when active priority signalling is used to support DT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dden nodes” will not be properly synchronized for an  priority resolution, causing “leakage” between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longer DIFS will not resolve all identified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oblem Descrip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89120" y="1647720"/>
            <a:ext cx="83199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dden node problem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Stations may affect the Ack integrity unless DIFS &gt; 2*IFS + Ack length (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afe DI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can be overjammed by a station that is Hidden from the Ack generating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can happen on frames not send with RTS / CTS (like all frames shorter then RTS_Threshol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fragmented data is send at an extended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RTS collides (in part of the network), so that not all stations can decode the RTS d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station problem will also affect the Active priority signalling synch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will result in “Leakage” between priority leve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s long DIFS to prevent consistent Ack failure due to jamming by the PaS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ong DIFS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ng DIFS will prevent the Ack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 &gt; 2*SIFS + Ack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duces the medium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ual IFS could be much shorter after an 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does not resolve the PaS synchronization mismatch in the Active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ore intelligent DIFS specification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IFS length should be dependent on the Type of the presed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ype dependent DIFS spec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50960" y="1752480"/>
            <a:ext cx="8545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FS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-1 = 2*SIFS + Ack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-2 = PIFS + Slo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sed Algorith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preceding frame is identified as an Ack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 = DIFS-2, else DIFS=DIFS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echanisms to identify an A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within “Data detection” range and CRC is correc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ype field will identify the frame as an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outside “Data detection” range (CRC error) but within CCA detection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Monitor the length of !CCA (Busy medium), and identify the type by monitoring the Busy medium du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4267080"/>
            <a:ext cx="8381880" cy="19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dependent DIFS length assures proper Ack protection against hidden node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roves efficiency, otherwise DIFS-1 would be alway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des waking up in the middle of a Data frame will likely wait the appropriate long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of frame reference is indicated by !CCA dr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7800" y="1731960"/>
            <a:ext cx="94345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dependent DIFS is highly prefe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resolves Ack vulnerability issue in an efficient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Long DIFS needed when in Hidden Station sit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 effective if Data rate was not supported by the receive station (CRC err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resolves the synchronization mismatch due to the same hidden Station problem during active priority signa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s / eliminates the priority leackag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also works for the situation where the “Defer range” is beyond the “Data Range”, and when there are CRC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