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000920" y="455760"/>
            <a:ext cx="2273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4/258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57560" y="334800"/>
            <a:ext cx="4545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BS Standard specification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41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7C757045-8879-4888-97DB-760D08C7C67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1040" y="53172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`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TBS Standard Specification De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y: Wim Diepst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iority_Set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50960" y="205740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Active priority set" example for a 2 priority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ior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 = 2 slots, PAS = 0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prior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 = 0 slots, PAS = 2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Passive priority set" example for a 2 priority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ior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 = 16 slots, PAS = 0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prior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 = 0 slots,   PAS = 0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MFC = DIFS + PDP + 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a non-DTBS supporting station the default Access Priority setting should be: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Low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B vari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0960" y="1676520"/>
            <a:ext cx="8393040" cy="43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umber_of_Prior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ndicates the number of different priority levels supported by the Phy. A “1” indicates that no priority mechanism is suppor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AS_Duration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rmines the duration of the P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 priority the following parameter sets are requi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DPx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es the PDP duration in usec for priority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ASx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es the PAS duration in usec for priority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re x indicates the priority level (1 is highes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MIB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BusyFilt:  Specifies the “Busy medium” condition under which the Backoff algorithm will be exit, to defer untill the next PR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FC can be derived per priorit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asic Transmitter State Mac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84200" y="1681200"/>
            <a:ext cx="5737320" cy="5102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832440" y="4879800"/>
            <a:ext cx="2981160" cy="87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Only needed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TBS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5029200"/>
            <a:ext cx="1219680" cy="457560"/>
          </a:xfrm>
          <a:custGeom>
            <a:avLst/>
            <a:gdLst/>
            <a:ahLst/>
            <a:rect l="0" t="0" r="r" b="b"/>
            <a:pathLst>
              <a:path w="3388" h="1271">
                <a:moveTo>
                  <a:pt x="3388" y="423"/>
                </a:moveTo>
                <a:lnTo>
                  <a:pt x="3388" y="847"/>
                </a:lnTo>
                <a:lnTo>
                  <a:pt x="1129" y="847"/>
                </a:lnTo>
                <a:lnTo>
                  <a:pt x="1129" y="1271"/>
                </a:lnTo>
                <a:lnTo>
                  <a:pt x="0" y="635"/>
                </a:lnTo>
                <a:lnTo>
                  <a:pt x="1129" y="0"/>
                </a:lnTo>
                <a:lnTo>
                  <a:pt x="1129" y="423"/>
                </a:lnTo>
                <a:lnTo>
                  <a:pt x="3388" y="423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Requirements on the P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new Class definition is needed to allow a Phy independent PAS signal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-DATA.request(SEND_PAS, pa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arameters can be the same as for the START_OF_ACTIVITY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hy can choose to use the same modulation as used in the PLCP header, with the length determined by the aPAS_Duration MIB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modulation suitable for detection by the CCA detection mechanism can be spec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!CCA detection mechanism should be suitable to signal the detection of a PAS signal mod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raft standard update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4400" y="121932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756480" y="3660840"/>
            <a:ext cx="2981160" cy="87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Only needed w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TBS sup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49160" y="1816200"/>
            <a:ext cx="60325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many prioritie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service map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eueing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cess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t least tw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ierarchical independent priority levels needed to support the main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nchronous serv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TBS (optional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of Service (QoS) should map to priority and Queuing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dditional Priority specific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al relative priorities possible within a service level using Contention Window size 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ve Priority difference between AP and station makes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traffic will be via the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AP would generate close to 50% of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of separate hierarchical independent levels for AP is not optim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in a Multi-priority environment, the AP should not be given a seperate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er relative Priority settings should only be allowed for a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ggest AP_CWmin = STA-CWmin /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mechanism presented to the combined MAC/PHY meeting on Tu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mechanism was accepted in the MAC group in the September meeting (with a sligth modific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20B3 draft changes have been distrib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MAC will not only need to support the current Phy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also the future Phy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possibly higher speed extensions of the current Phy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fore this mechanism can serve different Phy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’s that do not support a priority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’s that can support a passive priority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’s that can support an active priority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-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not all Phy standards need to support the coexistance mechanism for the optional DTBS service provisions.  7/37/15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dd: Each phy will specify if it supports this or not as part of its standard Dave/Leon 8/37/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the MAC should implement the Access priority mechanism as described in this proposal as documented in document 94_258x. 7/35/1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 Service support is op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all stations need to provide “DTBS-Coexistance” pro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all Phy’s need to specify DTBS capability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ingle State Machine in the MAC can support multiple mechan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assive access priority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 active access priority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operational access priority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given PHY standard shall specify only one access priority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Support 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0960" y="1676520"/>
            <a:ext cx="839304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TBS service is op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coexistence mechanisms need to be implemented in every node to assure proper operation in the presence of stations that do implement the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 support levels can be classified in two different lev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TBS coexistence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access priority mechanism. A part of this needs to be included in all stations to assure coexistance with the DTBS service, even when it is not implem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TBS Service interface and priorit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definition of the LLC interface, and its control by means of the QoS parameter, and the translation of this to the priority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non-DTBS capable stations a fixed priority mapping is to be assig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implementation op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586728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minimum coexistance mechanism is to be included in all implem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1440" y="1697040"/>
            <a:ext cx="66420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verage of this propos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0960" y="16765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posal will only cover the “Access Priority “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bes a MAC State Machine to support the full Access Priority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s the minimum coexistance provision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es the MIB attribute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es AP versus Station relative priority characteris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DTBS support specifications in particular the LLC interface and Service specifications are documented in doc 94/196, but are not covered by this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Generic priority mechan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2120" y="373392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d contention resolution phase with a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 “Priority resolution Phase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“Medium Free Condition” is met at initial access attempt, then transmission can start immediately without any priority or contention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FC can be priority level 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80920" y="1793880"/>
            <a:ext cx="80424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eneric Priority resolution mechanis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4800600"/>
            <a:ext cx="8458200" cy="16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sm can support both active and passive priority resolution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  <a:ea typeface="Arial"/>
              </a:rPr>
              <a:t>Basic (coexistance) Algorith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If “Busy Medium” is detected during PDP period, then defer untill the next Priority Resolution Window (PRW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90840" y="1854360"/>
            <a:ext cx="66927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62120" y="106668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Single State Machine support both mechanis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5715000"/>
            <a:ext cx="838188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ed by the PDP and PAS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et of parameters are needed per pri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16040" y="1774800"/>
            <a:ext cx="625788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ctive Priority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6920" y="5791320"/>
            <a:ext cx="839304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 is not shown in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P traffic does not contend with HP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8600" y="1865160"/>
            <a:ext cx="94489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