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305840" y="455760"/>
            <a:ext cx="2149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-94/2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409840" y="334800"/>
            <a:ext cx="4713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x-Power Control support in the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41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9A09F484-F166-47EC-A706-7D34882379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1040" y="53172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ransmit Power control Prov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the M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m Diepstr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Level-2 Provis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0960" y="1676520"/>
            <a:ext cx="839304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vel-2 provi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y a way to allow Phy parameter control independent of a Tx activity which can be issued when  the MAC starts monitoring the medium prior to an actual a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a Transmit_Enable parameter to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-DATA.request(START_OF_ACTIVITY,params), so that parameters can be changed independent of Transmit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y a separate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-DATA.request(Set_Param,params), to allow change of the defer thresho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 Tx-Power_level and CCA_threshold parameters in the MAC / PHY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tate Machine change may not be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s prepare the frame formats to support the implementation of this important medium sharing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s use can be opt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possible because a mix of stations that do and don’t implement Tx-Power Control can work together without any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next level of support would be to specify the necessary provisions to control the Tx-Power_Level and CCA_Thres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ly no mechanism is available to change the Phy parameters per frame, but independent of transmit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: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dd a fixed field to the CTS and Ack frame to report the received RSSI level. 14/38/13 f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specify a Transmit_Enable parameter to the basic   Ph-DATA.request(START_OF_ACTIVITY,params) parameters, so that they can be changed independent of Transmission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hy Tx-Power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Wireless Medium is a scarce re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limited bandwidth available per a given Three dimensional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um must be reused as much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ed increase will limit the number of useable orthogonal channels also in future b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practice (loaded) systems will be interference limited rather then noise lim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-Channel interference is the limiting f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ucing the Tx-Power to the “Needed Level” will significantly reduce the co-channel interference level gene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will increase the available bandwidth and so through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rior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vious proposals indicate huge benef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 92/76:    “The potential of Dynamic Power Contro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ws simulation results of Multiple networks with and without Tx-Power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gnificant medium re-use potential between a factor 2 and 8 was demonstrated (92/7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 94/59:  “Protocol elements needed for Tx-Power Contro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is Medium re-use efficiency improvement, not a Power consumption sa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urrent Phy’s specify multiple Tx-Level settings associated with a related CCA sensitivity thres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0960" y="1676520"/>
            <a:ext cx="8393040" cy="45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a transmit level that is suitable to achieve the required SIR at the rece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not transmit more then “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Need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does 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no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an; “Lower power so that reception is at the minimum sensitivity leve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tter needs to know the average attenuation to a given destination, to make an informed decision on the Tx-Power Level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lower Tx-Level is needed, then this will reduce the interference level in the surrou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means that we can also reduce the “Defer are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The Transmit level can dynamically be REDUCED from its nominal specified le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hat is the basic mechan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mechanism is needed to measure the attenuation between transmitter and remote rece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x knows (controls) its own Tx-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x to put measured RSSI in the returning response (CTS or Ac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x can calculate the experienced attenu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knowledge can be maintained per applicable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Tx-based algorithm can calculate a more appropriate Tx-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x-Level is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reduc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then also the “Defer Threshold” can be made less se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ult: Lower Tx-Level then less stations to defer for, resulting in a higher throughput per unit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Reduce Power, Increase Throughp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62120" y="5334120"/>
            <a:ext cx="838188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tters control their Power level from the nominal level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DOW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erers can be closer, so Defer threshold can be less se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90760" y="1674720"/>
            <a:ext cx="628956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nimum MAC Function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to specify a RSSI field in the CTS and Ack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y 8 bit field with 1 dBm re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 that this does not imply a PHY accuracy, but just a range and resolution that the MAC can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needs to be able to adjust the Tx-Level per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needs to be able to modify the CCA-Threshold prior to each access attem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x-Level Control algorithm does not need to be specifi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the mechanism to acquire the necessary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the Phy Control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ather attenuation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2120" y="4038480"/>
            <a:ext cx="838188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tter can determine the atten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knows its own ouput power, and receives the RSSI in the 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ransmitter can adjust its Transmit Power for subsequent transmissions to that same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 needs to deliver RSSI type information any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71480" y="1773360"/>
            <a:ext cx="649296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hat is needed in the MAC Standa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ption: Include the minimum requirement in the MAC to allow the Attenuation calc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vel-1 provi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y a fixed field in the CTS and Ack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 bits field, assume 1 dB re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itional spare 8 bits available if we want word bounded fields (could contain “Background Level’ or a Quality indic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